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CDF-5E4E-4AB0-8D46-3D9B3111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71E-3A50-4950-AC16-560025B8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BFD-D0DB-4167-AD36-CA12A09C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7C1-E7FE-4CC8-9701-88BC4443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533-CC19-42DA-850B-569AB53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CAB-7A97-4B58-A36F-D5BCBDD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34E-551D-49B0-8672-92B1A62B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640-3D61-4A84-916A-A53F466F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604-3F96-417C-9BED-E9ED047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E86-C245-4F74-871D-2FCE52A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7B5-340A-411D-A217-D24CDFA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87A-D1E3-4349-B156-80306C6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573-3B56-4212-BBED-64878E190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Irishlogo"/>
          <p:cNvPicPr/>
          <p:nvPr/>
        </p:nvPicPr>
        <p:blipFill>
          <a:blip r:embed="rId2"/>
          <a:stretch/>
        </p:blipFill>
        <p:spPr>
          <a:xfrm>
            <a:off x="142920" y="14292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UtilityRegulator"/>
          <p:cNvPicPr/>
          <p:nvPr/>
        </p:nvPicPr>
        <p:blipFill>
          <a:blip r:embed="rId3"/>
          <a:stretch/>
        </p:blipFill>
        <p:spPr>
          <a:xfrm>
            <a:off x="5500800" y="357120"/>
            <a:ext cx="290484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tra Day Trading Working Group 3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ngestion Management Guidelines -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 CMG Provisions on Intra Da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gulation 714/2009 on Cross Border Exchanges in Electricit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Regulation aims at setting fair rules for cross-border exchanges in electricity thus enhancing competition within the internal market in electricity, taking into account the particular characteristics of national and regional market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18.1 of Regulatio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uidelines on the management and allocation of available transmission capacity of interconnections between national systems are laid out in Annex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nex 1: Congestion Management Guideli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s 1.9: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y January 2008, mechanisms for the intra-day congestion management of interconnector capacity shall be established in a coordinated way and under secure operational conditions, in order to maximise opportunities for trade and provide for cross- border balancin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4.3  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, inter alia, ‘intra day allocation of available transmission capacity for day D shall take place on days D-1 and D, after the issuing of the indicated or actual day-ahead production schedule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tra Day for S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consistent definition of Intra Day in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 in ENTSO-E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l Report on Development and Implementation of a Coordinated Model for Regional and Inter-Regional Congestion Manage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’ (January 2009 - ETSO-EuroPEX study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‘after the closure of the day-ahead market and before real time balancing action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overall provisions of Congestion Management Guidelines – regional coordination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ra Day arrangements should be developed in the SEM in line with the SEMC Decision on Regional Integration and  based on the costs and benefits to the mark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5:11:11Z</dcterms:created>
  <dc:creator>pnewsome</dc:creator>
  <dc:description/>
  <dc:language>en-US</dc:language>
  <cp:lastModifiedBy>pnewsome</cp:lastModifiedBy>
  <dcterms:modified xsi:type="dcterms:W3CDTF">2010-06-14T17:03:13Z</dcterms:modified>
  <cp:revision>37</cp:revision>
  <dc:subject/>
  <dc:title>Slide 1</dc:title>
</cp:coreProperties>
</file>