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11.gif" ContentType="image/gif"/>
  <Override PartName="/ppt/media/image1.jpeg" ContentType="image/jpeg"/>
  <Override PartName="/ppt/media/image4.wmf" ContentType="image/x-wmf"/>
  <Override PartName="/ppt/media/image2.png" ContentType="image/png"/>
  <Override PartName="/ppt/media/image6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BD4-4FA8-49C5-9F50-BEFA4BA4096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7160-2CB5-46C4-A33A-2A49C5E6AEC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AD1D-BF95-4FFC-9040-E49BEEBDF8A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DA4E-683A-4B05-8D2D-172FA16AEEC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5E69-B61B-4E8A-B6D8-8669C788AE7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321-C87B-43D4-8CE6-DCC69805E04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04F-F2BE-46DE-B564-4BCC64DDA98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36C2-4DC9-4866-8B86-CA18B2F1FAF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5E1F-0B05-4DE6-A1C6-F05004AE260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FF88-282D-4060-9868-B7AB61695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1D4D-B4A0-448D-A1B8-61CE5B7D0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E23F-CBD2-4712-8704-87371AE60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0F18-7744-40F2-BDCA-57C4844B0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05A6C-F897-4E7F-9E90-F374B7DB02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0D75C-A5AC-47D6-A7AC-223EA37A53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D2BD-A6E1-4F6C-A013-22350A8CF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04425-1230-4CC2-8C4E-A3C0DBF91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AC550-909D-4D79-B1BB-8E96C95C1B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77CAF-E43E-4F22-96E3-68DF2ECF84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45322-CCC3-496F-807C-DDB8CB166B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6B1A-681E-4B53-A13F-9068CBAD8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3F5BE-0690-400E-A58B-8F92565DF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BBAA-9E87-48E8-9DA4-1F892D94AD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1B207-FA79-43D9-8137-16C376037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A532-8ACA-419C-BB20-635A9D5740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BE93B-46A9-428B-9EBE-7C2B0F0F3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B915-C92B-465E-90C1-A037D1987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129D-2A46-4399-82FF-8302D6E99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9298-BA62-474E-A187-A8DF21016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57CC-DA38-4C21-B07B-4573C02BE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3D8E-323A-4534-B66D-503E7EA39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47E4-67CF-4FB0-8E40-EB1CB6A22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5475-ADD3-4CEF-9C78-19992403E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F4A2-56A1-4472-9985-234CCB8EF0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2434-D723-4838-B8A9-4DFCC0E363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3D1-FE42-44ED-BB73-EB0144607E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04_10 :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ddition of Fuel Flag to Dispatch Instruction Data Transactio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orking Grou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D:\Documents and Settings\delaney_n\Local Settings\Temporary Internet Files\Content.IE5\W5M3OHM3\MM900336445[1].gif"/>
          <p:cNvPicPr/>
          <p:nvPr/>
        </p:nvPicPr>
        <p:blipFill>
          <a:blip r:embed="rId1"/>
          <a:stretch/>
        </p:blipFill>
        <p:spPr>
          <a:xfrm>
            <a:off x="6000840" y="514368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oints for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s are acceptable for Fuel Mix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utonomous and non-market generation Fuel data not covered under this modification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E572-CFFD-41F1-B20E-0162CFEA8D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cap of Modif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al to includ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 field denoting the </a:t>
            </a:r>
            <a:r>
              <a:rPr b="0" lang="en-IE" sz="2000" spc="-1" strike="noStrike">
                <a:solidFill>
                  <a:srgbClr val="ff0000"/>
                </a:solidFill>
                <a:latin typeface="Arial"/>
              </a:rPr>
              <a:t>Fuel Typ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sued with the Dispatch Instruction by the TS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 to Dispatch Instruction f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E8E-7C99-4665-9F25-38B2F42507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cap of Modif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able K.15 – Dispatch Instruction Data Transaction Data Rec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articipant Na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articipant ID (Not submitted for SO Interconnector Trad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Unit 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Timesta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Issu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Combination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Ramp Up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Ramp Down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ispatch Instruction 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0000"/>
                </a:solidFill>
                <a:uFillTx/>
                <a:latin typeface="Arial"/>
              </a:rPr>
              <a:t>Fuel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A53D-DEC2-49C6-83BF-7B5999F78C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cap of Modif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 to be used by SEMO systems in future Fuel Mix disclosur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ould Integrate previous manual submission of data from TSOs into Central Market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00"/>
                </a:solidFill>
                <a:latin typeface="Arial"/>
              </a:rPr>
              <a:t>Approach chosen as being more auditable and less prone to err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1B5E-6A18-4D74-8CBD-890A0E7214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ogress through Modifications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ed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O  requested modification to be deferred as TSOs requested further discussion on alternativ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7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 representative gave an update on RES Directiv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dicated summer 2010 was earliest possible implementation date for secondary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and TSOs were requested to procure ful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C53-2383-4B98-AF62-1FFB1175AA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iscussion in Meeting 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gave details of full impact assessment as being €2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SO gave an assessment of the impact on the TSO systems as “medi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033C-F410-44C6-9F01-CD45186EF9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MO Impact Assessment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following Fuel Types will be available in new Fuel_Type field is the Dispatch Instructions tab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MULTI (Multiple Fu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IO (Biom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HP (Combined Heat an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UMP (Pumped Sto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UCLR (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DISTL (Distill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A (Not Applic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uel_Type will be added to Daily Dispatch Instructions D+1 public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OI Interface will show new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Documents and Settings\delaney_n\Local Settings\Temporary Internet Files\Content.IE5\W5M3OHM3\MM900236544[1].gif"/>
          <p:cNvPicPr/>
          <p:nvPr/>
        </p:nvPicPr>
        <p:blipFill>
          <a:blip r:embed="rId1"/>
          <a:stretch/>
        </p:blipFill>
        <p:spPr>
          <a:xfrm>
            <a:off x="4143240" y="2357280"/>
            <a:ext cx="1071720" cy="78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Documents and Settings\delaney_n\Local Settings\Temporary Internet Files\Content.IE5\WHMF89YB\MM900296926[1].gif"/>
          <p:cNvPicPr/>
          <p:nvPr/>
        </p:nvPicPr>
        <p:blipFill>
          <a:blip r:embed="rId2"/>
          <a:stretch/>
        </p:blipFill>
        <p:spPr>
          <a:xfrm>
            <a:off x="5572080" y="1928880"/>
            <a:ext cx="1000080" cy="831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:\Documents and Settings\delaney_n\Local Settings\Temporary Internet Files\Content.IE5\W12Z8TUF\MM900336844[1].gif"/>
          <p:cNvPicPr/>
          <p:nvPr/>
        </p:nvPicPr>
        <p:blipFill>
          <a:blip r:embed="rId3"/>
          <a:stretch/>
        </p:blipFill>
        <p:spPr>
          <a:xfrm>
            <a:off x="4000680" y="3571920"/>
            <a:ext cx="928440" cy="89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:\Documents and Settings\delaney_n\Local Settings\Temporary Internet Files\Content.IE5\W12Z8TUF\MM900282797[1].gif"/>
          <p:cNvPicPr/>
          <p:nvPr/>
        </p:nvPicPr>
        <p:blipFill>
          <a:blip r:embed="rId4"/>
          <a:stretch/>
        </p:blipFill>
        <p:spPr>
          <a:xfrm>
            <a:off x="7072200" y="321480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:\Documents and Settings\delaney_n\Local Settings\Temporary Internet Files\Content.IE5\W12Z8TUF\MM900283597[1].gif"/>
          <p:cNvPicPr/>
          <p:nvPr/>
        </p:nvPicPr>
        <p:blipFill>
          <a:blip r:embed="rId5"/>
          <a:stretch/>
        </p:blipFill>
        <p:spPr>
          <a:xfrm>
            <a:off x="7286760" y="2071800"/>
            <a:ext cx="93816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:\Documents and Settings\delaney_n\Local Settings\Temporary Internet Files\Content.IE5\OH6ZSTMJ\MP900439271[1].jpg"/>
          <p:cNvPicPr/>
          <p:nvPr/>
        </p:nvPicPr>
        <p:blipFill>
          <a:blip r:embed="rId6"/>
          <a:stretch/>
        </p:blipFill>
        <p:spPr>
          <a:xfrm>
            <a:off x="5500800" y="314316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4D1-C3D2-46BC-8875-C572840DDC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iscussion in Meeting 28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gave details of full impact assessment as being €2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SO assessed impact as “medi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stated preference to continue with manual cal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scussion around enduring fuel-mix disclosure arran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ification only relates to dispatchable generators, therefore Autonomous and non-market generation will not be accounted for under this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has compared the quality of the Fuel Mix Calculations using the TSO DIs and the EPA fuel consumption figures and the result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is shows that the DIs can be used as a reasonable approxi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410000" cy="17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06-21T18:38:17Z</dcterms:modified>
  <cp:revision>870</cp:revision>
  <dc:subject/>
  <dc:title>Training Presentation BLG 190706</dc:title>
</cp:coreProperties>
</file>