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4CE-16F0-44B5-A18B-5B9DFFBF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C23-6619-444F-ABBA-EE85D6C4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B07-1703-4460-B7AB-D559A162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22D-FA69-4E3D-9B9A-89B47D84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17F-0B74-4366-9166-81C78120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B55-6136-4148-B9CE-602219D9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B22-2A18-4282-9E9E-D80ECC1B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8A5-AE54-46CE-ACDA-09D58DB0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5E1-44B5-4579-86C5-2AAD55A0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C4C-4B80-426B-8BE3-E6F37B8D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BEE-80A2-45B7-828B-6F8B4677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73C-9F03-426D-8874-6E0C8B40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3B53-D1D9-44E6-A9C0-25D160C4B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333399"/>
                </a:solidFill>
                <a:latin typeface="Arial"/>
              </a:rPr>
              <a:t>Future proofing the Modification- ESB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will the flag be used and for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an a mixed fuel unit know if it should have the flag on or off if burning some biom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f the flag can be a percentage, how accurately does the percentage have to be calculated?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Burning bio fuels may require “oil support” for stable combustion. Other fuel units, like the coal or peat units, will occasionally use a mix of main fuel and oil for combustion support. The exact mix is difficult to specify but it will affect the average carbon inten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re is already an EPA scheme for trading carbon allowances and those generators’ carbon emissions are worked out differently to using a dispatch fuel flag. This will create inconsist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will non-dispatched autonomous generators be hand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will non-participant (de-minimus) Generators be hand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will uninstructed imbalances away from dispatch be hand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will instructed imbalances away from MSQ be handled: Will there be a mis-match between pool tradable energy for CfDs and “flagged” green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will start-up energy be handled? How will energy used after dispatched de-synchronisation be hand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8:12:18Z</dcterms:created>
  <dc:creator>Aisling O'Donnell</dc:creator>
  <dc:description/>
  <dc:language>en-US</dc:language>
  <cp:lastModifiedBy>Aisling O'Donnell</cp:lastModifiedBy>
  <dcterms:modified xsi:type="dcterms:W3CDTF">2010-06-21T18:16:20Z</dcterms:modified>
  <cp:revision>2</cp:revision>
  <dc:subject/>
  <dc:title>Future proofing the Modification - ESBCS</dc:title>
</cp:coreProperties>
</file>