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8F6-E0D5-4867-A16D-B96235ED9AC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7D7-56AD-48D1-89D0-B33D57A72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B1C-9A8A-4086-944D-DD4EFA52CED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A23-F5FB-4877-A484-4259E0FE7EC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DA31-A76F-4E51-BB95-72B8ECF7BFB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2E3E-3F18-42DA-A07D-CD95D8F90F5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473-E6A9-4219-80C6-B55120A5B31D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1E6-F7A5-4CC6-8645-3AD478B4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8AF-EBFD-44B1-80BD-25B6503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55A-8C49-48E0-95EA-D0A898C5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11E-7C2C-41E6-A582-35029195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1AF-598D-4245-AF47-29234218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2D0-C6F5-46EC-9FA0-BE6DF9A1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D1A-FBAE-4E70-ABDE-5FE07F3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FC1-CC04-4094-BC15-2BAA984C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90A-60C5-46CE-8157-3326159D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F35-0A3C-4779-B865-BA6344CB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788-BF3D-4657-AD14-5C51C3A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8AE-A85F-4E97-B754-12F8771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CE34-B24D-4ADE-965E-EF918364CFC4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95c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575f6d"/>
                </a:solidFill>
                <a:latin typeface="Calibri"/>
              </a:rPr>
              <a:t>EXTENSION TO ROLE OF MODIFICATIONS COMMITTEE VIA WORKING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Presentation by Airt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February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lide-design_v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380360" y="6165720"/>
            <a:ext cx="1441440" cy="4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Elbow Connector 12"/>
          <p:cNvCxnSpPr>
            <a:stCxn id="52" idx="0"/>
            <a:endCxn id="61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62" name="Shape 18"/>
          <p:cNvCxnSpPr>
            <a:stCxn id="57" idx="0"/>
            <a:endCxn id="63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64" name="Shape 20"/>
          <p:cNvCxnSpPr>
            <a:stCxn id="53" idx="0"/>
            <a:endCxn id="65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66" name="Shape 24"/>
          <p:cNvCxnSpPr>
            <a:stCxn id="55" idx="0"/>
            <a:endCxn id="67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68" name="Shape 28"/>
          <p:cNvCxnSpPr>
            <a:stCxn id="56" idx="0"/>
            <a:endCxn id="61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69" name="Shape 30"/>
          <p:cNvCxnSpPr>
            <a:stCxn id="58" idx="0"/>
            <a:endCxn id="63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61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Elbow Connector 36"/>
          <p:cNvCxnSpPr>
            <a:stCxn id="61" idx="6"/>
            <a:endCxn id="59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" name="Shape 38"/>
          <p:cNvCxnSpPr>
            <a:stCxn id="63" idx="6"/>
            <a:endCxn id="59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Elbow Connector 45"/>
          <p:cNvCxnSpPr>
            <a:stCxn id="65" idx="5"/>
            <a:endCxn id="59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Elbow Connector 47"/>
          <p:cNvCxnSpPr>
            <a:stCxn id="67" idx="5"/>
            <a:endCxn id="59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Elbow Connector 22"/>
          <p:cNvCxnSpPr>
            <a:stCxn id="54" idx="0"/>
            <a:endCxn id="59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77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tandard Modific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epends on an impacted organisation to identif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y not call on best industry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quires fully formed modification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Generally useful for once-off, relatively low impact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Elbow Connector 12"/>
          <p:cNvCxnSpPr>
            <a:stCxn id="78" idx="0"/>
            <a:endCxn id="87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88" name="Shape 18"/>
          <p:cNvCxnSpPr>
            <a:stCxn id="83" idx="0"/>
            <a:endCxn id="89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Shape 20"/>
          <p:cNvCxnSpPr>
            <a:stCxn id="79" idx="0"/>
            <a:endCxn id="91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92" name="Shape 24"/>
          <p:cNvCxnSpPr>
            <a:stCxn id="81" idx="0"/>
            <a:endCxn id="93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94" name="Shape 28"/>
          <p:cNvCxnSpPr>
            <a:stCxn id="82" idx="0"/>
            <a:endCxn id="87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95" name="Shape 30"/>
          <p:cNvCxnSpPr>
            <a:stCxn id="84" idx="0"/>
            <a:endCxn id="89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Elbow Connector 45"/>
          <p:cNvCxnSpPr>
            <a:stCxn id="91" idx="5"/>
            <a:endCxn id="85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7" name="Elbow Connector 47"/>
          <p:cNvCxnSpPr>
            <a:stCxn id="93" idx="5"/>
            <a:endCxn id="85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98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Elbow Connector 22"/>
          <p:cNvCxnSpPr>
            <a:stCxn id="80" idx="0"/>
            <a:endCxn id="85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01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Related SEM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errelationships/Depend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o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Elbow Connector 36"/>
          <p:cNvCxnSpPr>
            <a:stCxn id="87" idx="6"/>
            <a:endCxn id="85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hape 38"/>
          <p:cNvCxnSpPr>
            <a:stCxn id="89" idx="6"/>
            <a:endCxn id="85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Elbow Connector 12"/>
          <p:cNvCxnSpPr>
            <a:stCxn id="104" idx="0"/>
            <a:endCxn id="113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14" name="Shape 18"/>
          <p:cNvCxnSpPr>
            <a:stCxn id="109" idx="0"/>
            <a:endCxn id="115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116" name="Shape 20"/>
          <p:cNvCxnSpPr>
            <a:stCxn id="105" idx="0"/>
            <a:endCxn id="117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18" name="Shape 24"/>
          <p:cNvCxnSpPr>
            <a:stCxn id="107" idx="0"/>
            <a:endCxn id="119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120" name="Shape 28"/>
          <p:cNvCxnSpPr>
            <a:stCxn id="108" idx="0"/>
            <a:endCxn id="113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21" name="Shape 30"/>
          <p:cNvCxnSpPr>
            <a:stCxn id="110" idx="0"/>
            <a:endCxn id="115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113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Elbow Connector 47"/>
          <p:cNvCxnSpPr>
            <a:stCxn id="119" idx="5"/>
            <a:endCxn id="111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Elbow Connector 22"/>
          <p:cNvCxnSpPr>
            <a:stCxn id="106" idx="0"/>
            <a:endCxn id="111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26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Non-T&amp;SC SEM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Pro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apidly Changing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Elbow Connector 36"/>
          <p:cNvCxnSpPr>
            <a:stCxn id="113" idx="6"/>
            <a:endCxn id="111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Shape 38"/>
          <p:cNvCxnSpPr>
            <a:stCxn id="115" idx="6"/>
            <a:endCxn id="111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9" name="Elbow Connector 45"/>
          <p:cNvCxnSpPr>
            <a:stCxn id="117" idx="5"/>
            <a:endCxn id="111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Elbow Connector 12"/>
          <p:cNvCxnSpPr>
            <a:stCxn id="130" idx="0"/>
            <a:endCxn id="139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40" name="Shape 18"/>
          <p:cNvCxnSpPr>
            <a:stCxn id="135" idx="0"/>
            <a:endCxn id="141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142" name="Shape 20"/>
          <p:cNvCxnSpPr>
            <a:stCxn id="131" idx="0"/>
            <a:endCxn id="143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144" name="Shape 24"/>
          <p:cNvCxnSpPr>
            <a:stCxn id="133" idx="0"/>
            <a:endCxn id="145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46" name="Shape 28"/>
          <p:cNvCxnSpPr>
            <a:stCxn id="134" idx="0"/>
            <a:endCxn id="139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47" name="Shape 30"/>
          <p:cNvCxnSpPr>
            <a:stCxn id="136" idx="0"/>
            <a:endCxn id="141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139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lbow Connector 22"/>
          <p:cNvCxnSpPr>
            <a:stCxn id="132" idx="0"/>
            <a:endCxn id="137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51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SEM Process Improv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errelationships/Depend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o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Elbow Connector 36"/>
          <p:cNvCxnSpPr>
            <a:stCxn id="139" idx="6"/>
            <a:endCxn id="137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Shape 38"/>
          <p:cNvCxnSpPr>
            <a:stCxn id="141" idx="6"/>
            <a:endCxn id="137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Elbow Connector 45"/>
          <p:cNvCxnSpPr>
            <a:stCxn id="143" idx="5"/>
            <a:endCxn id="137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Elbow Connector 47"/>
          <p:cNvCxnSpPr>
            <a:stCxn id="145" idx="5"/>
            <a:endCxn id="137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Elbow Connector 12"/>
          <p:cNvCxnSpPr>
            <a:stCxn id="156" idx="0"/>
            <a:endCxn id="165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6" name="Shape 18"/>
          <p:cNvCxnSpPr>
            <a:stCxn id="161" idx="0"/>
            <a:endCxn id="167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Shape 20"/>
          <p:cNvCxnSpPr>
            <a:stCxn id="157" idx="0"/>
            <a:endCxn id="169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70" name="Shape 24"/>
          <p:cNvCxnSpPr>
            <a:stCxn id="159" idx="0"/>
            <a:endCxn id="171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72" name="Shape 28"/>
          <p:cNvCxnSpPr>
            <a:stCxn id="160" idx="0"/>
            <a:endCxn id="165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3" name="Shape 30"/>
          <p:cNvCxnSpPr>
            <a:stCxn id="162" idx="0"/>
            <a:endCxn id="167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Elbow Connector 45"/>
          <p:cNvCxnSpPr>
            <a:stCxn id="169" idx="5"/>
            <a:endCxn id="163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Elbow Connector 47"/>
          <p:cNvCxnSpPr>
            <a:stCxn id="171" idx="5"/>
            <a:endCxn id="163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  <p:sp>
        <p:nvSpPr>
          <p:cNvPr id="176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Elbow Connector 22"/>
          <p:cNvCxnSpPr>
            <a:stCxn id="158" idx="0"/>
            <a:endCxn id="163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179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EM Special Issue Modification Working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akes the current (ad-hoc) Working Group process 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llows discussions to focus on ‘subjects’ rather than snippets of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creases the level of market ‘conversation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llows the development of concepts into modification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Permits ‘normative’ standing groups, instead of constantly re-forming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Elbow Connector 36"/>
          <p:cNvCxnSpPr>
            <a:stCxn id="165" idx="6"/>
            <a:endCxn id="163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Shape 38"/>
          <p:cNvCxnSpPr>
            <a:stCxn id="167" idx="6"/>
            <a:endCxn id="163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39:48Z</dcterms:created>
  <dc:creator>chukwurehe</dc:creator>
  <dc:description/>
  <dc:language>en-US</dc:language>
  <cp:lastModifiedBy>sking</cp:lastModifiedBy>
  <dcterms:modified xsi:type="dcterms:W3CDTF">2011-03-24T11:18:03Z</dcterms:modified>
  <cp:revision>7</cp:revision>
  <dc:subject/>
  <dc:title>Slide 1</dc:title>
</cp:coreProperties>
</file>