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B96-B627-48AC-9CC2-FDE2553D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DE3-E2E6-4244-AF1D-6E7DA5A5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9C8-F086-480E-8303-5C233B20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FEA-3DEC-4032-A60D-CD17E2C8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C90-D459-46EE-BE55-5EE9E4F9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434-9324-4C27-AD6E-25380919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BC1-F534-466F-9BDE-29B02DF5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A72-63D8-45D2-9064-50B16358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972-9704-467C-B4C1-957B77BB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B58-C828-4809-852C-0C4B733C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116-E67B-4325-BB8F-A41A4061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935-6FB2-48C3-AA5E-8BA6545E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217F-14D3-4A42-8C8B-8160C36469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048120" y="2131920"/>
            <a:ext cx="5410080" cy="1752840"/>
          </a:xfrm>
          <a:prstGeom prst="rect">
            <a:avLst/>
          </a:prstGeom>
          <a:gradFill rotWithShape="0">
            <a:gsLst>
              <a:gs pos="0">
                <a:srgbClr val="80bb0c">
                  <a:alpha val="30196"/>
                </a:srgbClr>
              </a:gs>
              <a:gs pos="100000">
                <a:srgbClr val="80bb0c">
                  <a:alpha val="15294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Presentation to SEM WG on Mod_12_11 Interconnector Unit Loss Adjustment when Ex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48120" y="3884760"/>
            <a:ext cx="5410080" cy="685800"/>
          </a:xfrm>
          <a:prstGeom prst="rect">
            <a:avLst/>
          </a:prstGeom>
          <a:gradFill rotWithShape="0">
            <a:gsLst>
              <a:gs pos="0">
                <a:srgbClr val="80bb0c">
                  <a:alpha val="30196"/>
                </a:srgbClr>
              </a:gs>
              <a:gs pos="100000">
                <a:srgbClr val="80bb0c">
                  <a:alpha val="15294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00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uesday 19th April, 20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9cc00"/>
                </a:solidFill>
                <a:latin typeface="Arial"/>
              </a:rPr>
              <a:t>Current T&amp;SC Treatment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b0f0"/>
                </a:solidFill>
                <a:latin typeface="Arial"/>
              </a:rPr>
              <a:t>Ex-Post MSQ = 80M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Import 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00"/>
                </a:solidFill>
                <a:latin typeface="Arial"/>
              </a:rPr>
              <a:t>BETTA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b050"/>
                </a:solidFill>
                <a:latin typeface="Arial"/>
              </a:rPr>
              <a:t>S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BUY 80 MW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(BETT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SELL 78.6 MW (S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[80 MW * 0.98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b0f0"/>
                </a:solidFill>
                <a:latin typeface="Arial"/>
              </a:rPr>
              <a:t>accurately reflects 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Export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SE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BE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BUY 80 MW (S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SELL 78.6 MW (BET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[80 MW * 0.98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 u="sng">
                <a:solidFill>
                  <a:srgbClr val="00b0f0"/>
                </a:solidFill>
                <a:uFillTx/>
                <a:latin typeface="Arial"/>
              </a:rPr>
              <a:t>inaccurately reflects 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9cc00"/>
                </a:solidFill>
                <a:latin typeface="Arial"/>
              </a:rPr>
              <a:t>TSO Proposed T&amp;SC Treatment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200" spc="-1" strike="noStrike">
                <a:solidFill>
                  <a:srgbClr val="00b0f0"/>
                </a:solidFill>
                <a:latin typeface="Arial"/>
              </a:rPr>
              <a:t>Ex-Post MSQ = 80M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Import 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IE" sz="2200" spc="-1" strike="noStrike">
                <a:solidFill>
                  <a:srgbClr val="ff0000"/>
                </a:solidFill>
                <a:latin typeface="Arial"/>
              </a:rPr>
              <a:t>BETTA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b050"/>
                </a:solidFill>
                <a:latin typeface="Arial"/>
              </a:rPr>
              <a:t>S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BUY 80 MW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(BETT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SELL 78.6 MW (S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[80 MW * 0.98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b0f0"/>
                </a:solidFill>
                <a:latin typeface="Arial"/>
              </a:rPr>
              <a:t>accurately reflects 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Export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SE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BE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BUY </a:t>
            </a:r>
            <a:r>
              <a:rPr b="1" lang="en-GB" sz="2200" spc="-1" strike="noStrike">
                <a:solidFill>
                  <a:srgbClr val="00b050"/>
                </a:solidFill>
                <a:latin typeface="Arial"/>
              </a:rPr>
              <a:t>80 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MW (S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81.5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MW (BET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[80 MW </a:t>
            </a:r>
            <a:r>
              <a:rPr b="1" lang="en-GB" sz="2200" spc="-1" strike="noStrike" u="sng">
                <a:solidFill>
                  <a:srgbClr val="333399"/>
                </a:solidFill>
                <a:uFillTx/>
                <a:latin typeface="Arial"/>
              </a:rPr>
              <a:t>/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 0.98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now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 u="sng">
                <a:solidFill>
                  <a:srgbClr val="00b0f0"/>
                </a:solidFill>
                <a:uFillTx/>
                <a:latin typeface="Arial"/>
              </a:rPr>
              <a:t>accurately reflects 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9cc00"/>
                </a:solidFill>
                <a:latin typeface="Arial"/>
              </a:rPr>
              <a:t>But under ITC Mechanism…</a:t>
            </a:r>
            <a:r>
              <a:rPr b="0" lang="en-IE" sz="2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b0f0"/>
                </a:solidFill>
                <a:latin typeface="Arial"/>
              </a:rPr>
              <a:t>Ex-Post MSQ = 80M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Import 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00"/>
                </a:solidFill>
                <a:latin typeface="Arial"/>
              </a:rPr>
              <a:t>BETTA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b050"/>
                </a:solidFill>
                <a:latin typeface="Arial"/>
              </a:rPr>
              <a:t>S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2174760"/>
            <a:ext cx="4040280" cy="319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BUY 80 MW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(BETT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SELL 80 MW (S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333399"/>
                </a:solidFill>
                <a:uFillTx/>
                <a:latin typeface="Arial"/>
              </a:rPr>
              <a:t>does no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b0f0"/>
                </a:solidFill>
                <a:latin typeface="Arial"/>
              </a:rPr>
              <a:t>reflect 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Export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SE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BE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4720" y="2174760"/>
            <a:ext cx="4041720" cy="319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BUY </a:t>
            </a:r>
            <a:r>
              <a:rPr b="1" lang="en-GB" sz="2200" spc="-1" strike="noStrike">
                <a:solidFill>
                  <a:srgbClr val="00b050"/>
                </a:solidFill>
                <a:latin typeface="Arial"/>
              </a:rPr>
              <a:t>80 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MW (S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80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MW (BET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333399"/>
                </a:solidFill>
                <a:uFillTx/>
                <a:latin typeface="Arial"/>
              </a:rPr>
              <a:t>does no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b0f0"/>
                </a:solidFill>
                <a:latin typeface="Arial"/>
              </a:rPr>
              <a:t>reflect 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468360" y="555948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…</a:t>
            </a:r>
            <a:r>
              <a:rPr b="0" i="1" lang="en-GB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losses arising from cross-border trade ought to be compensated through the ITC mechanism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3"/>
          <p:cNvSpPr/>
          <p:nvPr/>
        </p:nvSpPr>
        <p:spPr>
          <a:xfrm>
            <a:off x="1792440" y="5670720"/>
            <a:ext cx="5486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EU Transmis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Placeholder 28" descr="4-1.jpg"/>
          <p:cNvPicPr/>
          <p:nvPr/>
        </p:nvPicPr>
        <p:blipFill>
          <a:blip r:embed="rId1"/>
          <a:srcRect l="265" t="0" r="265" b="0"/>
          <a:stretch/>
        </p:blipFill>
        <p:spPr>
          <a:xfrm>
            <a:off x="1332000" y="612720"/>
            <a:ext cx="644364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Pre-2002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Content Placeholder 5" descr="pancake[1][1].jpg"/>
          <p:cNvPicPr/>
          <p:nvPr/>
        </p:nvPicPr>
        <p:blipFill>
          <a:blip r:embed="rId1"/>
          <a:stretch/>
        </p:blipFill>
        <p:spPr>
          <a:xfrm>
            <a:off x="3859200" y="404640"/>
            <a:ext cx="4543560" cy="5721480"/>
          </a:xfrm>
          <a:prstGeom prst="rect">
            <a:avLst/>
          </a:prstGeom>
          <a:ln w="0">
            <a:noFill/>
          </a:ln>
        </p:spPr>
      </p:pic>
      <p:sp>
        <p:nvSpPr>
          <p:cNvPr id="47" name="Text Placeholder 4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…</a:t>
            </a:r>
            <a:r>
              <a:rPr b="1" lang="en-IE" sz="1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every TSO charged for flows hosted through its networ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…</a:t>
            </a:r>
            <a:r>
              <a:rPr b="1" lang="en-IE" sz="1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led to pancak-ing of charg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16" descr="090207g1[1].gif"/>
          <p:cNvPicPr/>
          <p:nvPr/>
        </p:nvPicPr>
        <p:blipFill>
          <a:blip r:embed="rId1"/>
          <a:stretch/>
        </p:blipFill>
        <p:spPr>
          <a:xfrm>
            <a:off x="3700440" y="476280"/>
            <a:ext cx="5205600" cy="5832360"/>
          </a:xfrm>
          <a:prstGeom prst="rect">
            <a:avLst/>
          </a:prstGeom>
          <a:ln w="0">
            <a:noFill/>
          </a:ln>
        </p:spPr>
      </p:pic>
      <p:sp>
        <p:nvSpPr>
          <p:cNvPr id="49" name="Text Placeholder 4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…</a:t>
            </a:r>
            <a:r>
              <a:rPr b="1" lang="en-IE" sz="1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ETSO introduced the ITC voluntary mechanis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…</a:t>
            </a:r>
            <a:r>
              <a:rPr b="1" lang="en-IE" sz="1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provided a fund for compensating TSOs for hosting cross-border flow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2002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7"/>
          <p:cNvSpPr/>
          <p:nvPr/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The IT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8"/>
          <p:cNvSpPr/>
          <p:nvPr/>
        </p:nvSpPr>
        <p:spPr>
          <a:xfrm>
            <a:off x="457200" y="1585800"/>
            <a:ext cx="4040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09480" indent="-6094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1. Regulated costs of assets</a:t>
            </a:r>
            <a:r>
              <a:rPr b="1" lang="en-IE" sz="4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12" descr="power_pylons[1].jpg"/>
          <p:cNvPicPr/>
          <p:nvPr/>
        </p:nvPicPr>
        <p:blipFill>
          <a:blip r:embed="rId1"/>
          <a:stretch/>
        </p:blipFill>
        <p:spPr>
          <a:xfrm>
            <a:off x="457200" y="2671920"/>
            <a:ext cx="4040280" cy="2776320"/>
          </a:xfrm>
          <a:prstGeom prst="rect">
            <a:avLst/>
          </a:prstGeom>
          <a:ln w="0">
            <a:noFill/>
          </a:ln>
        </p:spPr>
      </p:pic>
      <p:sp>
        <p:nvSpPr>
          <p:cNvPr id="54" name="Text Placeholder 10"/>
          <p:cNvSpPr/>
          <p:nvPr/>
        </p:nvSpPr>
        <p:spPr>
          <a:xfrm>
            <a:off x="4645080" y="185256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3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2. Losses on the “Horizontal Networ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19" descr="image[1].jpg"/>
          <p:cNvPicPr/>
          <p:nvPr/>
        </p:nvPicPr>
        <p:blipFill>
          <a:blip r:embed="rId2"/>
          <a:stretch/>
        </p:blipFill>
        <p:spPr>
          <a:xfrm>
            <a:off x="4670280" y="2664000"/>
            <a:ext cx="4032360" cy="280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468360" y="57355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…</a:t>
            </a:r>
            <a:r>
              <a:rPr b="0" i="1" lang="en-GB" sz="18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Horizontal Network is defined as “part of the transmission system, which is used to transmit electricity between countries and within [a] country”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2003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6" descr="eu_flag.jpg"/>
          <p:cNvPicPr/>
          <p:nvPr/>
        </p:nvPicPr>
        <p:blipFill>
          <a:blip r:embed="rId1"/>
          <a:stretch/>
        </p:blipFill>
        <p:spPr>
          <a:xfrm>
            <a:off x="3575160" y="1384200"/>
            <a:ext cx="5111640" cy="3630600"/>
          </a:xfrm>
          <a:prstGeom prst="rect">
            <a:avLst/>
          </a:prstGeom>
          <a:ln w="0">
            <a:noFill/>
          </a:ln>
        </p:spPr>
      </p:pic>
      <p:sp>
        <p:nvSpPr>
          <p:cNvPr id="59" name="Text Placeholder 5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2nd EU Energy Package (</a:t>
            </a:r>
            <a:r>
              <a:rPr b="1" lang="en-IE" sz="1400" spc="-1" strike="noStrike">
                <a:solidFill>
                  <a:srgbClr val="c00000"/>
                </a:solidFill>
                <a:latin typeface="Arial"/>
              </a:rPr>
              <a:t>1228/2003 Regulation: Article 3</a:t>
            </a:r>
            <a:r>
              <a:rPr b="1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) formalised this mechanism in EU legislatio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…</a:t>
            </a:r>
            <a:r>
              <a:rPr b="0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but provided for exem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3rd EU Energy Package (</a:t>
            </a:r>
            <a:r>
              <a:rPr b="1" lang="en-IE" sz="1400" spc="-1" strike="noStrike">
                <a:solidFill>
                  <a:srgbClr val="c00000"/>
                </a:solidFill>
                <a:latin typeface="Arial"/>
              </a:rPr>
              <a:t>714/2009 Regulation: Article 13</a:t>
            </a:r>
            <a:r>
              <a:rPr b="1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) reiterated the mechanism in EU legislatio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…</a:t>
            </a:r>
            <a:r>
              <a:rPr b="0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in Article 18, provided for 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Guidelines relating to the inter-transmission system operator compensation”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…</a:t>
            </a:r>
            <a:r>
              <a:rPr b="0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these guidelines were issued as </a:t>
            </a:r>
            <a:r>
              <a:rPr b="1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COMMISSION REGULATION (EU) No 838/2010 of 23 September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685800" y="620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COMMISSION REGULATION (EU) No 838/2010 </a:t>
            </a:r>
            <a:br>
              <a:rPr sz="2000"/>
            </a:br>
            <a:r>
              <a:rPr b="1" lang="en-IE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 of 23 September 2010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5"/>
          <p:cNvSpPr/>
          <p:nvPr/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500" spc="-1" strike="noStrike">
                <a:solidFill>
                  <a:srgbClr val="00b0f0"/>
                </a:solidFill>
                <a:latin typeface="Arial"/>
              </a:rPr>
              <a:t>on laying down guidelines relating to the inter-transmission system operator compensation mechanism and a common regulatory approach to transmission charg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1.1. The Inter-Transmission System Operator Compensation (ITC) mechanism shall provide for compensation for the costs of hosting cross-border flows of electricity including providing cross-border access to the interconnected system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The ITC fund shall provide compensation f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(1) </a:t>
            </a:r>
            <a:r>
              <a:rPr b="1" lang="en-IE" sz="1500" spc="-1" strike="noStrike">
                <a:solidFill>
                  <a:srgbClr val="ff0000"/>
                </a:solidFill>
                <a:latin typeface="Arial"/>
              </a:rPr>
              <a:t>the costs of losses</a:t>
            </a:r>
            <a:r>
              <a:rPr b="0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 incurred national transmission systems as a result of hosting cross-border flows of electricity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(2) </a:t>
            </a:r>
            <a:r>
              <a:rPr b="1" lang="en-IE" sz="1500" spc="-1" strike="noStrike">
                <a:solidFill>
                  <a:srgbClr val="ff0000"/>
                </a:solidFill>
                <a:latin typeface="Arial"/>
              </a:rPr>
              <a:t>the costs of making infrastructure available </a:t>
            </a:r>
            <a:r>
              <a:rPr b="0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to host cross-border flows of electricit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685800" y="349200"/>
            <a:ext cx="77724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COMMISSION REGULATION (EU) No 838/2010 </a:t>
            </a:r>
            <a:br>
              <a:rPr sz="2000"/>
            </a:br>
            <a:r>
              <a:rPr b="1" lang="en-IE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 of 23 September 2010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tent Placeholder 5"/>
          <p:cNvSpPr/>
          <p:nvPr/>
        </p:nvSpPr>
        <p:spPr>
          <a:xfrm>
            <a:off x="685800" y="1197000"/>
            <a:ext cx="7772400" cy="51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3600" indent="-363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5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on laying down guidelines relating to the inter-transmission system operator compensation mechanism and a common regulatory approach to transmission charg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Article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This Regulation shall enter into force on the 20th day </a:t>
            </a:r>
            <a:r>
              <a:rPr b="0" i="1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following its publication in the Official Journal of the European Un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ff0000"/>
                </a:solidFill>
                <a:latin typeface="Arial"/>
              </a:rPr>
              <a:t>It shall apply from 3 March 2011</a:t>
            </a:r>
            <a:r>
              <a:rPr b="0" lang="en-IE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This Regulation shall be binding in its entirety and directly applicable in all Member Stat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Done at Brussels, 23 September 2010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For the Commiss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The Presiden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José Manuel BARRO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le 1"/>
          <p:cNvSpPr/>
          <p:nvPr/>
        </p:nvSpPr>
        <p:spPr>
          <a:xfrm>
            <a:off x="1792440" y="5167440"/>
            <a:ext cx="5486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669900"/>
                </a:solidFill>
                <a:latin typeface="Arial"/>
              </a:rPr>
              <a:t>Implication for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Placeholder 4"/>
          <p:cNvSpPr/>
          <p:nvPr/>
        </p:nvSpPr>
        <p:spPr>
          <a:xfrm>
            <a:off x="1792440" y="580536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Treatment of Losses on Interconn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Placeholder 11" descr="ireland.jpg"/>
          <p:cNvPicPr/>
          <p:nvPr/>
        </p:nvPicPr>
        <p:blipFill>
          <a:blip r:embed="rId1"/>
          <a:srcRect l="0" t="17935" r="0" b="17935"/>
          <a:stretch/>
        </p:blipFill>
        <p:spPr>
          <a:xfrm>
            <a:off x="1792440" y="11145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4:50:40Z</dcterms:created>
  <dc:creator/>
  <dc:description/>
  <dc:language>en-US</dc:language>
  <cp:lastModifiedBy/>
  <dcterms:modified xsi:type="dcterms:W3CDTF">2011-05-19T16:02:24Z</dcterms:modified>
  <cp:revision>1</cp:revision>
  <dc:subject/>
  <dc:title/>
</cp:coreProperties>
</file>