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24143-28BC-41BE-BA5B-34C8D39491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0560" y="82440"/>
            <a:ext cx="712476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DC9E8-91E4-4864-A66B-C1572028AB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0560" y="82440"/>
            <a:ext cx="712476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81502-520B-4B6E-8D07-D877210C25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0560" y="82440"/>
            <a:ext cx="712476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562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74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562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74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A3889-3372-417C-A34C-2D806A7ABE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916DFC-A88A-4311-90D2-DA23B8561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560" y="82440"/>
            <a:ext cx="712476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66D617-BFDE-4BB5-A524-F836C82C7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560" y="82440"/>
            <a:ext cx="712476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1C49CD-0F30-4922-A525-A7440D7B9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560" y="82440"/>
            <a:ext cx="712476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679B9D-0E17-4B5D-A573-53759676B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560" y="82440"/>
            <a:ext cx="712476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B8B852-5EF0-4C64-93F2-6E7FA5251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50560" y="82440"/>
            <a:ext cx="7124760" cy="452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DF882B-74A9-4993-B21E-E88E16FFE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560" y="82440"/>
            <a:ext cx="712476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AEDD69-4E25-4919-A723-28908D9E7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560" y="82440"/>
            <a:ext cx="712476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B6347-143C-44AA-93A3-08BA74E8F4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560" y="82440"/>
            <a:ext cx="712476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32C88E-D721-4476-B534-EBF1147F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560" y="82440"/>
            <a:ext cx="712476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E58202-9945-4B71-B6E3-589682580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0560" y="82440"/>
            <a:ext cx="712476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45F52A-6347-44DE-8F9F-E1E1AAEA1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560" y="82440"/>
            <a:ext cx="712476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D6812E-94D6-4F7C-9381-4FD0D52EE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560" y="82440"/>
            <a:ext cx="712476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562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74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44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562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74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B89D8E-FDDE-4BC2-A07D-27A4A2033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560" y="82440"/>
            <a:ext cx="712476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E8366-957E-4BB3-BE03-E38087735B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0560" y="82440"/>
            <a:ext cx="712476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3DCB0-68FB-4952-97A1-9AE71C18B2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560" y="82440"/>
            <a:ext cx="712476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01B9F-D15F-4A6C-B1A6-167E8EEDDE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50560" y="82440"/>
            <a:ext cx="7124760" cy="452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86284-0105-4411-B058-21C4855516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0560" y="82440"/>
            <a:ext cx="712476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43BDC-B782-4F27-853F-F328351DCC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0560" y="82440"/>
            <a:ext cx="712476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C4B22-F2FB-42F9-B406-C03B1E41C2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0560" y="82440"/>
            <a:ext cx="712476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42677-CA5D-48A5-8414-2425D015D8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3333cc"/>
              </a:gs>
            </a:gsLst>
            <a:lin ang="0"/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6400" indent="-267120">
              <a:spcBef>
                <a:spcPts val="40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3880" indent="-178200">
              <a:spcBef>
                <a:spcPts val="4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250560" y="82440"/>
            <a:ext cx="712476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5580000" y="6552720"/>
            <a:ext cx="3564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SEMO is a joint venture between EirGrid plc and SONI limit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409560" y="654336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4D5F971-2C18-4164-B0AB-56043B4F870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9" descr=""/>
          <p:cNvPicPr/>
          <p:nvPr/>
        </p:nvPicPr>
        <p:blipFill>
          <a:blip r:embed="rId2"/>
          <a:stretch/>
        </p:blipFill>
        <p:spPr>
          <a:xfrm>
            <a:off x="0" y="5614920"/>
            <a:ext cx="1306440" cy="12416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8" descr="SEMO logo"/>
          <p:cNvPicPr/>
          <p:nvPr/>
        </p:nvPicPr>
        <p:blipFill>
          <a:blip r:embed="rId3"/>
          <a:stretch/>
        </p:blipFill>
        <p:spPr>
          <a:xfrm>
            <a:off x="7515360" y="47520"/>
            <a:ext cx="1581120" cy="1027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7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3333cc"/>
              </a:gs>
            </a:gsLst>
            <a:lin ang="0"/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Picture 10" descr="SEMO LOGO"/>
          <p:cNvPicPr/>
          <p:nvPr/>
        </p:nvPicPr>
        <p:blipFill>
          <a:blip r:embed="rId2"/>
          <a:stretch/>
        </p:blipFill>
        <p:spPr>
          <a:xfrm>
            <a:off x="1692360" y="861840"/>
            <a:ext cx="5788080" cy="24228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3"/>
          <p:cNvSpPr/>
          <p:nvPr/>
        </p:nvSpPr>
        <p:spPr>
          <a:xfrm>
            <a:off x="6012000" y="6524640"/>
            <a:ext cx="30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© SEMO is a joint venture between EirGrid plc and SONI limite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6400" indent="-267120">
              <a:spcBef>
                <a:spcPts val="40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3880" indent="-178200">
              <a:spcBef>
                <a:spcPts val="4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250560" y="82440"/>
            <a:ext cx="712476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D870CE1-C1C8-4DC3-AB3E-253E2795A39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0560" y="82440"/>
            <a:ext cx="7124760" cy="97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Modification Working Grou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57120" y="1244520"/>
            <a:ext cx="8228160" cy="375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Credit Requirement Elig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IE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 September 201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ooter Placeholder 3"/>
          <p:cNvSpPr/>
          <p:nvPr/>
        </p:nvSpPr>
        <p:spPr>
          <a:xfrm>
            <a:off x="5580000" y="6553080"/>
            <a:ext cx="356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SEMO is a joint venture between EirGrid plc and SONI limite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560" y="82440"/>
            <a:ext cx="7124760" cy="97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4240" y="1244520"/>
            <a:ext cx="788688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The modification proposal has a potential impact on banking in the SEM in two area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457200">
              <a:spcBef>
                <a:spcPts val="55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Eligibility to act as the SEM Ban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457200">
              <a:spcBef>
                <a:spcPts val="55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Eligibility to provide Letters of Credit to Participants in the S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ooter Placeholder 3"/>
          <p:cNvSpPr/>
          <p:nvPr/>
        </p:nvSpPr>
        <p:spPr>
          <a:xfrm>
            <a:off x="5580000" y="6553080"/>
            <a:ext cx="356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SEMO is a joint venture between EirGrid plc and SONI limite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0560" y="82440"/>
            <a:ext cx="7124760" cy="97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SEM Ban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42960" y="1244160"/>
            <a:ext cx="794232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Contract in place with Danske Bank operating through National Irish Bank in ROI and Northern Bank in NI (a subsidiary of Danske Bank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Contract has been in place since the start of SEM but will expire in Quarter 3 201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Tender will take place in 2012 to appoint SEM bank for a period of 5 yea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The tender will consider all requirements of a SEM bank including credit worthiness, presence in both jurisdictions and ability to meet payment timeframes as defined in the TS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560" y="82440"/>
            <a:ext cx="7124760" cy="97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Credit Cov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440" y="126000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Current Statu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Arial"/>
              </a:rPr>
              <a:t>Credit cover can be held in Letters of Credit (LOC’s) or cas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oter Placeholder 3"/>
          <p:cNvSpPr/>
          <p:nvPr/>
        </p:nvSpPr>
        <p:spPr>
          <a:xfrm>
            <a:off x="5580000" y="6553080"/>
            <a:ext cx="356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SEMO is a joint venture between EirGrid plc and SONI limite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Chart 4" descr=""/>
          <p:cNvPicPr/>
          <p:nvPr/>
        </p:nvPicPr>
        <p:blipFill>
          <a:blip r:embed="rId1"/>
          <a:stretch/>
        </p:blipFill>
        <p:spPr>
          <a:xfrm>
            <a:off x="1066680" y="2279520"/>
            <a:ext cx="7083720" cy="35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560" y="82440"/>
            <a:ext cx="7124760" cy="97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Credit Cov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Rating of Banks Holding LOC’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oter Placeholder 3"/>
          <p:cNvSpPr/>
          <p:nvPr/>
        </p:nvSpPr>
        <p:spPr>
          <a:xfrm>
            <a:off x="5580000" y="6553080"/>
            <a:ext cx="356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SEMO is a joint venture between EirGrid plc and SONI limite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Chart 6" descr=""/>
          <p:cNvPicPr/>
          <p:nvPr/>
        </p:nvPicPr>
        <p:blipFill>
          <a:blip r:embed="rId1"/>
          <a:stretch/>
        </p:blipFill>
        <p:spPr>
          <a:xfrm>
            <a:off x="2084400" y="1773360"/>
            <a:ext cx="4975200" cy="3311280"/>
          </a:xfrm>
          <a:prstGeom prst="rect">
            <a:avLst/>
          </a:prstGeom>
          <a:ln w="0">
            <a:noFill/>
          </a:ln>
        </p:spPr>
      </p:pic>
      <p:pic>
        <p:nvPicPr>
          <p:cNvPr id="103" name="Chart 7" descr=""/>
          <p:cNvPicPr/>
          <p:nvPr/>
        </p:nvPicPr>
        <p:blipFill>
          <a:blip r:embed="rId2"/>
          <a:stretch/>
        </p:blipFill>
        <p:spPr>
          <a:xfrm>
            <a:off x="993600" y="2139840"/>
            <a:ext cx="687096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king</cp:lastModifiedBy>
  <dcterms:modified xsi:type="dcterms:W3CDTF">2011-09-12T14:13:09Z</dcterms:modified>
  <cp:revision>99</cp:revision>
  <dc:subject/>
  <dc:title> SEM Establishment Programme  Technical Solution Update  Michael Carrington </dc:title>
</cp:coreProperties>
</file>