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D05-B381-42CA-9A97-0748E93E66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760-422C-4201-97F1-492EF41EC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41200" y="781200"/>
            <a:ext cx="866484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ing Group #5 discussed a number of 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-Day Trading desig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 Windows: Opening and Clo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Option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Windo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SEMO and TSOs to consider WD1 Trading Wind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and Technical Offer Dat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Trading Day Exchange Rat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Dat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nector Units: Prote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Issues raised : SEMO to consider furth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-Post PQ Pairs Constru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Dependent on design for treatment of I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IOLI or UIOS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fundamental differences between UIOLI or UIOS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IOSI is to be implemented for SEM, this should be administered by the Interconnector Own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Participants to consider whether UIOSI is requir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IOSI is required, input data to the calculation of payments for unused capacity by Interconnector Owners (PQ Pairs, SMP, MSQ) may be provided by SE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O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RCUC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(3 hour) production process information to be provided to WG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SEMO to conduct Impact Assessment with CMS vendor of TSO Mitigation Op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chedule Product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SEMO to provide high level information on 90 minute process by WG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0-10-22T16:03:52Z</dcterms:modified>
  <cp:revision>1103</cp:revision>
  <dc:subject/>
  <dc:title>Training Presentation BLG 190706</dc:title>
</cp:coreProperties>
</file>