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5E14-33AE-48D0-A300-6F84553384D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BA94-1C92-4FC8-8F67-F9EB64E738A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7A1F-8F70-44DC-90D7-D9B2935030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A603-BDF0-4C08-84DD-9CB2E3E99E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B526-CCB2-4044-AC3B-AA6947904D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sp>
        <p:nvSpPr>
          <p:cNvPr id="41" name="TextBox 4"/>
          <p:cNvSpPr/>
          <p:nvPr/>
        </p:nvSpPr>
        <p:spPr>
          <a:xfrm>
            <a:off x="8326800" y="644688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E935-94C1-4B94-A71D-B083846D3F7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TRA-DAY TRADING DESIGN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aily Average in Calculation of EEP, ECP and ECPI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9 June 2011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241200" y="987480"/>
            <a:ext cx="873144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uring Intra-Day modification development, a discrepancy between the Code and the actual calculation of EEP and ECP has been identifi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impact on average (current paragraphs 6.193, 6.198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s on standard deviation (current paragraphs 6.194, 6.199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de specifies the use of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rading Perio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P/CPDP for calculation of variance used in EEP/ECP, while the market systems us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aily averag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P/CPD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EP and ECP are used for New or Adjusted Participants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 at 21/06/2011 there were only 6 of 89 accounts flagged as New or Adjusted in the SEM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portion of accounts affected is small (less than 7%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0" name="Straight Connector 6"/>
          <p:cNvSpPr/>
          <p:nvPr/>
        </p:nvSpPr>
        <p:spPr>
          <a:xfrm>
            <a:off x="5272200" y="1924200"/>
            <a:ext cx="38160" cy="3755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85920" y="409680"/>
            <a:ext cx="689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Comparison of Daily Average/Trading Period Credit Cover Calculation to the Standard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hart 8" descr=""/>
          <p:cNvPicPr/>
          <p:nvPr/>
        </p:nvPicPr>
        <p:blipFill>
          <a:blip r:embed="rId2"/>
          <a:stretch/>
        </p:blipFill>
        <p:spPr>
          <a:xfrm>
            <a:off x="957240" y="1706400"/>
            <a:ext cx="7023240" cy="4316400"/>
          </a:xfrm>
          <a:prstGeom prst="rect">
            <a:avLst/>
          </a:prstGeom>
          <a:ln w="0">
            <a:noFill/>
          </a:ln>
        </p:spPr>
      </p:pic>
      <p:sp>
        <p:nvSpPr>
          <p:cNvPr id="93" name="Right Brace 5"/>
          <p:cNvSpPr/>
          <p:nvPr/>
        </p:nvSpPr>
        <p:spPr>
          <a:xfrm rot="16200000">
            <a:off x="6339600" y="390600"/>
            <a:ext cx="352440" cy="2401920"/>
          </a:xfrm>
          <a:custGeom>
            <a:avLst/>
            <a:gdLst>
              <a:gd name="textAreaLeft" fmla="*/ 0 w 352440"/>
              <a:gd name="textAreaRight" fmla="*/ 127080 w 352440"/>
              <a:gd name="textAreaTop" fmla="*/ 9000 h 2401920"/>
              <a:gd name="textAreaBottom" fmla="*/ 2392920 h 24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2"/>
                  <a:pt x="10800" y="264"/>
                </a:cubicBezTo>
                <a:lnTo>
                  <a:pt x="10800" y="10536"/>
                </a:lnTo>
                <a:cubicBezTo>
                  <a:pt x="10800" y="10668"/>
                  <a:pt x="16200" y="10800"/>
                  <a:pt x="21600" y="10800"/>
                </a:cubicBezTo>
                <a:cubicBezTo>
                  <a:pt x="16200" y="10800"/>
                  <a:pt x="10800" y="10932"/>
                  <a:pt x="10800" y="11064"/>
                </a:cubicBezTo>
                <a:lnTo>
                  <a:pt x="10800" y="21336"/>
                </a:lnTo>
                <a:cubicBezTo>
                  <a:pt x="10800" y="2146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5740920" y="112536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tandard Particip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ight Brace 7"/>
          <p:cNvSpPr/>
          <p:nvPr/>
        </p:nvSpPr>
        <p:spPr>
          <a:xfrm rot="16200000">
            <a:off x="3310560" y="-195840"/>
            <a:ext cx="342720" cy="3608280"/>
          </a:xfrm>
          <a:custGeom>
            <a:avLst/>
            <a:gdLst>
              <a:gd name="textAreaLeft" fmla="*/ 0 w 342720"/>
              <a:gd name="textAreaRight" fmla="*/ 123840 w 342720"/>
              <a:gd name="textAreaTop" fmla="*/ 8640 h 3608280"/>
              <a:gd name="textAreaBottom" fmla="*/ 3599640 h 360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6"/>
                  <a:pt x="10800" y="171"/>
                </a:cubicBezTo>
                <a:lnTo>
                  <a:pt x="10800" y="10629"/>
                </a:lnTo>
                <a:cubicBezTo>
                  <a:pt x="10800" y="10715"/>
                  <a:pt x="16200" y="10800"/>
                  <a:pt x="21600" y="10800"/>
                </a:cubicBezTo>
                <a:cubicBezTo>
                  <a:pt x="16200" y="10800"/>
                  <a:pt x="10800" y="10886"/>
                  <a:pt x="10800" y="10971"/>
                </a:cubicBezTo>
                <a:lnTo>
                  <a:pt x="10800" y="21429"/>
                </a:lnTo>
                <a:cubicBezTo>
                  <a:pt x="10800" y="2151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2538360" y="114768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New/Adjusted Particip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95200" y="990720"/>
            <a:ext cx="873144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ccuracy of the standard calculation is reported on a 3 monthly basis and the market has had no concerns with the level of credit cover calculated for Standard Participa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aily average calculation gives a comparable estimate to the standard calculatio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rading Period calculation would increase the Required Credit Cover for new participants and over-estimate, compared to the standard calculation by approximately 23%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06520" y="4251240"/>
          <a:ext cx="6000840" cy="1013040"/>
        </p:xfrm>
        <a:graphic>
          <a:graphicData uri="http://schemas.openxmlformats.org/drawingml/2006/table">
            <a:tbl>
              <a:tblPr/>
              <a:tblGrid>
                <a:gridCol w="3092400"/>
                <a:gridCol w="1382760"/>
                <a:gridCol w="1525680"/>
              </a:tblGrid>
              <a:tr h="351000">
                <a:tc>
                  <a:txBody>
                    <a:bodyPr lIns="0" rIns="0" tIns="0" bIns="0" anchor="b">
                      <a:noAutofit/>
                    </a:bodyPr>
                    <a:p>
                      <a:pPr marL="92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is of Calcul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 marL="92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ng Period Bas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9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2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0" rIns="0" tIns="0" bIns="0" anchor="b">
                      <a:noAutofit/>
                    </a:bodyPr>
                    <a:p>
                      <a:pPr marL="92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Average Basis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6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4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4:23:45Z</dcterms:created>
  <dc:creator/>
  <dc:description/>
  <dc:language>en-US</dc:language>
  <cp:lastModifiedBy/>
  <dcterms:modified xsi:type="dcterms:W3CDTF">2011-07-15T14:25:18Z</dcterms:modified>
  <cp:revision>1</cp:revision>
  <dc:subject/>
  <dc:title/>
</cp:coreProperties>
</file>