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B265-9972-4334-B830-4F48215682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E2F4-A059-4AA2-B237-75A1AA0244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6336-2561-401F-BF01-CD460F68E2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F89F-7584-47AE-ACBE-3F54FF13DBC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D616-AE52-4D53-A54F-77C08D809A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B63F-9523-4B09-B665-31A0472E55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85BE-B733-41D2-A689-105D43599F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F7A0-B046-4E3F-AFDC-D777C4403A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A87B-640B-4320-9DC1-DF1B467F43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65DD-494C-4AA1-9550-AD0DA379E8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BB58-9966-49BB-873B-F977A525C0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C533-145C-4DC5-BBE9-3803B1E331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F2F-6AAF-4CB5-8C92-34D8587B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62A-C2DF-4344-9B26-A103646A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36A-3176-45D3-A10A-1A89FD59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261-AFF9-43F7-B3E8-BB88465A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780-8A09-49E3-B149-40EBC888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F50-86B6-4238-B46A-8CED6794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36E-EEA3-4FA8-A584-D23DC7E9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308-5AC4-493B-BEE3-2857D513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A22-3566-46F8-A4F7-2F829184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B2C-B8C9-42C8-AB92-79F2289B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C58-E0F0-47FB-8D8B-8709786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906-0E9D-4152-9FBB-274A8AA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E20C-1BAC-49CF-AFF5-508507FE8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Irishlogo"/>
          <p:cNvPicPr/>
          <p:nvPr/>
        </p:nvPicPr>
        <p:blipFill>
          <a:blip r:embed="rId2"/>
          <a:stretch/>
        </p:blipFill>
        <p:spPr>
          <a:xfrm>
            <a:off x="500040" y="285840"/>
            <a:ext cx="2428920" cy="996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UtilityRegulator"/>
          <p:cNvPicPr/>
          <p:nvPr/>
        </p:nvPicPr>
        <p:blipFill>
          <a:blip r:embed="rId3"/>
          <a:stretch/>
        </p:blipFill>
        <p:spPr>
          <a:xfrm>
            <a:off x="5715000" y="285840"/>
            <a:ext cx="29052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a Day Trading Working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859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igh level Principles Discussed by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11 May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High Level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ion and Conclu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Questionnaire responses to be circul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G members to consider issues and propose three options for intra day tr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s will combine these to present 3 clear options in advance of the next meeting of the W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SOs and SEMO to then develop and examine costs/benefits of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G 3 Meeting – 15 June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igh Level Issue for 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inition of Intra-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iming and number of gate clo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ce affecting or Constraints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icit or Implicit A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IOLI or UI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ctions for part of or full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efinition of Intra Day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MG: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Successive intra day allocations of available transmissions capacity for day D shall take place on day D-1 and D, after the issuing of the indicated or actual day ahead production schedules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s and TSOs  considering compliance issue and definition for next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tions  for additional gate closure to be developed on cost benefit b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iming and Number of Gate Closures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orking Group view that intra day gate closures and auctions should be develop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mal times for IC traders to be balanced with what is feasible from system and market operation point of 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l generators rebidding close to real time likely to mean redesign of SE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minant WG view that intra day IC only trades shouldn’t affect market schedule and S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ne option to be investigated - Intra Day for IC users only and affecting constraints schedu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ore radical options in terms of timing and participation (e.g. all gens) to be investigated als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SOs and SEMO to investigate Candidate Options on timing of gate closures  based on this – cost/benefits of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ice Affecting or Constraint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estion of whether RCUC or MSP the most suitable means of conducting intra day auction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s investigating further whether RCUC can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sue of incentives for IC users to trade without infra marginal rent  to be further consider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icit or Implicit Auctions 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icit intra day auctions could be done by MSP Software and/or RCUC – determine MIUNs and DQ of 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licit would deliver optimal solution and make trading easier and more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th implicit auctions - Need to ‘protect’ MIUNs allocated in initial allocation for initial capacity holders– can be done in MSP (and RCUC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IOLI or UIO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IOLI most feasible option for intra day – participants not in merit in ex-ante allocation lose capacity rights in intra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IOSI through secondary trading of  capacity before initial gate clo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art or Full Day Auctions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tion to have intra day affect part day as for intra day on many European 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G view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e view (Moyle) that part day intra day auctions best o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ystem implications of part day auctions –possible for MS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ed to investigate for R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ther Issues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irm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ra Day wind forecast notific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actions with Day Ahead and balancing (SO-SO) solu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gional (FUI) persp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pdate on other Regional Integration from RAs at next W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1:49:56Z</dcterms:created>
  <dc:creator>pnewsome</dc:creator>
  <dc:description/>
  <dc:language>en-US</dc:language>
  <cp:lastModifiedBy>Fargher</cp:lastModifiedBy>
  <dcterms:modified xsi:type="dcterms:W3CDTF">2010-05-14T13:47:11Z</dcterms:modified>
  <cp:revision>77</cp:revision>
  <dc:subject/>
  <dc:title>Intra Day Trading Working Group</dc:title>
</cp:coreProperties>
</file>