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669-9F01-4676-BCC6-5666E6B7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F93-6BD6-4F86-8C72-3A00CFB8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716-AB7E-4144-AE03-812D439A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CFA-684A-47FE-9440-7AF333A6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053-4A75-4781-8950-D6F427C2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890-10CD-4FB6-B797-DBCF0B52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9E4-4EA0-4096-A39D-922FA70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2DA-F346-4189-85DC-9E38522F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8F3-5BFF-43A5-9511-F3483A0C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7DF-40EF-43C1-B086-A663036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CF1-5745-4A40-BEB7-71A1B18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8FE-C03E-4606-A878-FFFFA6A3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69B8-08B8-41E9-8821-CD57ED2BB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Irishlogo"/>
          <p:cNvPicPr/>
          <p:nvPr/>
        </p:nvPicPr>
        <p:blipFill>
          <a:blip r:embed="rId2"/>
          <a:stretch/>
        </p:blipFill>
        <p:spPr>
          <a:xfrm>
            <a:off x="142920" y="142920"/>
            <a:ext cx="2428920" cy="996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UtilityRegulator"/>
          <p:cNvPicPr/>
          <p:nvPr/>
        </p:nvPicPr>
        <p:blipFill>
          <a:blip r:embed="rId3"/>
          <a:stretch/>
        </p:blipFill>
        <p:spPr>
          <a:xfrm>
            <a:off x="5500800" y="357120"/>
            <a:ext cx="290484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tra Day Trading Working Group 3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ngestion Management Guidelines -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 CMG Provisions on Intra Da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gulation 714/2009 on Cross Border Exchanges in Electricit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1 of Reg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‘Regulation aims at setting fair rules for cross-border exchanges in electricity thus enhancing competition within the internal market in electricity, taking into account the particular characteristics of national and regional market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18.1 of Reg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uidelines on the management and allocation of available transmission capacity of interconnections between national systems are laid out in Annex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nex 1: Congestion Management Guideli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s 1.9: 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y January 2008, mechanisms for the intra-day congestion management of interconnector capacity shall be established in a coordinated way and under secure operational conditions, in order to maximise opportunities for trade and provide for cross- border balancin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4.3  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, inter alia, ‘intra day allocation of available transmission capacity for day D shall take place on days D-1 and D, after the issuing of the indicated or actual day-ahead production schedule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tra Day for S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consistent definition of Intra Day in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 in ENTSO-E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l Report on Development and Implementation of a Coordinated Model for Regional and Inter-Regional Congestion Manag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’ (January 2009 - ETSO-EuroPEX study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‘after the closure of the day-ahead market and before real time balancing action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overall provisions of Congestion Management Guidelines – regional coordination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ra Day arrangements should be developed in the SEM in line with the SEMC Decision on Regional Integration and  based on the costs and benefits to the mark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5:11:11Z</dcterms:created>
  <dc:creator>pnewsome</dc:creator>
  <dc:description/>
  <dc:language>en-US</dc:language>
  <cp:lastModifiedBy>pnewsome</cp:lastModifiedBy>
  <dcterms:modified xsi:type="dcterms:W3CDTF">2010-06-14T17:03:13Z</dcterms:modified>
  <cp:revision>37</cp:revision>
  <dc:subject/>
  <dc:title>Slide 1</dc:title>
</cp:coreProperties>
</file>