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C878-DA80-43F1-8940-764424A2431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4FA2-2B2F-42CB-AE1E-486CAF21C60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D16D-9763-46CD-9546-CEE7836E2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C95D-57EE-490C-8ECB-F34EA374B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 Day Trading : Credit Cover Examples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 November 2010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243000" y="600120"/>
            <a:ext cx="866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lications of Existing Credit Cover Arrangements with Super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2522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241200" y="1511280"/>
            <a:ext cx="866484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connector Unit Bid for each Trading Period in a Trading Day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ce = €40/MW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antity = -500MW (500MW export from the SE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urrentl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xed Credit Cover: €5,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ime to Remedy” (i.e. when Credit Cover posted not adequate): 2 d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nce, maximum exposure (with only Fixed Credit Cover posted) for  the Interconnector Unit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ith superposition, trades could be significantly in excess of the capacity of a given Interconnector.  This would increase the risk of insufficient market funds being available in the event of Defau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8640" y="4437000"/>
            <a:ext cx="80708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/MWh * -500MW * 24 hours * 2 days ~ €1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43000" y="600120"/>
            <a:ext cx="86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ting of Credit Co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6320" y="2522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41200" y="1384200"/>
            <a:ext cx="866484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ot appropriate to net Credit Cover across a Trading D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Bids may be for import and export within a Trad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ay be scheduled for less than offered quant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.g. sum(Import)=0 and sum(Export)&lt;&lt;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tting of Credit Cover between Runs (EA1, EA2, WD1) is also not appropriate, as ATC can chan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A1: MIUN is 100MW (im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A2: MIUN is -500MW (ex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f netted allowed, Credit Cover position would be based on 400M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f Import ATC changes after EA2 MSP Software (e.g. Within Day), could result in EA1 MIUN amendment to 50M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f netting allowed, Credit Cover position would now be a market exposure of 450-400 =&gt; 50M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nce Initial Settlement data is available, could then utilise the net position for future calc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isling O'Donnell</cp:lastModifiedBy>
  <cp:lastPrinted>2002-07-25T14:31:52Z</cp:lastPrinted>
  <dcterms:modified xsi:type="dcterms:W3CDTF">2010-11-01T16:05:59Z</dcterms:modified>
  <cp:revision>1150</cp:revision>
  <dc:subject/>
  <dc:title>Training Presentation BLG 190706</dc:title>
</cp:coreProperties>
</file>