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3E3C-C714-49BA-A5B2-7369A598AE2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B20-F188-436A-ABAC-649525A2897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78B-1FB3-47FF-9182-4144BFBF6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FA5F-C675-49E8-9D0B-B0238BDD2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A839-0999-428D-B7DB-6A5130009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DEAE-25A8-4FA4-9504-488D14578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-DAY TRADING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and Participant Data Submission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Working Group 8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ay 10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241200" y="1225440"/>
            <a:ext cx="873144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dification Mod_18_10 raised March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s 1 to 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25 Nov 2010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odifications Committee Meeting 32 – Modifications Committee recommended to approve High Level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04 March 2011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EM Committee approve implementation of High Level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01 Feb 2011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odifications Committee Meeting 33 – SEMO to develop legal text based on High Level Desig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10 May 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8 </a:t>
            </a: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29 June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9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3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06 September 2011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10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2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10 November 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1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ecap of design,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omments addressed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issues resolved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story of Mod_18_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41200" y="1225440"/>
            <a:ext cx="873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orking Group 8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review the draft rules for Functional Group 1 – Registration and Participant Submission produced by SEMO, ensuring that the resulting Modification Proposal aligns with the agreed High Lev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identify and address areas of change to the Code that are not identified by the draf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discuss and address drafting issues raised by SE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recommend to the Modifications Committee whether legal drafting aligns with the High Lev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ms Of Reference of Working Group 8 - Objectiv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41200" y="1225440"/>
            <a:ext cx="8731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liverabl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Working Group 8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ain English Document  FG1 (PED_FG1) describing Code changes in respect of IDT Registration and Participant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gal Drafting covering all Code changes required for FG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orking Group Report to the Modifications 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ms Of Reference of Working Group 8 - Deliver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41200" y="1225440"/>
            <a:ext cx="873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Group Members to review PED, legal drafting and slides in advance of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nts to be submitted before, during or after Working Group on comment spreadsheet provided through Secretari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ine for submission of comments to be agreed during Working Grou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te draft changes are based on T&amp;SC V8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rior to Working Group 11, SEMO will provide details of the changes made as a result of comments received.  Changes will be summarised and presented at Working Group 1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posed Review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0:06:11Z</dcterms:created>
  <dc:creator/>
  <dc:description/>
  <dc:language>en-US</dc:language>
  <cp:lastModifiedBy/>
  <dcterms:modified xsi:type="dcterms:W3CDTF">2011-05-30T10:06:16Z</dcterms:modified>
  <cp:revision>1</cp:revision>
  <dc:subject/>
  <dc:title/>
</cp:coreProperties>
</file>