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97B-1D25-4AA8-9B0E-AF5B571D159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7F6C-F9F2-455D-802A-18291222E72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9CF9-F2FC-4BB9-8E64-586EA97992E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B6E2-2862-4C3D-BE61-96053F0559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3CB-519E-453B-80C4-45E3C0303F5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D567-7CAB-436A-B98B-20D8D26B5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F8A8-F843-4425-B7F5-FEE211B7A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6805-5602-4B03-8B8C-2387EE942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3B28-EF63-49CE-ABAB-12FBD0BF6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A821B-E331-48E1-9B3C-F10D1097DF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05EE1-4BC6-494B-A9C1-36CCCF3F6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3B6CB-6963-40B7-A690-3F1B4C4E58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36E6C-DE42-447E-87F7-76571E60C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F7617-A848-4FD8-80EA-22B430C71D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DE9BC-FB8A-4F7B-877B-967A878A2B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9F172-2846-42C7-B1AE-FC5D0A37A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6217-03FB-4BA4-BB2A-028EF4EDA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01FAB-9E2C-4E8F-BCFE-79B9228B8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2673F-7CBA-424F-A0A3-E64914A40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9521-13AF-4E35-ACEE-35B367864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3ED6-EEA5-4A88-B689-641461F14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65458-EAE5-4F82-9D44-C7E44F4C1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FA69-F839-4187-B42A-23413D1AD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5339-2789-4936-8658-FAA18A6D7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D740-98AD-4358-8FAD-539A38917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DADC-E174-435A-9A3A-BCB0475C5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DA94-C5E1-4255-A321-0752D5F2D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441B-A380-4529-A935-2574C767C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2D40-A9F9-421D-9BF8-0DCF53853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693-445D-4D7C-BE20-9A23BDACD6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E0E-83FA-4B8A-A04E-327D28DB37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5D2-65BB-466E-978C-BC783432B2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emand Side Units in S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43B-40B4-4C06-89A8-6AFE17EDAA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“Trading Site” is a device for correctly netting Energy and Capacity Payments when there is both generation and load at the same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th generation &amp; load at the same site then the final settlement position will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nergy payments are based on the NE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pacity payments are based on the NE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traint payments and uninstructed imbalances are based on the GROSS generation while Imperfection Charge are on GROSS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ble Operators Charge on GROSS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Generator Units are registered by the Market Participant at that Trading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re can be only one Supplier Unit at a Trading 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0520" y="1224000"/>
            <a:ext cx="7935840" cy="852480"/>
            <a:chOff x="560520" y="1224000"/>
            <a:chExt cx="7935840" cy="852480"/>
          </a:xfrm>
        </p:grpSpPr>
        <p:sp>
          <p:nvSpPr>
            <p:cNvPr id="99" name=""/>
            <p:cNvSpPr/>
            <p:nvPr/>
          </p:nvSpPr>
          <p:spPr>
            <a:xfrm>
              <a:off x="560520" y="1224000"/>
              <a:ext cx="7935840" cy="85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200" y="1609560"/>
              <a:ext cx="208116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Generator Uni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0840" y="1620720"/>
              <a:ext cx="246384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etting Generato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8960" y="1622520"/>
              <a:ext cx="14853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upplie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8240" y="123336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T R A D I N G   S I T 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902-C2C4-43F7-8B9A-58C566CB70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example on the next slide assumes this is registered to the registered participant for the Trading Site (i.e. A Trading Site Supplier Un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ternatively, it could be registered to another Participant (an Associated Supplier Unit) in which case the Netting Generator Unit has a zero quantity for the Trading Site particip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Netting Generator Unit is a virtual unit, registered by the SMO on behalf of the Market Participant at that Trading 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854-586E-4BE1-BD76-6826AFE502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rading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Meter Data and MSQ for the Netting Generator Unit is negative of the lesser of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he absolute value of the total metered values for the Generator Un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he absolute value of the total metered values for the Supplier Un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nergy and Capacity Payments are based on Generator Unit MSQs and the Netting Generator (which is a negative numb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nergy and Capacity Charges are based on Supplier Unit MSQs less Netting Generator Unit output (which is a negative numb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Other settlement terms are still settled on a gross ba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25320" y="1052640"/>
            <a:ext cx="7907400" cy="766800"/>
            <a:chOff x="625320" y="1052640"/>
            <a:chExt cx="7907400" cy="766800"/>
          </a:xfrm>
        </p:grpSpPr>
        <p:sp>
          <p:nvSpPr>
            <p:cNvPr id="111" name=""/>
            <p:cNvSpPr/>
            <p:nvPr/>
          </p:nvSpPr>
          <p:spPr>
            <a:xfrm>
              <a:off x="625320" y="1052640"/>
              <a:ext cx="7907400" cy="76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280" y="1399320"/>
              <a:ext cx="20736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Generator Uni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45560" y="1410840"/>
              <a:ext cx="246384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etting Generato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82880" y="1410840"/>
              <a:ext cx="14853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upplier Uni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960" y="106092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T R A D I N G   S I T 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539640" y="4149720"/>
          <a:ext cx="8361360" cy="2603520"/>
        </p:xfrm>
        <a:graphic>
          <a:graphicData uri="http://schemas.openxmlformats.org/drawingml/2006/table">
            <a:tbl>
              <a:tblPr/>
              <a:tblGrid>
                <a:gridCol w="5368680"/>
                <a:gridCol w="1109880"/>
                <a:gridCol w="1039680"/>
                <a:gridCol w="8431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Unit MW (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Unit MW (B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ing Generator Unit MW (C = -Min(¦A¦,¦B¦)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Unit Energy/Capacity Payment MW (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ing Generator Unit Energy/Capacity Payment MW (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Energy/Capacity Payment MW (A+ 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Unit Energy/Capacity Charge MW (B – C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SU Sett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977760" y="1473120"/>
            <a:ext cx="7315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dministrator</cp:lastModifiedBy>
  <cp:lastPrinted>2002-07-25T14:31:52Z</cp:lastPrinted>
  <dcterms:modified xsi:type="dcterms:W3CDTF">2009-10-21T15:47:02Z</dcterms:modified>
  <cp:revision>757</cp:revision>
  <dc:subject/>
  <dc:title>Training Presentation BLG 190706</dc:title>
</cp:coreProperties>
</file>