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647280" y="746280"/>
            <a:ext cx="5375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b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A885-8D7E-4F8B-871B-33CF697C13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5CA2-0628-41AE-991E-CA2A218860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647640" y="746280"/>
            <a:ext cx="5375160" cy="37209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1C11-589A-49FC-9F3F-AEDA548C9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91598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4120" y="3930480"/>
            <a:ext cx="91598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FD46-7F48-4521-9FB9-545FEEFFA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780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4120" y="393048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7800" y="393048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C4AA-81ED-4E8E-A35C-C279F2577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81200" y="131076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77920" y="131076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4120" y="393048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81200" y="393048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77920" y="393048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1EC5-FBF4-4FAA-BF48-ACFD26804C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4120" y="1310760"/>
            <a:ext cx="9159840" cy="50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3625-2077-453B-A6BE-E7C4DB70F1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915984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BE82-39D8-4BC8-8F36-9CE310B6F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446976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7800" y="1310760"/>
            <a:ext cx="446976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2804-3664-438D-BF54-A0F27613E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A28D-1E30-4E37-A195-41285C895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72960" y="576360"/>
            <a:ext cx="91598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E055-F030-4C1E-93E0-A8D77FC8F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7800" y="1310760"/>
            <a:ext cx="446976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4120" y="393048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BC48-963A-4F28-807E-F0992A472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446976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780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7800" y="393048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E808-4DDC-4A9E-8996-2021ED014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780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4120" y="3930480"/>
            <a:ext cx="91598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AD99-ED13-4AA3-8B66-DF8CE5D3E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b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4120" y="1310760"/>
            <a:ext cx="915984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3560"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23920" indent="-235080"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544760" indent="-23040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54080" indent="-218880">
              <a:spcBef>
                <a:spcPts val="15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54080" indent="-2188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54080" indent="-2188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682560" y="657864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21840" y="6559200"/>
            <a:ext cx="4446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8259-72DF-4193-8184-61594CB12425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hevron 10"/>
          <p:cNvSpPr/>
          <p:nvPr/>
        </p:nvSpPr>
        <p:spPr>
          <a:xfrm>
            <a:off x="0" y="0"/>
            <a:ext cx="9893160" cy="376200"/>
          </a:xfrm>
          <a:custGeom>
            <a:avLst/>
            <a:gdLst>
              <a:gd name="textAreaLeft" fmla="*/ 0 w 9893160"/>
              <a:gd name="textAreaRight" fmla="*/ 9893520 w 98931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0" y="0"/>
                </a:lnTo>
                <a:lnTo>
                  <a:pt x="21600" y="10800"/>
                </a:lnTo>
                <a:lnTo>
                  <a:pt x="20550" y="21600"/>
                </a:lnTo>
                <a:lnTo>
                  <a:pt x="0" y="21600"/>
                </a:lnTo>
                <a:lnTo>
                  <a:pt x="1050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3181320" y="12600"/>
            <a:ext cx="3506760" cy="351000"/>
          </a:xfrm>
          <a:prstGeom prst="rect">
            <a:avLst/>
          </a:prstGeom>
          <a:solidFill>
            <a:srgbClr val="ffffff"/>
          </a:solidFill>
          <a:ln w="50760">
            <a:solidFill>
              <a:srgbClr val="365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70c0"/>
                </a:solidFill>
                <a:latin typeface="Arial"/>
              </a:rPr>
              <a:t>Enduring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5964120" y="0"/>
            <a:ext cx="700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173400" y="0"/>
            <a:ext cx="13604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8029440" y="6192720"/>
            <a:ext cx="1511280" cy="5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58680" y="1722600"/>
            <a:ext cx="7983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IE Enduring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sentation to T&amp;SC Working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 Global Ag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nis Kelly - 19</a:t>
            </a:r>
            <a:r>
              <a:rPr b="1" lang="en-US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November 2009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8040" y="544680"/>
            <a:ext cx="915984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b3"/>
                </a:solidFill>
                <a:latin typeface="Arial"/>
              </a:rPr>
              <a:t>Brief Background</a:t>
            </a: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3840" y="1233360"/>
            <a:ext cx="91598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1125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urrent Retail market solution in NI is 'interim'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356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legacy system constraints and interim market arrangements impact on rate (‘churn’) and total number (‘ceiling’) of customer switch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356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ggregation volumes are also constrained but are adequate in the interim solu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356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 present aggregation levels ar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37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pprox 17k non half hour custom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37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pprox 7.5k half hour custom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37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The balance of circa 800k customers are differenc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>
              <a:spcBef>
                <a:spcPts val="1125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IAUR commissioned NIE to undertake Enduring Solution Options Study (ESOS) which would focus specifically on IT factor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356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arget IT options to support a range of market development scenari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>
              <a:spcBef>
                <a:spcPts val="1125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ome issues – including harmonisation of messaging arrangements - have an all-island dimens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22200" y="6559560"/>
            <a:ext cx="44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FDE7-2131-4249-B8D9-CF93A3285068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1"/>
          <p:cNvSpPr/>
          <p:nvPr/>
        </p:nvSpPr>
        <p:spPr>
          <a:xfrm>
            <a:off x="322200" y="6559560"/>
            <a:ext cx="44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824A-8D94-444C-BD42-B60C4DD029A5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372960" y="503280"/>
            <a:ext cx="915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b3"/>
                </a:solidFill>
                <a:latin typeface="Arial"/>
              </a:rPr>
              <a:t>ESOS - Summary of Scenario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51000" y="1720800"/>
          <a:ext cx="9185040" cy="4443480"/>
        </p:xfrm>
        <a:graphic>
          <a:graphicData uri="http://schemas.openxmlformats.org/drawingml/2006/table">
            <a:tbl>
              <a:tblPr/>
              <a:tblGrid>
                <a:gridCol w="1530360"/>
                <a:gridCol w="1531800"/>
                <a:gridCol w="1530360"/>
                <a:gridCol w="1530360"/>
                <a:gridCol w="1531800"/>
                <a:gridCol w="153036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cen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ur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top Gap Capacity Inc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Enduring Solution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Business Sepa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Enduring Solution – Level Playing Field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…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nd with Smart Metering Ad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Retail Market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nnot support further market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nly supports limited further market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upports further development, but not  some key featu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ully supports further market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cenario 3 needs major change, Scenario 4 re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egacy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Remains 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egacy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Remains 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egacy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New and separate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New and separate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Builds on new systems in Scenario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Key Fea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2440" indent="-82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Interim So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otent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top G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egacy System Ex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ull Support to Dynamic 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ong Te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o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buClr>
                          <a:srgbClr val="0000ff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6760" indent="-177840">
                        <a:buClr>
                          <a:srgbClr val="0000ff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Not robust to any serious new e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6760" indent="-177840">
                        <a:buClr>
                          <a:srgbClr val="0000ff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Raises capacity ceiling to c15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6760" indent="-177840">
                        <a:buClr>
                          <a:srgbClr val="0000ff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ull sepa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177840">
                        <a:buClr>
                          <a:srgbClr val="0000ff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No capacity cei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6760" indent="-177840">
                        <a:buClr>
                          <a:srgbClr val="0000ff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dds global settlement, Super -customer DUoS Billing &amp; harmon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6760" indent="-177840">
                        <a:buClr>
                          <a:srgbClr val="0000ff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olves keypad staffing constra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Oval 46"/>
          <p:cNvSpPr/>
          <p:nvPr/>
        </p:nvSpPr>
        <p:spPr>
          <a:xfrm>
            <a:off x="4394160" y="6365880"/>
            <a:ext cx="1928880" cy="4287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59"/>
          <p:cNvSpPr/>
          <p:nvPr/>
        </p:nvSpPr>
        <p:spPr>
          <a:xfrm rot="10321200">
            <a:off x="6327360" y="6323040"/>
            <a:ext cx="879480" cy="2937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8"/>
          <p:cNvSpPr/>
          <p:nvPr/>
        </p:nvSpPr>
        <p:spPr>
          <a:xfrm>
            <a:off x="4299120" y="6434280"/>
            <a:ext cx="217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eed area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ontent Placeholder 2"/>
          <p:cNvSpPr/>
          <p:nvPr/>
        </p:nvSpPr>
        <p:spPr>
          <a:xfrm>
            <a:off x="372960" y="933480"/>
            <a:ext cx="91598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SOS focus - options to support an enduring solution for a dynamic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b3"/>
                </a:solidFill>
                <a:latin typeface="Arial"/>
              </a:rPr>
              <a:t>ESOS Conclusions</a:t>
            </a: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4120" y="1095480"/>
            <a:ext cx="91598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55600" indent="-255600">
              <a:lnSpc>
                <a:spcPct val="125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project team agreed with NIAUR (Oct 08) that Scenario 4 - supporting full retail market development - was the way forwar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28560" indent="-200880">
              <a:lnSpc>
                <a:spcPct val="125000"/>
              </a:lnSpc>
              <a:spcBef>
                <a:spcPts val="624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it from legacy systems agreed as a key enabl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55600" indent="-255600">
              <a:lnSpc>
                <a:spcPct val="125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AUR then (Jan 09) commissioned the ‘Enduring Solution – Stage 2' (ES-S2) - with a principal focus of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28560" indent="-200880">
              <a:lnSpc>
                <a:spcPct val="125000"/>
              </a:lnSpc>
              <a:spcBef>
                <a:spcPts val="624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rriving at enduring market procedures and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28560" indent="-200880">
              <a:lnSpc>
                <a:spcPct val="125000"/>
              </a:lnSpc>
              <a:spcBef>
                <a:spcPts val="624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ppointing a Systems Integrator to deliver the Enduring Solu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55600" indent="-255600">
              <a:lnSpc>
                <a:spcPct val="125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imeframe is tight and the work programme challenging – given the need for NIE to work in synchronism with NIEES: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28560" indent="-200880">
              <a:lnSpc>
                <a:spcPct val="125000"/>
              </a:lnSpc>
              <a:spcBef>
                <a:spcPts val="624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it from legacy systems – large data migration exerci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28560" indent="-200880">
              <a:lnSpc>
                <a:spcPct val="125000"/>
              </a:lnSpc>
              <a:spcBef>
                <a:spcPts val="624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oing live simultaneously on totally separate system solu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22200" y="6559560"/>
            <a:ext cx="44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13BA-6595-476C-AB36-34128CA5E3CB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1"/>
          <p:cNvSpPr/>
          <p:nvPr/>
        </p:nvSpPr>
        <p:spPr>
          <a:xfrm>
            <a:off x="322200" y="6559560"/>
            <a:ext cx="44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3E41-08A2-4C29-93B7-D0B04F3721B3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257480" y="1184400"/>
            <a:ext cx="3389040" cy="591840"/>
          </a:xfrm>
          <a:prstGeom prst="rightArrow">
            <a:avLst>
              <a:gd name="adj1" fmla="val 67093"/>
              <a:gd name="adj2" fmla="val 96631"/>
            </a:avLst>
          </a:prstGeom>
          <a:solidFill>
            <a:srgbClr val="005c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Develop and Issue  R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4673520" y="1184400"/>
            <a:ext cx="1871640" cy="591840"/>
          </a:xfrm>
          <a:prstGeom prst="rightArrow">
            <a:avLst>
              <a:gd name="adj1" fmla="val 67093"/>
              <a:gd name="adj2" fmla="val 96644"/>
            </a:avLst>
          </a:prstGeom>
          <a:solidFill>
            <a:srgbClr val="005c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ssess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6545160" y="1184400"/>
            <a:ext cx="1203480" cy="591840"/>
          </a:xfrm>
          <a:prstGeom prst="rightArrow">
            <a:avLst>
              <a:gd name="adj1" fmla="val 67093"/>
              <a:gd name="adj2" fmla="val 96636"/>
            </a:avLst>
          </a:prstGeom>
          <a:solidFill>
            <a:srgbClr val="005c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874800" y="3078000"/>
            <a:ext cx="18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greement on Full Stage 2 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/>
          <p:cNvSpPr/>
          <p:nvPr/>
        </p:nvSpPr>
        <p:spPr>
          <a:xfrm>
            <a:off x="2117880" y="2747880"/>
            <a:ext cx="153720" cy="304920"/>
          </a:xfrm>
          <a:prstGeom prst="upArrow">
            <a:avLst>
              <a:gd name="adj1" fmla="val 50000"/>
              <a:gd name="adj2" fmla="val 49590"/>
            </a:avLst>
          </a:prstGeom>
          <a:solidFill>
            <a:srgbClr val="99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33360" y="1992240"/>
          <a:ext cx="8755200" cy="609840"/>
        </p:xfrm>
        <a:graphic>
          <a:graphicData uri="http://schemas.openxmlformats.org/drawingml/2006/table">
            <a:tbl>
              <a:tblPr/>
              <a:tblGrid>
                <a:gridCol w="625320"/>
                <a:gridCol w="625680"/>
                <a:gridCol w="625320"/>
                <a:gridCol w="625680"/>
                <a:gridCol w="625320"/>
                <a:gridCol w="625680"/>
                <a:gridCol w="625320"/>
                <a:gridCol w="625320"/>
                <a:gridCol w="624240"/>
                <a:gridCol w="626760"/>
                <a:gridCol w="625680"/>
                <a:gridCol w="625320"/>
                <a:gridCol w="625680"/>
                <a:gridCol w="623880"/>
              </a:tblGrid>
              <a:tr h="304920">
                <a:tc gridSpan="1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73" name="AutoShape 22"/>
          <p:cNvSpPr/>
          <p:nvPr/>
        </p:nvSpPr>
        <p:spPr>
          <a:xfrm>
            <a:off x="8817120" y="2747880"/>
            <a:ext cx="153720" cy="304920"/>
          </a:xfrm>
          <a:prstGeom prst="upArrow">
            <a:avLst>
              <a:gd name="adj1" fmla="val 50000"/>
              <a:gd name="adj2" fmla="val 49590"/>
            </a:avLst>
          </a:prstGeom>
          <a:solidFill>
            <a:srgbClr val="99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2"/>
          <p:cNvSpPr/>
          <p:nvPr/>
        </p:nvSpPr>
        <p:spPr>
          <a:xfrm>
            <a:off x="4653000" y="2747880"/>
            <a:ext cx="154080" cy="304920"/>
          </a:xfrm>
          <a:prstGeom prst="upArrow">
            <a:avLst>
              <a:gd name="adj1" fmla="val 50000"/>
              <a:gd name="adj2" fmla="val 49474"/>
            </a:avLst>
          </a:prstGeom>
          <a:solidFill>
            <a:srgbClr val="99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4181400" y="3078000"/>
            <a:ext cx="1101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Issue RFPs to Selected 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8366040" y="3063960"/>
            <a:ext cx="1482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vestment Appr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NIE, NIEES &amp; NIA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2"/>
          <p:cNvSpPr/>
          <p:nvPr/>
        </p:nvSpPr>
        <p:spPr>
          <a:xfrm>
            <a:off x="8269200" y="2747880"/>
            <a:ext cx="154080" cy="304920"/>
          </a:xfrm>
          <a:prstGeom prst="upArrow">
            <a:avLst>
              <a:gd name="adj1" fmla="val 50000"/>
              <a:gd name="adj2" fmla="val 49474"/>
            </a:avLst>
          </a:prstGeom>
          <a:solidFill>
            <a:srgbClr val="99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7216920" y="3078000"/>
            <a:ext cx="146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gree Contract with 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2"/>
          <p:cNvSpPr/>
          <p:nvPr/>
        </p:nvSpPr>
        <p:spPr>
          <a:xfrm>
            <a:off x="6832440" y="2747880"/>
            <a:ext cx="154080" cy="304920"/>
          </a:xfrm>
          <a:prstGeom prst="upArrow">
            <a:avLst>
              <a:gd name="adj1" fmla="val 50000"/>
              <a:gd name="adj2" fmla="val 49474"/>
            </a:avLst>
          </a:prstGeom>
          <a:solidFill>
            <a:srgbClr val="cac9a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6183360" y="3078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BA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7805880" y="1184400"/>
            <a:ext cx="1203120" cy="591840"/>
          </a:xfrm>
          <a:prstGeom prst="rightArrow">
            <a:avLst>
              <a:gd name="adj1" fmla="val 67093"/>
              <a:gd name="adj2" fmla="val 96607"/>
            </a:avLst>
          </a:prstGeom>
          <a:solidFill>
            <a:srgbClr val="005c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8"/>
          <p:cNvSpPr/>
          <p:nvPr/>
        </p:nvSpPr>
        <p:spPr>
          <a:xfrm>
            <a:off x="139680" y="1257480"/>
            <a:ext cx="876240" cy="482400"/>
          </a:xfrm>
          <a:prstGeom prst="rect">
            <a:avLst/>
          </a:prstGeom>
          <a:solidFill>
            <a:srgbClr val="005cbb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-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2"/>
          <p:cNvSpPr/>
          <p:nvPr/>
        </p:nvSpPr>
        <p:spPr>
          <a:xfrm>
            <a:off x="3382920" y="2747880"/>
            <a:ext cx="154080" cy="304920"/>
          </a:xfrm>
          <a:prstGeom prst="upArrow">
            <a:avLst>
              <a:gd name="adj1" fmla="val 50000"/>
              <a:gd name="adj2" fmla="val 49474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2886120" y="3078000"/>
            <a:ext cx="138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Bidders’ Confe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2"/>
          <p:cNvSpPr/>
          <p:nvPr/>
        </p:nvSpPr>
        <p:spPr>
          <a:xfrm>
            <a:off x="5872320" y="2747880"/>
            <a:ext cx="153720" cy="304920"/>
          </a:xfrm>
          <a:prstGeom prst="upArrow">
            <a:avLst>
              <a:gd name="adj1" fmla="val 50000"/>
              <a:gd name="adj2" fmla="val 49590"/>
            </a:avLst>
          </a:prstGeom>
          <a:solidFill>
            <a:srgbClr val="99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5438880" y="3078000"/>
            <a:ext cx="101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Bidders’ responses 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372960" y="576360"/>
            <a:ext cx="915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b3"/>
                </a:solidFill>
                <a:latin typeface="Arial"/>
              </a:rPr>
              <a:t>Stage 2 Original Time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2"/>
          <p:cNvSpPr/>
          <p:nvPr/>
        </p:nvSpPr>
        <p:spPr>
          <a:xfrm>
            <a:off x="3840120" y="2747880"/>
            <a:ext cx="154080" cy="304920"/>
          </a:xfrm>
          <a:prstGeom prst="upArrow">
            <a:avLst>
              <a:gd name="adj1" fmla="val 50000"/>
              <a:gd name="adj2" fmla="val 49474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33360" y="4799160"/>
          <a:ext cx="8931240" cy="609480"/>
        </p:xfrm>
        <a:graphic>
          <a:graphicData uri="http://schemas.openxmlformats.org/drawingml/2006/table">
            <a:tbl>
              <a:tblPr/>
              <a:tblGrid>
                <a:gridCol w="1109520"/>
                <a:gridCol w="1108080"/>
                <a:gridCol w="1109880"/>
                <a:gridCol w="1166760"/>
                <a:gridCol w="1109520"/>
                <a:gridCol w="1109880"/>
                <a:gridCol w="1108080"/>
                <a:gridCol w="1109520"/>
              </a:tblGrid>
              <a:tr h="304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000"/>
                      </a:solidFill>
                    </a:lnL>
                    <a:lnR w="13680">
                      <a:solidFill>
                        <a:srgbClr val="006000"/>
                      </a:solidFill>
                    </a:lnR>
                    <a:lnT w="13680">
                      <a:solidFill>
                        <a:srgbClr val="006000"/>
                      </a:solidFill>
                    </a:lnT>
                    <a:lnB w="13680">
                      <a:solidFill>
                        <a:srgbClr val="006000"/>
                      </a:solidFill>
                    </a:lnB>
                    <a:solidFill>
                      <a:srgbClr val="1aff1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000"/>
                      </a:solidFill>
                    </a:lnL>
                    <a:lnR w="13680">
                      <a:solidFill>
                        <a:srgbClr val="006000"/>
                      </a:solidFill>
                    </a:lnR>
                    <a:lnT w="13680">
                      <a:solidFill>
                        <a:srgbClr val="006000"/>
                      </a:solidFill>
                    </a:lnT>
                    <a:lnB w="13680">
                      <a:solidFill>
                        <a:srgbClr val="006000"/>
                      </a:solidFill>
                    </a:lnB>
                    <a:solidFill>
                      <a:srgbClr val="1aff1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000"/>
                      </a:solidFill>
                    </a:lnL>
                    <a:lnR w="13680">
                      <a:solidFill>
                        <a:srgbClr val="006000"/>
                      </a:solidFill>
                    </a:lnR>
                    <a:lnT w="13680">
                      <a:solidFill>
                        <a:srgbClr val="006000"/>
                      </a:solidFill>
                    </a:lnT>
                    <a:lnB w="13680">
                      <a:solidFill>
                        <a:srgbClr val="006000"/>
                      </a:solidFill>
                    </a:lnB>
                    <a:solidFill>
                      <a:srgbClr val="1aff1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000"/>
                      </a:solidFill>
                    </a:lnL>
                    <a:lnR w="13680">
                      <a:solidFill>
                        <a:srgbClr val="006000"/>
                      </a:solidFill>
                    </a:lnR>
                    <a:lnT w="13680">
                      <a:solidFill>
                        <a:srgbClr val="006000"/>
                      </a:solidFill>
                    </a:lnT>
                    <a:lnB w="13680">
                      <a:solidFill>
                        <a:srgbClr val="006000"/>
                      </a:solidFill>
                    </a:lnB>
                    <a:solidFill>
                      <a:srgbClr val="1aff1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000"/>
                      </a:solidFill>
                    </a:lnL>
                    <a:lnR w="13680">
                      <a:solidFill>
                        <a:srgbClr val="006000"/>
                      </a:solidFill>
                    </a:lnR>
                    <a:lnT w="13680">
                      <a:solidFill>
                        <a:srgbClr val="006000"/>
                      </a:solidFill>
                    </a:lnT>
                    <a:lnB w="13680">
                      <a:solidFill>
                        <a:srgbClr val="006000"/>
                      </a:solidFill>
                    </a:lnB>
                    <a:solidFill>
                      <a:srgbClr val="1aff1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000"/>
                      </a:solidFill>
                    </a:lnL>
                    <a:lnR w="13680">
                      <a:solidFill>
                        <a:srgbClr val="006000"/>
                      </a:solidFill>
                    </a:lnR>
                    <a:lnT w="13680">
                      <a:solidFill>
                        <a:srgbClr val="006000"/>
                      </a:solidFill>
                    </a:lnT>
                    <a:lnB w="13680">
                      <a:solidFill>
                        <a:srgbClr val="006000"/>
                      </a:solidFill>
                    </a:lnB>
                    <a:solidFill>
                      <a:srgbClr val="1aff1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000"/>
                      </a:solidFill>
                    </a:lnL>
                    <a:lnR w="13680">
                      <a:solidFill>
                        <a:srgbClr val="006000"/>
                      </a:solidFill>
                    </a:lnR>
                    <a:lnT w="13680">
                      <a:solidFill>
                        <a:srgbClr val="006000"/>
                      </a:solidFill>
                    </a:lnT>
                    <a:lnB w="13680">
                      <a:solidFill>
                        <a:srgbClr val="006000"/>
                      </a:solidFill>
                    </a:lnB>
                    <a:solidFill>
                      <a:srgbClr val="1aff1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000"/>
                      </a:solidFill>
                    </a:lnL>
                    <a:lnR w="13680">
                      <a:solidFill>
                        <a:srgbClr val="006000"/>
                      </a:solidFill>
                    </a:lnR>
                    <a:lnT w="13680">
                      <a:solidFill>
                        <a:srgbClr val="006000"/>
                      </a:solidFill>
                    </a:lnT>
                    <a:lnB w="13680">
                      <a:solidFill>
                        <a:srgbClr val="006000"/>
                      </a:solidFill>
                    </a:lnB>
                    <a:solidFill>
                      <a:srgbClr val="1aff1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000"/>
                      </a:solidFill>
                    </a:lnL>
                    <a:lnR w="13680">
                      <a:solidFill>
                        <a:srgbClr val="006000"/>
                      </a:solidFill>
                    </a:lnR>
                    <a:lnT w="13680">
                      <a:solidFill>
                        <a:srgbClr val="006000"/>
                      </a:solidFill>
                    </a:lnT>
                    <a:lnB w="13680">
                      <a:solidFill>
                        <a:srgbClr val="006000"/>
                      </a:solidFill>
                    </a:lnB>
                    <a:solidFill>
                      <a:srgbClr val="1aff1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000"/>
                      </a:solidFill>
                    </a:lnL>
                    <a:lnR w="13680">
                      <a:solidFill>
                        <a:srgbClr val="006000"/>
                      </a:solidFill>
                    </a:lnR>
                    <a:lnT w="13680">
                      <a:solidFill>
                        <a:srgbClr val="006000"/>
                      </a:solidFill>
                    </a:lnT>
                    <a:lnB w="13680">
                      <a:solidFill>
                        <a:srgbClr val="006000"/>
                      </a:solidFill>
                    </a:lnB>
                    <a:solidFill>
                      <a:srgbClr val="1aff1a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21"/>
          <p:cNvSpPr/>
          <p:nvPr/>
        </p:nvSpPr>
        <p:spPr>
          <a:xfrm>
            <a:off x="773280" y="5821200"/>
            <a:ext cx="18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000"/>
                </a:solidFill>
                <a:latin typeface="Arial"/>
              </a:rPr>
              <a:t>Complete Design 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2"/>
          <p:cNvSpPr/>
          <p:nvPr/>
        </p:nvSpPr>
        <p:spPr>
          <a:xfrm>
            <a:off x="1596960" y="5491080"/>
            <a:ext cx="154080" cy="304920"/>
          </a:xfrm>
          <a:prstGeom prst="upArrow">
            <a:avLst>
              <a:gd name="adj1" fmla="val 50000"/>
              <a:gd name="adj2" fmla="val 49474"/>
            </a:avLst>
          </a:prstGeom>
          <a:solidFill>
            <a:srgbClr val="99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eft-Right-Up Arrow 28"/>
          <p:cNvSpPr/>
          <p:nvPr/>
        </p:nvSpPr>
        <p:spPr>
          <a:xfrm>
            <a:off x="4343400" y="5511960"/>
            <a:ext cx="1638360" cy="304560"/>
          </a:xfrm>
          <a:prstGeom prst="pie">
            <a:avLst/>
          </a:prstGeom>
          <a:solidFill>
            <a:srgbClr val="99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4253040" y="5884920"/>
            <a:ext cx="18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000"/>
                </a:solidFill>
                <a:latin typeface="Arial"/>
              </a:rPr>
              <a:t>Complete Build 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eft-Right-Up Arrow 30"/>
          <p:cNvSpPr/>
          <p:nvPr/>
        </p:nvSpPr>
        <p:spPr>
          <a:xfrm>
            <a:off x="7607160" y="5524560"/>
            <a:ext cx="1422720" cy="291960"/>
          </a:xfrm>
          <a:prstGeom prst="pie">
            <a:avLst/>
          </a:prstGeom>
          <a:solidFill>
            <a:srgbClr val="99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7402680" y="5872320"/>
            <a:ext cx="18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000"/>
                </a:solidFill>
                <a:latin typeface="Arial"/>
              </a:rPr>
              <a:t>Go 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tle 1"/>
          <p:cNvSpPr/>
          <p:nvPr/>
        </p:nvSpPr>
        <p:spPr>
          <a:xfrm>
            <a:off x="233280" y="4183200"/>
            <a:ext cx="915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000"/>
                </a:solidFill>
                <a:latin typeface="Arial"/>
              </a:rPr>
              <a:t>Stage 3 Time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b3"/>
                </a:solidFill>
                <a:latin typeface="Arial"/>
              </a:rPr>
              <a:t>Industry Engagement</a:t>
            </a: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4120" y="1310760"/>
            <a:ext cx="915984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125000"/>
              </a:lnSpc>
              <a:spcBef>
                <a:spcPts val="125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IAUR established Enduring Solution Steering Group (ESSG) in mid February 09 – currently comprising NIAUR, GCCNI, NIE and  Supplier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>
              <a:lnSpc>
                <a:spcPct val="125000"/>
              </a:lnSpc>
              <a:spcBef>
                <a:spcPts val="125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IE has brought forward proposals for: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 algn="just">
              <a:spcBef>
                <a:spcPts val="1250"/>
              </a:spcBef>
              <a:buClr>
                <a:srgbClr val="ff0000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 algn="just">
              <a:spcBef>
                <a:spcPts val="1250"/>
              </a:spcBef>
              <a:buClr>
                <a:srgbClr val="ff0000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 algn="just">
              <a:spcBef>
                <a:spcPts val="1250"/>
              </a:spcBef>
              <a:buClr>
                <a:srgbClr val="ff0000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>
              <a:lnSpc>
                <a:spcPct val="125000"/>
              </a:lnSpc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lso included are assumptions and proposals around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 algn="just"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22200" y="6559560"/>
            <a:ext cx="44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364D-3774-41B5-9953-D80CC1950ABE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27200" y="2701800"/>
          <a:ext cx="6350040" cy="1112760"/>
        </p:xfrm>
        <a:graphic>
          <a:graphicData uri="http://schemas.openxmlformats.org/drawingml/2006/table">
            <a:tbl>
              <a:tblPr/>
              <a:tblGrid>
                <a:gridCol w="3174840"/>
                <a:gridCol w="3175200"/>
              </a:tblGrid>
              <a:tr h="371160"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hange of Suppl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Unmetered Regist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Fieldwork Appoint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Fieldwork Process Auto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dditional Messag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mart Metering Rea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006560" y="4533840"/>
          <a:ext cx="7569000" cy="371520"/>
        </p:xfrm>
        <a:graphic>
          <a:graphicData uri="http://schemas.openxmlformats.org/drawingml/2006/table">
            <a:tbl>
              <a:tblPr/>
              <a:tblGrid>
                <a:gridCol w="3784320"/>
                <a:gridCol w="3784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Global Aggre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UoS Bi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727200"/>
            <a:ext cx="915984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b3"/>
                </a:solidFill>
                <a:latin typeface="Arial"/>
              </a:rPr>
              <a:t>Global Aggregation</a:t>
            </a: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3640" y="1922040"/>
            <a:ext cx="9026280" cy="38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 algn="just"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rinciple of equitable treatment for all suppliers must appl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 algn="just"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urrently – the method of differencing is used in both NI and RoI to determine the energy volumes allocated to incumben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 algn="just"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otentially – global aggregation may be introduced which aggregates consumption for all suppliers in a similar mann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 algn="just"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he enduring solution will be capable of aggregating 1 million MPRN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22200" y="6559560"/>
            <a:ext cx="44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DCB8-EA03-4E1D-88BC-B0DC01F48D84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1"/>
          <p:cNvSpPr/>
          <p:nvPr/>
        </p:nvSpPr>
        <p:spPr>
          <a:xfrm>
            <a:off x="322200" y="6559560"/>
            <a:ext cx="44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25A3-20F1-4D52-BCB2-5181D6703BBE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le 1"/>
          <p:cNvSpPr/>
          <p:nvPr/>
        </p:nvSpPr>
        <p:spPr>
          <a:xfrm>
            <a:off x="372960" y="576360"/>
            <a:ext cx="915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lobal energy sett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343080" y="1324080"/>
            <a:ext cx="920736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 algn="just">
              <a:lnSpc>
                <a:spcPct val="125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irection / agreement required from CER and NIA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25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odification required to the Trading and Settlement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25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pproach to smearing of any variance to be agr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25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f implemented:  detailed rules would be developed through SEM modifications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368280" y="4878360"/>
            <a:ext cx="9245520" cy="825480"/>
          </a:xfrm>
          <a:prstGeom prst="rect">
            <a:avLst/>
          </a:prstGeom>
          <a:solidFill>
            <a:srgbClr val="eded03"/>
          </a:solidFill>
          <a:ln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 decision on introducing Global settlement is not within scope for ESSG – it is a regulatory and wholesale market ‘all island’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9:13:56Z</dcterms:created>
  <dc:creator>CDS</dc:creator>
  <dc:description/>
  <dc:language>en-US</dc:language>
  <cp:lastModifiedBy>Aisling O'Donnell</cp:lastModifiedBy>
  <cp:lastPrinted>2008-07-29T16:41:07Z</cp:lastPrinted>
  <dcterms:modified xsi:type="dcterms:W3CDTF">2009-11-18T17:31:58Z</dcterms:modified>
  <cp:revision>417</cp:revision>
  <dc:subject/>
  <dc:title>Slide 1</dc:title>
</cp:coreProperties>
</file>