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67D-E618-4A6E-B4E6-C3C525E3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EE1-8602-413D-B3F6-0F1C008E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2A2-A613-4716-8BDB-C53E7852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711-B645-47CC-B122-15A07D8C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4BC-43D0-4AF1-8C04-9B583C6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9C8-5EEA-4815-9067-476BBCD1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129-79FB-44ED-893C-2204E03A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CB9-7792-445B-8F5E-88E414FF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475-0E9A-4577-9F76-3AE37B5E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961-7F0E-4CBC-8EA5-2F1C4850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901-8BDF-41DE-A429-3F05D2B9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13F-E654-49A7-9738-8F2839C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2AC5-6104-4560-9093-866A8B0C9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islandmarket.com/modifications_committee/modification_proposals/image.aspx?id=30fde873-75c6-403c-b68b-f406b1ddf4f4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lternative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B Custom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xisting Mod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d 34_09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posed at meeting to initi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gister different QH and NQH 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ption to register differently in NI &amp;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alculate residual on half-hourly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cale suppliers’ volumes for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ros and Cons of 34_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eats similar suppliers identically, no Error Sup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lexible implement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plex and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ettlements for M+13 and long-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t predictable for tariff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lternative 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ve existing Error Suppliers to regular aggregated 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 errors to be held by non-competing party to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 adjustment withi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nual residual put into following year’s losses or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eats similar suppliers identically, no Error Sup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edictable loss factors for tariff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 additional prior year adju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es Global aggregation hand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+4, M+13, ad-hoc and long-term consumption adju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QH &amp; NQ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I &amp; R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ocation of res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n-standard metering- legacy, micro-g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2:02:33Z</dcterms:created>
  <dc:creator>Lowe_J</dc:creator>
  <dc:description/>
  <dc:language>en-US</dc:language>
  <cp:lastModifiedBy>Aisling O'Donnell</cp:lastModifiedBy>
  <dcterms:modified xsi:type="dcterms:W3CDTF">2009-11-19T12:44:48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27881263</vt:r8>
  </property>
  <property fmtid="{D5CDD505-2E9C-101B-9397-08002B2CF9AE}" pid="3" name="_AuthorEmail">
    <vt:lpwstr>Stephen.Walsh@esb.ie</vt:lpwstr>
  </property>
  <property fmtid="{D5CDD505-2E9C-101B-9397-08002B2CF9AE}" pid="4" name="_AuthorEmailDisplayName">
    <vt:lpwstr>Walsh. Stephen (Customer Supply)</vt:lpwstr>
  </property>
  <property fmtid="{D5CDD505-2E9C-101B-9397-08002B2CF9AE}" pid="5" name="_EmailSubject">
    <vt:lpwstr>Global Aggregation Workshop 1 v2.ppt</vt:lpwstr>
  </property>
  <property fmtid="{D5CDD505-2E9C-101B-9397-08002B2CF9AE}" pid="6" name="_ReviewingToolsShownOnce">
    <vt:lpwstr/>
  </property>
</Properties>
</file>