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 " initials=" 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9-11-18T11:59:22.317000000" idx="1">
    <p:pos x="4947" y="3388"/>
    <p:text>Do we need to mention that GB correction could be applied to both HH and NHH, it's just that HH has a 0 weighting ton the basis that NHH is deemed to be the primary source of the variance(is my understanding correct?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4D7-918B-4F62-B663-5C4C3E18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35E-2624-4AFD-A492-6F1F335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249-2F91-4AF7-8284-86AE1599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E1D-67DE-4196-B735-10CC39EE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DFFF4-A5C6-42E6-BBDC-375DA0F73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0E82-95E5-4DE3-842D-D592EA906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9621-C44D-4332-8F54-CAB42356A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ED3C8-EF1E-4486-8635-C7130952D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BF66-B216-4A87-AFB1-EA81925AFC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67E87-0B3A-4B52-BBA5-C5CCFD0EAF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C8C1-3764-4C25-9FEB-2E32F254F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8B0-6642-45D2-91C3-264FE1F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51AD9-2D53-4E87-B9AD-37B03EF915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41AA7-5C77-4B21-8CAB-09908BCF10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437B-F3C0-4302-A88A-9D6D6F758F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0C127-C576-4723-9792-32E2133F7C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13E6-408F-4FB7-B383-88CAECB2E3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C6D8F-2DA0-4894-87C8-F9CDBDC2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3E89B-1145-4EBE-9F73-A84394C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21C74-AA84-4343-B99C-40B42AB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B2093-3252-4331-9769-0600F9A7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3319F-B039-478D-AC8F-E93F1E2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F4A-02EC-416A-86D0-AEDCCE1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85AE1-C35C-4F11-8D1D-C34027B5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8ECD7-0214-4FDA-A19E-86A6C13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DBCE0-132B-4FB7-9D5F-3E711B5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1FC74-2B05-4732-9BEE-5E6BEE0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E2415-D3A4-45E3-93AB-ED2DC8CE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F8A40-66C0-4A9B-9D45-1AEED8BE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9AB7F-D3E4-40A7-B88D-4656C797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6BF9B-EAE1-4050-A764-E760AFBB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FCF1E-5ED0-45EC-9CD8-6488E6D9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92FB0-C115-4DC6-B3F6-1117DAD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68C-4DB9-4643-AC53-B786318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DC136-AAEA-4AF4-82EE-3F2724A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3E5CC-F5F6-445D-AF11-65AE6C5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C1125-48B8-440E-AAE4-FF028C29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4D984-E6BD-4C53-A741-BD25A71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246CA-602D-4D4A-85E7-587260A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619DB-5F5E-4D62-9CD3-D5CEB90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5A3AA-C759-4704-92EB-A0E1272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D8608-6A5D-4372-8BBF-BD6562A7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D11CA-A844-486A-B66B-7644A9A1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87B4C-86D6-416C-8F26-8EFED053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80E-A791-4BE4-AE21-A27E0FA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8B831-E105-44A4-A6C6-154043F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35FF3-060F-4CE1-A8A2-D75B01B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7A8D4-0228-49BF-8BF1-27F0FBB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0C1C4-0A34-4D1C-BAF4-D9B438D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B6D2F-3AF6-4E3C-BDCC-6B3965D2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E7CD7-1B71-44BA-9A6E-B9EDB8D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B7F6D-060E-421B-A752-4EEC728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CE519-DF99-4F69-A22E-EFB2DA5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B5B96-890D-4D2D-9F39-E59C9BB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E71AF-9116-4656-B7EF-0C604F06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7F2-8C0D-4BAB-ADB8-779F04E2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23E8A-E80C-4FC3-960F-15B2A813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5F3E0-3AC0-421A-9F59-FBB14826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3238C-B568-40BD-B758-D0DEF287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FB2AE-725F-4F5F-B66C-92BD2AB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67638-57DD-4157-B8CA-7DD7E4EE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53B57-7A93-4DBB-AFC0-576AD14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C0E46-1614-4DDE-8E7D-3869307D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EF4A5-E559-40A8-A0D6-68A7B01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433F7-8562-462B-921A-C955008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D8B29-34A7-47ED-92CE-AC8113B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D5C-A7BC-4E0A-B22C-481E91C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067E2-DC3A-4755-A655-F3F57BD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9D18A-0F3B-4BED-A73E-907BE4BD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5688E-DE44-47EA-B22D-6EEFD066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75ADE-3043-4BB0-8179-E25F9BA8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6E425-5D43-41D5-8B77-B2B7279A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BE83F-815F-4276-9249-843822F0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D370A-6FDE-445B-A779-20BCF5B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A83CE-4734-43AB-9ACB-6CA964D4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87E26-BE0D-404F-A27B-ADFA441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D21E4-ADF0-4128-A477-6EAD33E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FF1-EB0E-43C4-982B-AEC7AF4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23A29-6A3A-40AA-B926-1F65A58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34831-5E0F-48BB-97F8-865CF34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14A73-19B3-4EB0-AA5F-B8F7C9A4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A2A5A-5EAF-4EEC-94D3-0C0AE2E5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19DFF-D1C8-4020-B3F1-2AF3EF5B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8DC9FC-2424-4A7F-B9FB-DA607AF8990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BF4ABD-A98D-4651-AF02-358CCB136E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9AB24-2BF0-4E4F-B075-8E0DF2D659D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10E0C3-36F5-4458-86B3-AE55B88EE8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B9629-1A0B-48F1-8765-30752933E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D81-9728-4165-B41F-C88E0CE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E7D7A-EB11-4DA8-AF5C-F909F5AEFE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412486-7C9B-4C8F-A0D9-BDF20BCCF4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D35E4-74C6-4B71-ACF9-85009DDE31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36BB2-3DB6-4E29-BCFF-574C898FE3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476486-4D05-4848-A76B-4897AEB2A0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A9A29-A71F-48DD-A2F5-DF0CE51B66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C61E2E-A71C-48DB-AD7B-A6B52A4B8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6B66-D828-4E52-B6F6-E58477274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ll marks horizontal copy.jpg"/>
          <p:cNvPicPr/>
          <p:nvPr/>
        </p:nvPicPr>
        <p:blipFill>
          <a:blip r:embed="rId3"/>
          <a:stretch/>
        </p:blipFill>
        <p:spPr>
          <a:xfrm>
            <a:off x="142920" y="6161040"/>
            <a:ext cx="2971800" cy="55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Gemserv Logo Green.jpg"/>
          <p:cNvPicPr/>
          <p:nvPr/>
        </p:nvPicPr>
        <p:blipFill>
          <a:blip r:embed="rId4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A600-6C10-4CA1-AED0-5585B1A16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emserv Logo Green.jpg"/>
          <p:cNvPicPr/>
          <p:nvPr/>
        </p:nvPicPr>
        <p:blipFill>
          <a:blip r:embed="rId2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84" name="Group 20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139-CFEF-4108-A7CF-FC289C9B2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BE1-2C58-472F-B657-DC383794E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Group 6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EA6-71F8-43E4-B0D5-109100D75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Gemserv Logo Green.jpg"/>
          <p:cNvPicPr/>
          <p:nvPr/>
        </p:nvPicPr>
        <p:blipFill>
          <a:blip r:embed="rId2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212" name="Group 7" descr=""/>
          <p:cNvPicPr/>
          <p:nvPr/>
        </p:nvPicPr>
        <p:blipFill>
          <a:blip r:embed="rId3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6F4-8FBB-452C-AA29-113694BD3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Group 6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343080" cy="6896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8FD-2A90-48E5-8415-D024B922D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Gemserv Logo Green.jpg"/>
          <p:cNvPicPr/>
          <p:nvPr/>
        </p:nvPicPr>
        <p:blipFill>
          <a:blip r:embed="rId3"/>
          <a:stretch/>
        </p:blipFill>
        <p:spPr>
          <a:xfrm>
            <a:off x="7147080" y="6086520"/>
            <a:ext cx="1782720" cy="6285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7C6-6F02-429E-A20D-5053E21E9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1467000"/>
            <a:ext cx="48765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sentation to the Global Aggregation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514600" y="4800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Malcolm Row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Arial"/>
              </a:rPr>
              <a:t>19</a:t>
            </a:r>
            <a:r>
              <a:rPr b="0" lang="en-GB" sz="20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898989"/>
                </a:solidFill>
                <a:latin typeface="Arial"/>
              </a:rPr>
              <a:t>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ADRs by Day Type and Settle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074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Definition of Annual Demand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ADR is (annual GSP Group Take minus annual HH consumption) / (total annual profiled NHH consumption) or equivalentl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37373"/>
                </a:solidFill>
                <a:latin typeface="Arial"/>
              </a:rPr>
              <a:t>annual corrected / annual uncorrected consumption, which equates t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37373"/>
                </a:solidFill>
                <a:latin typeface="Arial"/>
              </a:rPr>
              <a:t>average annual GG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ADRs based on latest Settlement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501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Distribution of Half-Hour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Correction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% of Non Interval Energy Settled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n AUFs at M+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3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Transmission losses (%) based on first reconciliation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7929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utlin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Generic requirements for any competitiv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IE Enduring Solution Proj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Experience from an adjacent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Generic requirements for any </a:t>
            </a:r>
            <a:br>
              <a:rPr sz="3200"/>
            </a:b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competitive utility</a:t>
            </a:r>
            <a:r>
              <a:rPr b="0" lang="en-GB" sz="32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o unreasonable </a:t>
            </a: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barriers to entry or ex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Central market processes should be efficient, economical </a:t>
            </a: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nd fully transparent to th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ppropriate 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Arial"/>
              </a:rPr>
              <a:t>Appropriate market and performance assurance to provide market conf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A level playing field for all particip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NIE’s Enduring Solu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680" y="15001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NIAUR has asked NIE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include the capability to support Global Aggregation in their MDP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systems should be available ASAP (end of 2011/early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ensure that systems are not be dependent on SEMO Global Aggregation being introduce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37373"/>
                </a:solidFill>
                <a:latin typeface="Arial"/>
              </a:rPr>
              <a:t>Ensure that systems operate on the basis of PES aggregation only, in any interim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Jurisdictional Settlement Period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Residual Meter Volu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71680" y="164268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Meter inaccuracies (CoP and Certifi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MS supplied estimation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se of annual Transmission 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Use of annual Distribution NW  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Less than 100% of MPs being reconciled using actual meter 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Profiling err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Energy Settlement by Differenc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"/>
          <p:cNvSpPr/>
          <p:nvPr/>
        </p:nvSpPr>
        <p:spPr>
          <a:xfrm>
            <a:off x="2770200" y="1647720"/>
            <a:ext cx="3483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4"/>
          <p:cNvSpPr/>
          <p:nvPr/>
        </p:nvSpPr>
        <p:spPr>
          <a:xfrm>
            <a:off x="2398680" y="2720880"/>
            <a:ext cx="3483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lowchart: Or 5"/>
          <p:cNvSpPr/>
          <p:nvPr/>
        </p:nvSpPr>
        <p:spPr>
          <a:xfrm>
            <a:off x="906480" y="5838840"/>
            <a:ext cx="484200" cy="401760"/>
          </a:xfrm>
          <a:prstGeom prst="flowChar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lowchart: Process 6"/>
          <p:cNvSpPr/>
          <p:nvPr/>
        </p:nvSpPr>
        <p:spPr>
          <a:xfrm>
            <a:off x="550800" y="3400560"/>
            <a:ext cx="1197000" cy="550800"/>
          </a:xfrm>
          <a:prstGeom prst="flowChartProcess">
            <a:avLst/>
          </a:prstGeom>
          <a:solidFill>
            <a:srgbClr val="86a64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a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576000" y="626256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N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(STS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8"/>
          <p:cNvCxnSpPr>
            <a:stCxn id="351" idx="0"/>
            <a:endCxn id="355" idx="2"/>
          </p:cNvCxnSpPr>
          <p:nvPr/>
        </p:nvCxnSpPr>
        <p:spPr>
          <a:xfrm flipV="1">
            <a:off x="1146600" y="5316120"/>
            <a:ext cx="252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6" name="Straight Arrow Connector 9"/>
          <p:cNvCxnSpPr>
            <a:stCxn id="355" idx="0"/>
            <a:endCxn id="352" idx="2"/>
          </p:cNvCxnSpPr>
          <p:nvPr/>
        </p:nvCxnSpPr>
        <p:spPr>
          <a:xfrm flipV="1">
            <a:off x="1146600" y="3952440"/>
            <a:ext cx="2520" cy="81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TextBox 14"/>
          <p:cNvSpPr/>
          <p:nvPr/>
        </p:nvSpPr>
        <p:spPr>
          <a:xfrm>
            <a:off x="681840" y="549108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528480" y="4143240"/>
            <a:ext cx="1241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AUFs and EU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2390760" y="2714760"/>
            <a:ext cx="1022400" cy="103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Profiled Demand for NHH custom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Elbow Connector 13"/>
          <p:cNvCxnSpPr>
            <a:stCxn id="352" idx="3"/>
            <a:endCxn id="359" idx="1"/>
          </p:cNvCxnSpPr>
          <p:nvPr/>
        </p:nvCxnSpPr>
        <p:spPr>
          <a:xfrm flipV="1">
            <a:off x="1747800" y="3231360"/>
            <a:ext cx="643320" cy="445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1" name="Straight Connector 14"/>
          <p:cNvSpPr/>
          <p:nvPr/>
        </p:nvSpPr>
        <p:spPr>
          <a:xfrm flipH="1" flipV="1">
            <a:off x="-360" y="4879440"/>
            <a:ext cx="8767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7597800" y="1322280"/>
            <a:ext cx="1263600" cy="357192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Generato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6541920" y="1327320"/>
            <a:ext cx="1032120" cy="30924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Tran Los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5264280" y="1623960"/>
            <a:ext cx="1265040" cy="3270240"/>
          </a:xfrm>
          <a:prstGeom prst="rect">
            <a:avLst/>
          </a:prstGeom>
          <a:solidFill>
            <a:srgbClr val="00b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Units delivered to BSP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Each Jurisdi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2376360" y="3759120"/>
            <a:ext cx="1028880" cy="1068480"/>
          </a:xfrm>
          <a:prstGeom prst="rect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HHM metere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lowchart: Process 20"/>
          <p:cNvSpPr/>
          <p:nvPr/>
        </p:nvSpPr>
        <p:spPr>
          <a:xfrm>
            <a:off x="550800" y="4765680"/>
            <a:ext cx="1197000" cy="550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lowchart: Or 21"/>
          <p:cNvSpPr/>
          <p:nvPr/>
        </p:nvSpPr>
        <p:spPr>
          <a:xfrm>
            <a:off x="906480" y="1347840"/>
            <a:ext cx="484200" cy="401760"/>
          </a:xfrm>
          <a:prstGeom prst="flowChartOr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lowchart: Process 22"/>
          <p:cNvSpPr/>
          <p:nvPr/>
        </p:nvSpPr>
        <p:spPr>
          <a:xfrm>
            <a:off x="550800" y="2386080"/>
            <a:ext cx="1197000" cy="550800"/>
          </a:xfrm>
          <a:prstGeom prst="flowChartProcess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632160" y="10717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4"/>
          <p:cNvCxnSpPr>
            <a:stCxn id="366" idx="4"/>
          </p:cNvCxnSpPr>
          <p:nvPr/>
        </p:nvCxnSpPr>
        <p:spPr>
          <a:xfrm flipH="1">
            <a:off x="1146960" y="1749600"/>
            <a:ext cx="2520" cy="63720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370" name="Straight Arrow Connector 25"/>
          <p:cNvCxnSpPr/>
          <p:nvPr/>
        </p:nvCxnSpPr>
        <p:spPr>
          <a:xfrm flipH="1">
            <a:off x="1146960" y="2936880"/>
            <a:ext cx="2520" cy="46584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371" name="TextBox 14"/>
          <p:cNvSpPr/>
          <p:nvPr/>
        </p:nvSpPr>
        <p:spPr>
          <a:xfrm>
            <a:off x="688320" y="192888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Elbow Connector 27"/>
          <p:cNvCxnSpPr>
            <a:endCxn id="352" idx="1"/>
          </p:cNvCxnSpPr>
          <p:nvPr/>
        </p:nvCxnSpPr>
        <p:spPr>
          <a:xfrm>
            <a:off x="175680" y="3247560"/>
            <a:ext cx="37548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Elbow Connector 28"/>
          <p:cNvCxnSpPr>
            <a:endCxn id="352" idx="1"/>
          </p:cNvCxnSpPr>
          <p:nvPr/>
        </p:nvCxnSpPr>
        <p:spPr>
          <a:xfrm flipV="1">
            <a:off x="171360" y="3675960"/>
            <a:ext cx="380160" cy="44028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4" name="Elbow Connector 29"/>
          <p:cNvCxnSpPr>
            <a:stCxn id="352" idx="3"/>
            <a:endCxn id="365" idx="1"/>
          </p:cNvCxnSpPr>
          <p:nvPr/>
        </p:nvCxnSpPr>
        <p:spPr>
          <a:xfrm>
            <a:off x="1747800" y="3676320"/>
            <a:ext cx="629280" cy="618120"/>
          </a:xfrm>
          <a:prstGeom prst="bentConnector3">
            <a:avLst>
              <a:gd name="adj1" fmla="val 499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Rectangle 30"/>
          <p:cNvSpPr/>
          <p:nvPr/>
        </p:nvSpPr>
        <p:spPr>
          <a:xfrm>
            <a:off x="3805200" y="1649520"/>
            <a:ext cx="1030320" cy="1079280"/>
          </a:xfrm>
          <a:prstGeom prst="rect">
            <a:avLst/>
          </a:prstGeom>
          <a:solidFill>
            <a:srgbClr val="c00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8"/>
          <p:cNvSpPr/>
          <p:nvPr/>
        </p:nvSpPr>
        <p:spPr>
          <a:xfrm>
            <a:off x="4745160" y="5000760"/>
            <a:ext cx="43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Residual volume assigned to NIEES /ESBN using Error Supplier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9"/>
          <p:cNvSpPr/>
          <p:nvPr/>
        </p:nvSpPr>
        <p:spPr>
          <a:xfrm>
            <a:off x="1857240" y="5857920"/>
            <a:ext cx="56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etered or profiled volumes are uplifted in DA to reflect distribution lin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hape 33"/>
          <p:cNvCxnSpPr>
            <a:stCxn id="376" idx="1"/>
            <a:endCxn id="375" idx="2"/>
          </p:cNvCxnSpPr>
          <p:nvPr/>
        </p:nvCxnSpPr>
        <p:spPr>
          <a:xfrm rot="10800000">
            <a:off x="4320360" y="2728080"/>
            <a:ext cx="424800" cy="25963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79" name="Elbow Connector 38"/>
          <p:cNvCxnSpPr>
            <a:stCxn id="359" idx="3"/>
          </p:cNvCxnSpPr>
          <p:nvPr/>
        </p:nvCxnSpPr>
        <p:spPr>
          <a:xfrm>
            <a:off x="3413160" y="3232080"/>
            <a:ext cx="364320" cy="2697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f7f7f"/>
                </a:solidFill>
                <a:latin typeface="Arial"/>
              </a:rPr>
              <a:t>Energy Settlement - Glob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43"/>
          <p:cNvSpPr/>
          <p:nvPr/>
        </p:nvSpPr>
        <p:spPr>
          <a:xfrm>
            <a:off x="3359160" y="1279440"/>
            <a:ext cx="298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75"/>
          <p:cNvSpPr/>
          <p:nvPr/>
        </p:nvSpPr>
        <p:spPr>
          <a:xfrm>
            <a:off x="3349800" y="1549440"/>
            <a:ext cx="291960" cy="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lowchart: Or 5"/>
          <p:cNvSpPr/>
          <p:nvPr/>
        </p:nvSpPr>
        <p:spPr>
          <a:xfrm>
            <a:off x="735120" y="5627520"/>
            <a:ext cx="484200" cy="401760"/>
          </a:xfrm>
          <a:prstGeom prst="flowChar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lowchart: Process 6"/>
          <p:cNvSpPr/>
          <p:nvPr/>
        </p:nvSpPr>
        <p:spPr>
          <a:xfrm>
            <a:off x="379440" y="3189240"/>
            <a:ext cx="1197000" cy="550800"/>
          </a:xfrm>
          <a:prstGeom prst="flowChartProcess">
            <a:avLst/>
          </a:prstGeom>
          <a:solidFill>
            <a:srgbClr val="86a64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a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7"/>
          <p:cNvCxnSpPr>
            <a:stCxn id="383" idx="0"/>
            <a:endCxn id="386" idx="2"/>
          </p:cNvCxnSpPr>
          <p:nvPr/>
        </p:nvCxnSpPr>
        <p:spPr>
          <a:xfrm flipV="1">
            <a:off x="976320" y="5105160"/>
            <a:ext cx="216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>
            <a:stCxn id="386" idx="0"/>
            <a:endCxn id="384" idx="2"/>
          </p:cNvCxnSpPr>
          <p:nvPr/>
        </p:nvCxnSpPr>
        <p:spPr>
          <a:xfrm flipV="1">
            <a:off x="976320" y="3741120"/>
            <a:ext cx="2160" cy="81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TextBox 14"/>
          <p:cNvSpPr/>
          <p:nvPr/>
        </p:nvSpPr>
        <p:spPr>
          <a:xfrm>
            <a:off x="510480" y="524016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57120" y="3857760"/>
            <a:ext cx="1241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AUFs and EU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2333520" y="1373040"/>
            <a:ext cx="1022400" cy="16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Profiled Demand for NHH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Include DN LLF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Elbow Connector 19"/>
          <p:cNvCxnSpPr>
            <a:stCxn id="384" idx="3"/>
            <a:endCxn id="390" idx="1"/>
          </p:cNvCxnSpPr>
          <p:nvPr/>
        </p:nvCxnSpPr>
        <p:spPr>
          <a:xfrm flipV="1">
            <a:off x="1588680" y="2180520"/>
            <a:ext cx="732600" cy="1284840"/>
          </a:xfrm>
          <a:prstGeom prst="bentConnector3">
            <a:avLst>
              <a:gd name="adj1" fmla="val 49852"/>
            </a:avLst>
          </a:prstGeom>
          <a:ln w="9360">
            <a:solidFill>
              <a:srgbClr val="ed8700"/>
            </a:solidFill>
            <a:miter/>
            <a:tailEnd len="med" type="arrow" w="med"/>
          </a:ln>
        </p:spPr>
      </p:cxnSp>
      <p:sp>
        <p:nvSpPr>
          <p:cNvPr id="392" name="Straight Connector 13"/>
          <p:cNvSpPr/>
          <p:nvPr/>
        </p:nvSpPr>
        <p:spPr>
          <a:xfrm flipH="1" flipV="1">
            <a:off x="604440" y="4893840"/>
            <a:ext cx="8767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7426440" y="1111320"/>
            <a:ext cx="1263600" cy="357192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Generato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2332080" y="3011400"/>
            <a:ext cx="1028520" cy="1635120"/>
          </a:xfrm>
          <a:prstGeom prst="rect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HHM metere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Include DN LLF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lowchart: Process 17"/>
          <p:cNvSpPr/>
          <p:nvPr/>
        </p:nvSpPr>
        <p:spPr>
          <a:xfrm>
            <a:off x="379440" y="4554360"/>
            <a:ext cx="1197000" cy="551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Or 18"/>
          <p:cNvSpPr/>
          <p:nvPr/>
        </p:nvSpPr>
        <p:spPr>
          <a:xfrm>
            <a:off x="735120" y="1320840"/>
            <a:ext cx="484200" cy="401760"/>
          </a:xfrm>
          <a:prstGeom prst="flowChartOr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Process 19"/>
          <p:cNvSpPr/>
          <p:nvPr/>
        </p:nvSpPr>
        <p:spPr>
          <a:xfrm>
            <a:off x="379440" y="2174760"/>
            <a:ext cx="1197000" cy="550800"/>
          </a:xfrm>
          <a:prstGeom prst="flowChartProcess">
            <a:avLst/>
          </a:prstGeom>
          <a:solidFill>
            <a:srgbClr val="37609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Meter data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460800" y="10447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H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21"/>
          <p:cNvCxnSpPr/>
          <p:nvPr/>
        </p:nvCxnSpPr>
        <p:spPr>
          <a:xfrm flipH="1">
            <a:off x="975960" y="1722600"/>
            <a:ext cx="2160" cy="45288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399" name="Straight Arrow Connector 22"/>
          <p:cNvCxnSpPr/>
          <p:nvPr/>
        </p:nvCxnSpPr>
        <p:spPr>
          <a:xfrm flipH="1">
            <a:off x="975960" y="2725200"/>
            <a:ext cx="2160" cy="466200"/>
          </a:xfrm>
          <a:prstGeom prst="straightConnector1">
            <a:avLst/>
          </a:prstGeom>
          <a:ln w="93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400" name="TextBox 14"/>
          <p:cNvSpPr/>
          <p:nvPr/>
        </p:nvSpPr>
        <p:spPr>
          <a:xfrm>
            <a:off x="564480" y="1774800"/>
            <a:ext cx="933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Elbow Connector 24"/>
          <p:cNvCxnSpPr>
            <a:endCxn id="384" idx="1"/>
          </p:cNvCxnSpPr>
          <p:nvPr/>
        </p:nvCxnSpPr>
        <p:spPr>
          <a:xfrm>
            <a:off x="4320" y="3036960"/>
            <a:ext cx="375480" cy="4291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Elbow Connector 25"/>
          <p:cNvCxnSpPr>
            <a:endCxn id="384" idx="1"/>
          </p:cNvCxnSpPr>
          <p:nvPr/>
        </p:nvCxnSpPr>
        <p:spPr>
          <a:xfrm flipV="1">
            <a:off x="0" y="3465000"/>
            <a:ext cx="380160" cy="44064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3" name="Elbow Connector 26"/>
          <p:cNvCxnSpPr>
            <a:stCxn id="384" idx="3"/>
            <a:endCxn id="394" idx="1"/>
          </p:cNvCxnSpPr>
          <p:nvPr/>
        </p:nvCxnSpPr>
        <p:spPr>
          <a:xfrm>
            <a:off x="1576080" y="3465360"/>
            <a:ext cx="756360" cy="364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4" name="TextBox 68"/>
          <p:cNvSpPr/>
          <p:nvPr/>
        </p:nvSpPr>
        <p:spPr>
          <a:xfrm>
            <a:off x="4500720" y="4786200"/>
            <a:ext cx="439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Variance is ‘smeared’ across Suppliers, method to be determined through SEMO (</a:t>
            </a: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n GB applied to NHH volum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hape 73"/>
          <p:cNvCxnSpPr>
            <a:endCxn id="406" idx="2"/>
          </p:cNvCxnSpPr>
          <p:nvPr/>
        </p:nvCxnSpPr>
        <p:spPr>
          <a:xfrm rot="10800000">
            <a:off x="4403160" y="1590120"/>
            <a:ext cx="86400" cy="3639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07" name="TextBox 69"/>
          <p:cNvSpPr/>
          <p:nvPr/>
        </p:nvSpPr>
        <p:spPr>
          <a:xfrm>
            <a:off x="1428840" y="5857920"/>
            <a:ext cx="56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etered or profiled volumes are uplifted in DA to reflect distribution line losses (reports show both v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Elbow Connector 38"/>
          <p:cNvCxnSpPr>
            <a:stCxn id="390" idx="3"/>
          </p:cNvCxnSpPr>
          <p:nvPr/>
        </p:nvCxnSpPr>
        <p:spPr>
          <a:xfrm>
            <a:off x="3355920" y="2179440"/>
            <a:ext cx="288000" cy="36788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409" name="Line 39"/>
          <p:cNvSpPr/>
          <p:nvPr/>
        </p:nvSpPr>
        <p:spPr>
          <a:xfrm flipH="1">
            <a:off x="3714480" y="1214280"/>
            <a:ext cx="11160" cy="36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2"/>
          <p:cNvSpPr/>
          <p:nvPr/>
        </p:nvSpPr>
        <p:spPr>
          <a:xfrm>
            <a:off x="2333520" y="1285920"/>
            <a:ext cx="102240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74"/>
          <p:cNvSpPr/>
          <p:nvPr/>
        </p:nvSpPr>
        <p:spPr>
          <a:xfrm>
            <a:off x="2151000" y="1417680"/>
            <a:ext cx="2944800" cy="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3887640" y="1285920"/>
            <a:ext cx="1030320" cy="304920"/>
          </a:xfrm>
          <a:prstGeom prst="rect">
            <a:avLst/>
          </a:prstGeom>
          <a:solidFill>
            <a:srgbClr val="c00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6370560" y="1116000"/>
            <a:ext cx="1032120" cy="309600"/>
          </a:xfrm>
          <a:prstGeom prst="rect">
            <a:avLst/>
          </a:prstGeom>
          <a:solidFill>
            <a:srgbClr val="00009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</a:rPr>
              <a:t>Tran  Los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5092560" y="1413000"/>
            <a:ext cx="1265400" cy="3270240"/>
          </a:xfrm>
          <a:prstGeom prst="rect">
            <a:avLst/>
          </a:prstGeom>
          <a:solidFill>
            <a:srgbClr val="00b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Units delivered to BSP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Each Jurisdi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GB allocation of the residual meter volumes (M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MDP (Supplier Hub) supplier volume allocation processes similar to Ire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Residual MVs allocated by SEMO equivalent (SVA Agent) by smearing across deemed metered volume (only Non-Interval me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System can prorate smearing between Interval (HH)  and Non-Interval (NHH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Information from ELEXON’s </a:t>
            </a:r>
            <a:br>
              <a:rPr sz="3200"/>
            </a:br>
            <a:r>
              <a:rPr b="1" lang="en-GB" sz="3200" spc="-1" strike="noStrike">
                <a:solidFill>
                  <a:srgbClr val="737373"/>
                </a:solidFill>
                <a:latin typeface="Arial"/>
              </a:rPr>
              <a:t>operationa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7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37373"/>
                </a:solidFill>
                <a:latin typeface="Arial"/>
              </a:rPr>
              <a:t>The following information has been provided by ELEXON who have agreed it can be used for the purpose of this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5:58:32Z</dcterms:created>
  <dc:creator>Malcolm</dc:creator>
  <dc:description/>
  <dc:language>en-US</dc:language>
  <cp:lastModifiedBy>Aisling O'Donnell</cp:lastModifiedBy>
  <dcterms:modified xsi:type="dcterms:W3CDTF">2009-11-18T17:27:32Z</dcterms:modified>
  <cp:revision>33</cp:revision>
  <dc:subject/>
  <dc:title>Slide 1</dc:title>
</cp:coreProperties>
</file>