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BACC-AA11-4874-80FA-6A82B39FB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DE1F-31CF-447B-BCC7-CA6D2943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99C1-37AD-42DF-8CA7-4A2178C61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4D94-40F8-4AE9-8B45-D463E1DBB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00F6-3DE6-4C8B-BD17-FC8EDC4CC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DB8C-B42F-4783-9595-D03F8BF9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67DE-0990-4FFF-9F98-DE81E284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AE9B-5B66-4E60-A34D-91439AC4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05B8-9B4A-44AD-BAB8-259D5797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DC9F-1F50-4866-B0DC-0A4A1677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FCD0-B6FE-4DB3-97D2-59D19A73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08DD-BE53-43E3-812D-EEC81ECA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B0CD-F2A5-4068-8639-B34A512B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1364-5E20-4759-824D-D22DFF43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C57F-0DB7-4C98-9224-3D12A939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E97C-59AF-4F25-8909-4382D2316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C02C-9BC8-42C6-A43B-37371FABE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F3F3-4542-4865-8FFF-696CCBE8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982E-5E12-41E5-BA9B-4770DD90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7D3C-7287-4BBB-9807-5A5D7339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2B58-10AB-416C-AA3F-ACEFD07E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FC87-967F-4398-8C5D-B53C797D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D645-2C5C-4274-9144-ED83390C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90BA-1CE6-41AF-A8F4-37355F8A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e70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e70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e70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e70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e70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e70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09D6-6CE3-4459-A212-5FFFBB2950A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7020000" y="6237360"/>
          <a:ext cx="1944720" cy="45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20000" y="6237360"/>
                    <a:ext cx="194472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2165-47E1-4C30-A548-5D090BA545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88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Global Aggregation</a:t>
            </a:r>
            <a:br>
              <a:rPr sz="4400"/>
            </a:b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Mod 34_09</a:t>
            </a:r>
            <a:br>
              <a:rPr sz="4400"/>
            </a:br>
            <a:br>
              <a:rPr sz="4400"/>
            </a:b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James Long</a:t>
            </a:r>
            <a:br>
              <a:rPr sz="4000"/>
            </a:b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MR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2421000"/>
            <a:ext cx="6400800" cy="32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Global Aggreg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ESBN support the implementation of Global Aggre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he Market Operator (SEMO) should continue to maintain and calculate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his is a system issue with commercial implic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RSO can provide the data to allow this to h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Overview – Aggregation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MRSO are a Meter Data Provider providing aggregated data to the Market Operator to allow settlement of the Wholesale Electricity Mark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ggregate QH and NQH data for all sites registered to all Suppliers except ESB Customer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6,000 Q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463,000 NQ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ggregate a small number of MPRNs registered to ESB Customer Supply’s AS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Aggregation - Tim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300" spc="-1" strike="noStrike">
                <a:solidFill>
                  <a:srgbClr val="000000"/>
                </a:solidFill>
                <a:latin typeface="Arial"/>
              </a:rPr>
              <a:t>Indicative Data on Day +1 by 14.00hr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300" spc="-1" strike="noStrike">
                <a:solidFill>
                  <a:srgbClr val="000000"/>
                </a:solidFill>
                <a:latin typeface="Arial"/>
              </a:rPr>
              <a:t>Initial Data on Day +4 by 17.00hrs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300" spc="-1" strike="noStrike">
                <a:solidFill>
                  <a:srgbClr val="000000"/>
                </a:solidFill>
                <a:latin typeface="Arial"/>
              </a:rPr>
              <a:t>Month +4 for re-settlement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300" spc="-1" strike="noStrike">
                <a:solidFill>
                  <a:srgbClr val="000000"/>
                </a:solidFill>
                <a:latin typeface="Arial"/>
              </a:rPr>
              <a:t>Month +13 for re-settlement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590 Message – Aggregated message sent to SE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rovides the QH &amp; NQH aggregated consumption data for MPRNs registered to each Supplier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e-Minimus Export values registered to the Supplier Unit netted off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rovided in 30 minute interv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Volumes are measured in MW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he values supplied are Loss Adjus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Supplier/Generator Aggregated Mess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591 NQH Consumption – values are in kWh and 15 minute intervals. Messages show Non Loss-Adjusted and  Loss-Adjusted Fac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595 QH Consumption – values are in kWh and 15 minute intervals. Messages show Non Loss-Adjusted and  Loss-Adjusted Fac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594 Participan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598 Non-Participan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596 Supplier Copy of 5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597 Generator Copy of 5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Mod 34_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2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plitting of Non-Interval and Interval Supplier Units – significant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Extra validation required for Registration Market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 need to change/amend existing Supplier Unit Identifi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ossible impact on 590 settlement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Other impacted areas – Meter Works, DUoS Bi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More Supplier Units would affect the performance and run times of Aggreg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pprox 12-18 months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ith current Work Programme –  delivery approx. Q1/ 201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Alternative O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569080" cy="42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ove all meter points registered to ESBCS into the Aggregation process using existing Supplier Un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RSO aggregate all registered MPRNs for all Supp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ESBCS receive all relevant aggregated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EMO in a position to calculate the differences and allocate as agreed between all market participa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nvolves minimal change to our existing softwar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oses less risk on exceeding aggregation timelines in accordance with Agreed Procedure 16 and SLA (C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elivery time would be less than current Mod Option – Approx 7months work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Networks Market Opening designed to provide global aggregation from the outset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Exploit this functionality for quicker implementation and least cost on DUoS user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Experience can inform any focussed amendments that subsequently are justified based on the data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0:45:53Z</dcterms:created>
  <dc:creator>long_j</dc:creator>
  <dc:description/>
  <dc:language>en-US</dc:language>
  <cp:lastModifiedBy>Aisling O'Donnell</cp:lastModifiedBy>
  <dcterms:modified xsi:type="dcterms:W3CDTF">2009-11-18T17:33:58Z</dcterms:modified>
  <cp:revision>32</cp:revision>
  <dc:subject/>
  <dc:title>Global Aggregation</dc:title>
</cp:coreProperties>
</file>