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0A1898E-FD13-4FD7-94FD-B4EE83DB3B51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977E157A-7C7A-4E6D-AB02-74134D77B90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006-0525-4475-AC1F-3837D686EBA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449-175A-4EF9-8437-6CBD8B0FDD8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647-DDD7-4531-8269-3D1FA5D91A0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9E7A-2834-4470-BEE6-C508AB03615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B8E-F5A0-4038-81C4-5862D0A1A2A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F50-DCC1-464D-9FB6-11FB7626930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4F3-1492-4CF0-8ECA-EBEC4D10BF4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A72-BC58-4122-B64C-AC83CB77EFD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DA90-9AD3-4BD4-9EA5-4A8B310F526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E11-9038-46C6-8EEF-16E6E5AAFC5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D92-A381-4F68-85AB-AF124CB2961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567-4B05-476B-B324-F0114C58C44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AC0-50AE-43C4-9D92-B0B33BE8FDA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2473-FAA2-4E11-8E7B-0BD2FACEB23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ABA8-7D14-4D3A-AFEA-3E31DE387A3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32F6-A3B3-4F9F-BB89-77E4A87F5FD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C3A-88CE-4F4F-940B-6BAC1C4F89F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826-4899-4CDA-81E6-640284408CA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6A2-56AB-4AAD-9235-5AD5F8F4046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18A7-17ED-4F3C-831C-E4FC9A9E1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9B92-6A11-4856-8C06-61CA6D4E0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AA5F-5CF5-4412-AA93-AEB74919B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5FE9-F795-4E1B-872E-DB1BD11E3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78A-863B-4526-8698-B25CFA171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70A-EE03-4744-9770-F258E857C7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596-C72A-48EB-BC1B-7C3DF05C7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A6C-09D5-40F2-AC28-F7F92EB10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14F-CC49-45E3-9336-4447EE8D4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629-D8F7-49AA-B6EE-8C875CA7BA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83E-D326-4B91-BE5A-7833A5B22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0455-ABF1-479E-97DD-3334F5CC9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DAB-D2CF-47B8-814B-D26432B88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C37-F7EB-4A0B-B57D-8A465F2901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5F9-0D81-4203-B553-2659ED5E97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D82-E52F-4565-B0E9-5D3D0517F2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B90-0A59-4C2E-A1D2-FE809DB3B2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4237-4355-489E-876B-AAD1E3DA64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BFA7-525C-4432-936C-40104500E9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7E85-979F-40F2-943E-A77DE5AAEF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4F48-B331-4E74-90D5-395A49C9ED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CC5-5F15-42A7-8C0C-C9EDB48DF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DF2E-F54D-4929-9132-8798D16AB7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8E3-C214-4564-B7AA-74C777CC0B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D1E-A8B3-4AB7-9EF9-84BF6E8EB8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9593-6356-47AE-BB30-34CF0978BF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979E-01B5-4B92-A988-FBA1E3DB01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5F0-A6BF-407B-82C2-ABFC8B7B55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546-46EA-47DA-A28C-4262D56AA0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56B9-C760-4EC8-ACC9-74BFFA7909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054FA-BEF2-40EF-B902-166324A869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659A6-C715-48D4-BF53-917E940262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CEC26-3CA6-461F-9999-B43EBDEB8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9762-B589-4765-AECF-32AC11B12B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B5D54-536D-4674-9BD7-D0BB208DC5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9B1D0-29B6-4D61-99EA-99720A513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CBE0B-2CEE-481E-A7CA-8DCC27895E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18C1D-A0C8-4800-96DC-8F1ECE1262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D83C5-C9CF-4E88-8546-424B9D0AE1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B11AF-5118-4DA8-8D49-12951B36A7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31BB8-9669-4D6A-B1F5-1B117B7D7F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B2B8B-2530-4D52-A19A-5758055258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BAF21-FCA9-4466-81A5-222BE922C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13C45-1501-4B20-B158-125A5D4A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D16F-ADA5-46BC-BF11-21A8BE1558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343FE-AD03-416C-9188-0E556DC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86912-CF49-469D-A8C0-4AE9C9F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F6EF5-A03F-4E37-BA2B-3A54F9DE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B4CA6-5052-47E9-848C-A3A7A9B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9C0A1-99B1-471E-9C34-55F9673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2A777-4698-4FA5-B725-7CCE54C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DE1DA-0368-4530-863B-64D0234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FD24C-1266-4253-AA7E-423842A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F5D9E-0090-4E2E-B869-8E89A02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C52BB-E034-4505-A292-61AFD230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7CEF-7CC7-4F43-A769-3B2ACC57FF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91906-90F8-4979-9D77-B372A50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F80B-6CF4-4286-BF8B-B4B0F1BB3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1292-0FCC-418D-BD28-97DA4E97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AA98-F7A3-4A48-8AFC-B43ED85B3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143B-A02E-4DBD-A3C1-862B75A0AB9F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8A05-722B-43CC-9E3E-7813ABC138C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09E-9F1F-47CF-8B6D-20058567DCA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5D32-3B68-40F6-879A-F54DAD351D8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FBC9-C94C-4E76-986E-941A37A01C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F3B-415A-4B8C-BE92-426F945A5EB1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19A-3D8D-4F01-9B63-D54D144682B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26684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E37-598A-43BD-886D-F825E035204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1440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example, Netting Quantity for TSSU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-45000" bIns="-450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00000" y="2408400"/>
                <a:ext cx="658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Qs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uh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Guh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P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v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835680" y="3265560"/>
            <a:ext cx="319320" cy="6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4160" y="406224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D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27720" y="443880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Aggr-E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75560" y="4917960"/>
            <a:ext cx="318960" cy="6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5240" y="56721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51240" y="3110040"/>
            <a:ext cx="319320" cy="43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19400" y="35877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NDQ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3280" y="392112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Aggr-E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9800" y="57927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4329000"/>
            <a:ext cx="88920" cy="43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06960" y="4732200"/>
            <a:ext cx="191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NDQ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30840" y="5065560"/>
            <a:ext cx="191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ntp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27720" y="603396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Me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81560" y="613404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Me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1280" y="5416560"/>
            <a:ext cx="88920" cy="43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27720" y="2424240"/>
            <a:ext cx="987480" cy="812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19320" y="2395440"/>
            <a:ext cx="3119400" cy="754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346280" y="5183280"/>
            <a:ext cx="274680" cy="56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97280" y="574848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610380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ntp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57320" y="2044800"/>
            <a:ext cx="5573880" cy="1407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087280" y="3263760"/>
            <a:ext cx="595080" cy="95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972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15880" y="4267080"/>
            <a:ext cx="191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p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4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8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9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2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3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7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0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4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5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712B-BE00-4FF3-909C-EFCC146FE12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266840"/>
            <a:ext cx="914400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Settlement Point Type is associated with numerous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complete a full Settlement run can involve many pre-processing and aggregation job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1139760"/>
          <a:ext cx="914400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0" y="1139760"/>
                    <a:ext cx="9144000" cy="5718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– Trading Payments &amp; Cha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726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– Capacity Payments &amp; Cha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A9ED-F55A-4489-9899-E1B67F0773C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payment and charge in the Code can take many step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ach Settlement Point Type is associated with numerous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complete a full Settlement run can involve many pre-processing and aggregation job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new Settlement Point Type would need to be configured for all relevant existing pre-processing calcul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so new calculations as set out in the mod would need to be configur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01DD-6ADE-4ACD-B896-79447A58E63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configuration include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tandar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sociate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Generation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Demand Side Unit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74FF-C028-42CA-A632-18F10F2C288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66840"/>
            <a:ext cx="914400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w configuration would need to includ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tandar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n-Interval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sociated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Generation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ding Site Supplier Unit for Demand Side Unit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e – if there is a need to explicitly define an Interval Supplier Unit, this will increase the scope of the chang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280-DF2C-4EF2-BE76-83BB6196D99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 – if option 2.34A from Mod is selected, problem grows considerabl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agraph 2.61 required only one Supplier Unit on a Trading Sit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gebra in section 4 consistent with one Supplier Unit per Trading Site relationship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2.34A requires new T&amp;SC rules on Trading Site netting as current Trading Site model will not wor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Settlement system would be significa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s there benefit? Is there any Trading Site with Non-Interval metering for its Deman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0D6-D4E7-4D23-8273-6CC640F1511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redit Risk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266840"/>
            <a:ext cx="9144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redit Risk system from same vendors as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sess impact of additional Settlement Point Type on Credi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 in Fixed Credit Cover Requirement on Participants –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provide FCCR by Supplier Uni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ecast Demand values for New/Adjusted Participants would need to be adjusted by a forecast correction fact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11C-5F59-401C-8F2D-73A0AA803BE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1"/>
          <p:cNvSpPr/>
          <p:nvPr/>
        </p:nvSpPr>
        <p:spPr>
          <a:xfrm>
            <a:off x="1736640" y="5454720"/>
            <a:ext cx="1979640" cy="900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8"/>
          <p:cNvSpPr/>
          <p:nvPr/>
        </p:nvSpPr>
        <p:spPr>
          <a:xfrm>
            <a:off x="297000" y="1719360"/>
            <a:ext cx="1979640" cy="34192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1"/>
          <p:cNvSpPr/>
          <p:nvPr/>
        </p:nvSpPr>
        <p:spPr>
          <a:xfrm>
            <a:off x="423720" y="1835280"/>
            <a:ext cx="1711440" cy="49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 Market Systems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533760" y="2708280"/>
            <a:ext cx="2343240" cy="674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554280" y="2887560"/>
            <a:ext cx="2305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rket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551640" y="3109320"/>
            <a:ext cx="2343240" cy="10792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Physical Mar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581280" y="3968640"/>
            <a:ext cx="2343240" cy="674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603600" y="4130640"/>
            <a:ext cx="2305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rket Set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58800" y="1924200"/>
            <a:ext cx="12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425520" y="2465280"/>
            <a:ext cx="1709640" cy="657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695160" y="252576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System Opera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916280" y="5589720"/>
            <a:ext cx="1618920" cy="647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2070000" y="5732640"/>
            <a:ext cx="1287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423720" y="3274920"/>
            <a:ext cx="1711440" cy="76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66640" y="3336840"/>
            <a:ext cx="144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Interconn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Administra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5"/>
          <p:cNvSpPr/>
          <p:nvPr/>
        </p:nvSpPr>
        <p:spPr>
          <a:xfrm>
            <a:off x="423720" y="4159080"/>
            <a:ext cx="1711440" cy="85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92280" y="4275000"/>
            <a:ext cx="117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Meter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Century Gothic"/>
              </a:rPr>
              <a:t>Provi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849840" y="1536840"/>
            <a:ext cx="4410000" cy="1033200"/>
          </a:xfrm>
          <a:custGeom>
            <a:avLst/>
            <a:gdLst>
              <a:gd name="textAreaLeft" fmla="*/ 771480 w 4410000"/>
              <a:gd name="textAreaRight" fmla="*/ 3197160 w 4410000"/>
              <a:gd name="textAreaTop" fmla="*/ 138240 h 1033200"/>
              <a:gd name="textAreaBottom" fmla="*/ 894960 h 103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64"/>
          <p:cNvSpPr/>
          <p:nvPr/>
        </p:nvSpPr>
        <p:spPr>
          <a:xfrm rot="10800000">
            <a:off x="3446280" y="4777920"/>
            <a:ext cx="4546440" cy="1484280"/>
          </a:xfrm>
          <a:custGeom>
            <a:avLst/>
            <a:gdLst>
              <a:gd name="textAreaLeft" fmla="*/ 795600 w 4546440"/>
              <a:gd name="textAreaRight" fmla="*/ 3296160 w 4546440"/>
              <a:gd name="textAreaTop" fmla="*/ 198720 h 1484280"/>
              <a:gd name="textAreaBottom" fmla="*/ 128556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9"/>
          <p:cNvSpPr/>
          <p:nvPr/>
        </p:nvSpPr>
        <p:spPr>
          <a:xfrm>
            <a:off x="2322360" y="2798640"/>
            <a:ext cx="989280" cy="540000"/>
          </a:xfrm>
          <a:prstGeom prst="leftRightArrow">
            <a:avLst>
              <a:gd name="adj1" fmla="val 50000"/>
              <a:gd name="adj2" fmla="val 3647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70"/>
          <p:cNvSpPr/>
          <p:nvPr/>
        </p:nvSpPr>
        <p:spPr>
          <a:xfrm rot="5400000">
            <a:off x="4459680" y="3291840"/>
            <a:ext cx="538200" cy="765000"/>
          </a:xfrm>
          <a:prstGeom prst="leftRightArrow">
            <a:avLst>
              <a:gd name="adj1" fmla="val 50213"/>
              <a:gd name="adj2" fmla="val 34625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3"/>
          <p:cNvSpPr/>
          <p:nvPr/>
        </p:nvSpPr>
        <p:spPr>
          <a:xfrm rot="10800000">
            <a:off x="2411280" y="3877920"/>
            <a:ext cx="1035360" cy="153036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156 -0.23676 E">
                                      <p:cBhvr>
                                        <p:cTn id="5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156 -0.23676 E">
                                      <p:cBhvr>
                                        <p:cTn id="5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B393-B080-409D-A4A2-3942813DC98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allocation option without a separation of Interval/Non Interval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registration changes in SEM systems or for Participan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Master File Import in SEM system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interface fil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Trading Site model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impact of change for Meter Data Provid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change in Settlement system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s change in Credit Risk systems and rul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836-6E47-4BC6-888B-73F24E5CACA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 -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66840"/>
            <a:ext cx="9144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of including Non-Interval metered demand separately in SEM presents most difficult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of application of factor on existing Settlement Point Types still presents substantial body of wor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sess value of Residual Error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eed to ascertain if it is correct to allocate on the basis of the mod if other factors could be impacting on the volume? (e.g. DLF and TLF errors, Theft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D809-95B5-4EFC-B42B-09FFAF6DD71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O -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66840"/>
            <a:ext cx="9144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uring SEM development, decision that wholesale market did not require Non-Interval Demand to be separated (implemented through SIMDRACS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MO support implementation of Global Aggreg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convinced that the Metering requirement of the SEM need to change to achieve a Global Aggregation solutio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CD0-DE1B-463B-A37A-767A4381AA7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M Market Systems - Impa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2" idx="1"/>
            <a:endCxn id="251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52" idx="3"/>
            <a:endCxn id="250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51" idx="3"/>
            <a:endCxn id="250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6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603-4CDE-49F2-BAB2-751CD6B3D48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egistratio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1"/>
            <a:endCxn id="262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5" name=""/>
          <p:cNvCxnSpPr>
            <a:stCxn id="263" idx="3"/>
            <a:endCxn id="261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62" idx="3"/>
            <a:endCxn id="261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BD6-92E8-4B67-A3EF-96D73D827DB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gistration Chang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anage through changes to Registration Data;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impact on MSP softwar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required to Masterfile Import – transfer from Registration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Market Participant Interface require Market Test environm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registration processes in SEM and Retail Market to ensure integrity of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416-3D30-4ADB-9021-3B842601F3F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ter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7" idx="1"/>
            <a:endCxn id="276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9" name=""/>
          <p:cNvCxnSpPr>
            <a:stCxn id="277" idx="3"/>
            <a:endCxn id="275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0" name=""/>
          <p:cNvCxnSpPr>
            <a:stCxn id="276" idx="3"/>
            <a:endCxn id="275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1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096C-18E8-47FA-A42A-551A80890E8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ter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are additional to Registration chang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ing change in Metering Interface will impact on TSO file submiss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SO do not provide metering for Non-Interval Supplier Uni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ossibly redundant change with high cost and no benef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commend Metering Interface is not considered under this mo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1A7D-8F6D-40A5-9755-070235CF8D1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91" idx="1"/>
            <a:endCxn id="290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93" name=""/>
          <p:cNvCxnSpPr>
            <a:stCxn id="291" idx="3"/>
            <a:endCxn id="289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94" name=""/>
          <p:cNvCxnSpPr>
            <a:stCxn id="290" idx="3"/>
            <a:endCxn id="289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13BF-0462-4CBB-AE5A-648107D3D64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ttlement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ignificant changes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ttlement system is “off the shelf” configurable calculation engin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s off “Settlement Point Type” and “Products”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duct = calcul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ttlement Point Type = SEM unit typ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lculations are completed in processing jobs called “segments”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Emma Kelly</dc:creator>
  <dc:description/>
  <cp:keywords>Rev o</cp:keywords>
  <dc:language>en-US</dc:language>
  <cp:lastModifiedBy>Aisling O'Donnell</cp:lastModifiedBy>
  <cp:lastPrinted>2002-07-25T14:31:52Z</cp:lastPrinted>
  <dcterms:modified xsi:type="dcterms:W3CDTF">2009-11-18T17:33:02Z</dcterms:modified>
  <cp:revision>613</cp:revision>
  <dc:subject>Training Session - Module 1</dc:subject>
  <dc:title>All Island Market for Electricity</dc:title>
</cp:coreProperties>
</file>