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B801-5173-42C1-9677-F6FFDE40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5A29-80B6-4FE1-9B22-8030EB26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74AA-A7BE-4346-8AAC-9093C094A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6E11-CE5C-4843-A31F-C2E7E4BCB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8C75-B406-477B-9BD4-5A2AAB27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BF5C-0991-4E9C-9118-1BD57D3B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D070-CD05-4B21-852E-AFBB2081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4863-E907-4875-950C-A42919D4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E876-1DD5-4090-AECA-BBED5A05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F39CA-9008-49FC-9B8B-FB507858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C792-F72F-4527-B404-F68B4BD0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5CEA-32FB-4250-A742-D7107D48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7566-E8A5-474D-AD37-1F3A58FB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7C08-D0AE-4F96-8579-5DCDC86B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CA0A-7B00-472F-AF85-0625D685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6C06-DDA1-4324-AC56-AC1011C1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5B27-43A9-4A93-9B71-EC2A463FC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9710-3F39-482A-9BCB-D7DD835B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AE73-841A-4921-8690-A28543F7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B393-2819-4C9B-8A27-DAFAFB0D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BCE9-BA8B-4D96-A10F-39EECF9E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F972-3A8F-44DF-B1E8-9292A09A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D745-67C1-475D-898C-6D1FD741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4229-F710-4E40-860B-4C58052B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70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e70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e70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e70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e70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e70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e70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e70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A579-C2B5-4740-A4B7-5333341468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7020000" y="6237360"/>
          <a:ext cx="1944720" cy="45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20000" y="6237360"/>
                    <a:ext cx="194472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2262-4581-423C-8196-577A98909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88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6920" y="764640"/>
            <a:ext cx="66214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Global Aggregation</a:t>
            </a:r>
            <a:br>
              <a:rPr sz="4000"/>
            </a:b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Mod 34_09</a:t>
            </a:r>
            <a:br>
              <a:rPr sz="4000"/>
            </a:br>
            <a:br>
              <a:rPr sz="3600"/>
            </a:b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High Level Impact Assessment</a:t>
            </a:r>
            <a:br>
              <a:rPr sz="3600"/>
            </a:br>
            <a:br>
              <a:rPr sz="3600"/>
            </a:b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SBN Meter Data Provider </a:t>
            </a:r>
            <a:br>
              <a:rPr sz="3200"/>
            </a:b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ileen O Connor</a:t>
            </a: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2421000"/>
            <a:ext cx="6400800" cy="32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erformance of SAP I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etail of Options could impact Estimated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imelines for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PES will increase installations included in Data Aggregation from approx. half a million to approx 2.3 mill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needs to be done to confirm the performance implications and if there are any additional cost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s would need to run extensive performance testing specifically for Global Aggreg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114480"/>
          <a:ext cx="909648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480"/>
                    <a:ext cx="909648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0" y="0"/>
          <a:ext cx="9144000" cy="128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0" y="1123920"/>
          <a:ext cx="9144000" cy="4791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3920"/>
                    <a:ext cx="9144000" cy="47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0" y="190440"/>
          <a:ext cx="9144000" cy="158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440"/>
                    <a:ext cx="914400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0" y="1562040"/>
          <a:ext cx="9144000" cy="3191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562040"/>
                    <a:ext cx="9144000" cy="31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0" y="0"/>
          <a:ext cx="9144000" cy="141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14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0" y="1200240"/>
          <a:ext cx="9144000" cy="5657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200240"/>
                    <a:ext cx="9144000" cy="56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0" y="0"/>
          <a:ext cx="9144000" cy="155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0" y="1343160"/>
          <a:ext cx="9144000" cy="5810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343160"/>
                    <a:ext cx="9144000" cy="58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0" y="0"/>
          <a:ext cx="9144000" cy="148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14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0" y="1268280"/>
          <a:ext cx="9144000" cy="4999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268280"/>
                    <a:ext cx="9144000" cy="49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Summary – ESBN MD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8360" y="1052640"/>
          <a:ext cx="8229600" cy="4565520"/>
        </p:xfrm>
        <a:graphic>
          <a:graphicData uri="http://schemas.openxmlformats.org/drawingml/2006/table">
            <a:tbl>
              <a:tblPr/>
              <a:tblGrid>
                <a:gridCol w="1942920"/>
                <a:gridCol w="2808360"/>
                <a:gridCol w="347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 Work Effo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Week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Week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Week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Weeks o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Weeks (Al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Week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441360" cy="463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619280" y="2565360"/>
            <a:ext cx="441360" cy="463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619280" y="5084640"/>
            <a:ext cx="4413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0:45:53Z</dcterms:created>
  <dc:creator>long_j</dc:creator>
  <dc:description/>
  <dc:language>en-US</dc:language>
  <cp:lastModifiedBy>oconnor_ai</cp:lastModifiedBy>
  <dcterms:modified xsi:type="dcterms:W3CDTF">2010-02-22T12:56:09Z</dcterms:modified>
  <cp:revision>64</cp:revision>
  <dc:subject/>
  <dc:title>Global Aggregation</dc:title>
</cp:coreProperties>
</file>