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EAA9-658B-4C00-99F8-6EC1A4EA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36720" y="394416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B0CA-54E9-44AB-8734-232470CF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8124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B08-722C-435E-81FD-2BC61520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916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196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3672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916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196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7FA-30EB-4DDC-96C5-6AED2E4C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C33A-E0D8-4C9E-B175-48147614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7185-1B0D-4A3A-AD6B-EE467778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6A0F-52FF-4D2C-8CCD-04C21D02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2BEB-41A2-400E-8B8D-E4ABE264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0314-3887-4591-95D8-47F4013B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22320" y="151920"/>
            <a:ext cx="58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C78F-0F63-4B90-B15F-1B80C190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D8E3-3E20-4D03-BB18-AD6E8DD5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BA1-DAE1-4E78-8DD1-27B92583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8124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DDAE-407A-4AFC-9D59-A55E1789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759C-0C34-4CD8-B5C1-57F0E569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36720" y="394416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565C-81FC-4681-8664-DC5766A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8124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648F2-3101-4E76-9346-0138CE90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916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41960" y="153504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3672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916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41960" y="3944160"/>
            <a:ext cx="2478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2BAB-ADB3-4157-A7BE-97F6D7FE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09A-9B42-4580-BD30-E0F671BE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AEE-6976-461D-8109-F60C319F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891-71C7-40EA-968D-2AE9572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22320" y="151920"/>
            <a:ext cx="58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E59-EAB0-4D87-B2D5-1792BFB1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C23-A301-4502-9F20-88413C96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81240" y="394416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2390-B595-4256-A0DA-046ABEAC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1240" y="1535040"/>
            <a:ext cx="375624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6720" y="3944160"/>
            <a:ext cx="7697520" cy="219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233-8159-4CC2-A826-3BA21523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8E7A-5F37-4DA7-BAF7-6294EFF921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88240" y="187200"/>
            <a:ext cx="2031840" cy="69372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" name=""/>
            <p:cNvSpPr/>
            <p:nvPr/>
          </p:nvSpPr>
          <p:spPr>
            <a:xfrm>
              <a:off x="0" y="0"/>
              <a:ext cx="638280" cy="6858000"/>
            </a:xfrm>
            <a:prstGeom prst="rect">
              <a:avLst/>
            </a:prstGeom>
            <a:solidFill>
              <a:srgbClr val="0065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6316560"/>
              <a:ext cx="9144000" cy="5414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329520"/>
              <a:ext cx="638280" cy="528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6950880" y="643572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ww.nieenergy.co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18AD-AC7B-4F41-8BFB-6CC6136BA94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88760" y="174600"/>
            <a:ext cx="60181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638280" cy="685800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316560"/>
              <a:ext cx="9144000" cy="5414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6329520"/>
              <a:ext cx="638280" cy="5284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88240" y="187200"/>
            <a:ext cx="2031840" cy="693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537240" y="633564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www.nieenergy.co.u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rebuchet MS"/>
              </a:rPr>
              <a:t>Global Aggregation </a:t>
            </a:r>
            <a:endParaRPr b="0" lang="en-US" sz="44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rebuchet MS"/>
              </a:rPr>
              <a:t>Magnitude of the Error</a:t>
            </a:r>
            <a:endParaRPr b="0" lang="en-US" sz="44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Methodology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Calculate the NIEES sales per tariff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Profile to derive a HH shape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Apply published DLAFs to bring to trading poin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Calculate NIEES volumes from pool at trading point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Determine Jurisdictional results using both data set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Compare the difference and plot to allow comparison with the Elexon data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aveats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Sales based upon apportionment method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rebuchet MS"/>
              </a:rPr>
              <a:t>Legacy Billing System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rebuchet MS"/>
              </a:rPr>
              <a:t>3 month billing cycle</a:t>
            </a:r>
            <a:endParaRPr b="0" lang="en-US" sz="24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Application of current DLAF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Application of 6 Profile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rebuchet MS"/>
              </a:rPr>
              <a:t>Based on best available market data from Jan 08 – Oct 09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rebuchet MS"/>
              </a:rPr>
              <a:t>HH Correction – Gemserv (Elexon)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39960" y="1504800"/>
            <a:ext cx="7657920" cy="4648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HH Correction – NI Jurisdiction Calculation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50760" y="1658880"/>
            <a:ext cx="7667640" cy="4363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Trebuchet MS"/>
              </a:rPr>
              <a:t>Distribution – Gemserv (Elexon)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39960" y="1498680"/>
            <a:ext cx="772128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Distribution – NI Jurisdiction Calculation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01880" y="1465200"/>
            <a:ext cx="7137360" cy="4481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22320" y="151920"/>
            <a:ext cx="58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rebuchet MS"/>
              </a:rPr>
              <a:t>Conclusions</a:t>
            </a:r>
            <a:endParaRPr b="1" lang="en-US" sz="3600" spc="-1" strike="noStrike">
              <a:solidFill>
                <a:srgbClr val="0033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36720" y="1535040"/>
            <a:ext cx="76975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Information is an indication of magnitude using available sources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Results are broadly in line with GB information 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rebuchet MS"/>
              </a:rPr>
              <a:t>Average correction factor over the analysis period slightly below 1</a:t>
            </a: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rebuchet MS"/>
            </a:endParaRPr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2:41:54Z</dcterms:created>
  <dc:creator>NIEplc</dc:creator>
  <dc:description/>
  <dc:language>en-US</dc:language>
  <cp:lastModifiedBy>itwjr</cp:lastModifiedBy>
  <dcterms:modified xsi:type="dcterms:W3CDTF">2010-02-22T14:39:22Z</dcterms:modified>
  <cp:revision>178</cp:revision>
  <dc:subject/>
  <dc:title>PowerPoint Presentation</dc:title>
</cp:coreProperties>
</file>