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2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07/16/9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3"/>
          </p:nvPr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4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i="1" lang="en-GB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A717C2D4-D383-4E70-B1A3-731F1769BB4C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9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D66FC30B-7E94-4878-82D3-90CB292A43C6}" type="slidenum">
              <a:rPr b="0" i="1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000000"/>
                </a:solidFill>
                <a:latin typeface="Century Gothic"/>
              </a:rPr>
              <a:t>LEAVE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9329-CEB0-47DB-BA7A-E5C15429751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01A9-BC85-4A33-9617-2003AF70141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7985-C686-434F-BAB2-E9E3F549F63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D9B0-504F-4898-BAD2-CFCC1477339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80D6-3E28-4673-AF96-CEA5F9AD1D90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0B36-3EC8-4AF6-AAAD-FF8620AF0EF3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C4FE-545D-40E9-A3D7-AB5EFFF1358E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875E-F136-499D-9ABC-6268C6CCAAC7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A27C-1B61-417D-9BFB-C6798EA95BCC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DF40-760C-4011-BF78-F0701879DB8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5E65-FB9A-4E6E-A1E0-4295432A64C4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29840"/>
            <a:ext cx="38606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  </a:t>
            </a:r>
            <a:r>
              <a:rPr b="0" lang="en-IE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© AIME</a:t>
            </a:r>
            <a:r>
              <a:rPr b="0" lang="en-GB" sz="10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, 2006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fid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F87C-D2B4-46D4-B07C-C0C3C59E1411}" type="slidenum">
              <a:rPr b="0" i="1" lang="en-GB" sz="10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4C006-C9F5-4789-A5BE-85A8C02F7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702EA-CB1A-4C41-9F91-01D428DC1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2A8B-96E4-49FD-A124-ECA98AFB4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E9F1-D7A6-4CA2-89B6-8B10AA36C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D10-C02B-4E2C-BAFC-E49A00742F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F8B2-610B-49EB-9A74-CB9A39C74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902-743D-4216-B1F1-9119C3179E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27E-10E1-40CD-A6C1-642CD86FF3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7634-0A95-4ACF-AB84-A7A63E3F0F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FBE-3B29-4BBF-A851-F2E899F718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6A1-182A-45F2-A79C-DDE76207B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53A5D-579D-47D5-9095-D2C9BA09F6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07E-76FC-49A5-9F65-9950F59813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793-5C79-467B-9DB0-77394CE858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EC07-A0B3-4E53-83A1-57A2B555EC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AA2-9CB6-4819-A9F8-D973CE93FE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3D64-8F3A-4AFD-B654-016C09F726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2F1D-330C-4FA7-8BCE-DC9E6A42C9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A89B-D494-4DF6-B381-F7AAF82D5B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B055-1922-4F83-A4D6-C34B0068CB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5D4C-0CF7-42E7-855F-2284B2427E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AF75-9FDF-42E8-AD25-705D59FE1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AC82-8E4A-4AB8-9A6D-B6FF510F2F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FD45-ADA5-4E80-BACD-14A8AD78751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FD3E-516E-450A-9260-B698A2EC7A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23B7-EEF7-4EBF-8310-A1F530525E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3098-65DE-46F8-A0C9-7E50C4438A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8028-BF1B-40D9-9D86-74AB0772BE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CED0-9BBD-4A7A-BDD6-7FDC851709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6A26-52DD-4389-8669-EE2B9FED8D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20AFA-EF86-4B75-93F4-168D6CF63F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5F1F3-D465-4E9D-8903-7DE698E874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7EF00-9B3C-4B24-B96A-CA69F6739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95E12-52B1-454E-AB94-51D48F1203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0E621-54CE-4AC4-B3BD-B9E3F8A28A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DA792-AEBF-4EB8-ADAE-35A4CD2882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1DEFE3-27E1-468B-A79F-C37DD0A01D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2A4D0-8490-4F17-8ABD-71F09C662D5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78F20-CA4B-4061-B0D2-B8E8223B54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5F2E5-EDAE-4AE0-8416-460E1C7BB5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ADEA5-9493-446C-B278-57805FC4B6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FCAC9-F74F-4D16-BB8A-627CE070D3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430B1-C707-4847-BC7F-6A80F0F312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72058-AE7A-43C9-9721-7C1A6CA76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1BB2-149C-49DE-A51C-591176B68C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E4AF94-CB3C-497B-8E7E-00463E7C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34D82-12DF-4F4C-B1BE-A38FA3A3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2C21D-287A-478D-892F-84196481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5720C-2B51-43BB-98DE-57D5038F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173E0-8948-434F-BA90-BD8FF836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7E17E-865C-4B41-B616-EDD48FC0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EDB8F-3893-4148-858C-2EC3EB93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05606-01E8-4FB2-B366-B969BEB5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90CEE-AAA9-47A8-8050-9A1235FE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BBCB23-CCBA-4803-93D3-B5024381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240" y="72720"/>
            <a:ext cx="7124760" cy="451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0B2AC-6A5A-4659-8969-31C4D767C6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562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7480" y="124416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44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562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7480" y="2115720"/>
            <a:ext cx="254340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C5845D-5FEB-4E2D-94A8-13A34E30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140F-E80D-410F-ADD9-586DE86E0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211572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3E48-9F56-456E-A847-F00D1B6163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244160"/>
            <a:ext cx="38548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2115720"/>
            <a:ext cx="78994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5770D-B421-4FE8-9152-E577F4D0E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580000" y="6552720"/>
            <a:ext cx="356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Copyright EirGrid/SONI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90F7-85FF-42F6-9E61-96034EEB1AF3}" type="slidenum">
              <a:rPr b="0" lang="en-US" sz="9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5614920"/>
            <a:ext cx="1306440" cy="124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984-E9BD-4BFB-8CE9-CF0A9170F12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C259-0B54-44E1-9805-BC37220DB68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7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EirGrid, SONI, 2007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2340-1D36-47D0-86C8-B3DBD0ECF7C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3366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8" descr="SEMO LOGO"/>
          <p:cNvPicPr/>
          <p:nvPr/>
        </p:nvPicPr>
        <p:blipFill>
          <a:blip r:embed="rId2"/>
          <a:stretch/>
        </p:blipFill>
        <p:spPr>
          <a:xfrm>
            <a:off x="1692360" y="861840"/>
            <a:ext cx="5788080" cy="2422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1244160"/>
            <a:ext cx="7899480" cy="16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255240" y="72720"/>
            <a:ext cx="71247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63F1-F95D-4194-A7CF-99C3BB8F5B0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© EirGrid &amp; SONI, 200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4F68-0A8F-40F9-8B58-B14AAA1781C3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377720" y="4962600"/>
            <a:ext cx="667692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Global Aggregation Working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en-IE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February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74720" y="2600280"/>
            <a:ext cx="77724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D89E-465A-4044-8DF3-84253C207A5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0" y="1266840"/>
            <a:ext cx="9144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D – “Detailed Smearing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lculation changes not radically different from Option 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requirement for factor per Supplier of Interval/Non-Interval propor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registration, Supplier Units will have an Interval/Non-Interval fl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0411-1DE8-4BD8-AB24-DF49C69797F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1266840"/>
            <a:ext cx="914400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D – “Detailed Smearing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dated registration data transferred between syste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tlement will apply calculations based on fl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registration, Supplier Units will have an Interval/Non-Interval fla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additional Settlement Poi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2625-E959-4BC2-A486-A1CF57B12934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35440" y="592200"/>
            <a:ext cx="530856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Registration Chang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5931000" y="1727280"/>
            <a:ext cx="2514600" cy="182880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ettlement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711360" y="1727280"/>
            <a:ext cx="2692080" cy="182880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gistration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3378240" y="4470480"/>
            <a:ext cx="2832120" cy="182880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eter Data xml fi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b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9" name="AutoShape 7"/>
          <p:cNvCxnSpPr>
            <a:stCxn id="258" idx="1"/>
            <a:endCxn id="257" idx="2"/>
          </p:cNvCxnSpPr>
          <p:nvPr/>
        </p:nvCxnSpPr>
        <p:spPr>
          <a:xfrm rot="10800000">
            <a:off x="2057400" y="3564720"/>
            <a:ext cx="131148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0" name="AutoShape 8"/>
          <p:cNvCxnSpPr>
            <a:stCxn id="258" idx="3"/>
            <a:endCxn id="256" idx="2"/>
          </p:cNvCxnSpPr>
          <p:nvPr/>
        </p:nvCxnSpPr>
        <p:spPr>
          <a:xfrm flipV="1">
            <a:off x="6219720" y="3565080"/>
            <a:ext cx="969120" cy="1820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61" name="AutoShape 9"/>
          <p:cNvCxnSpPr>
            <a:stCxn id="257" idx="3"/>
            <a:endCxn id="256" idx="1"/>
          </p:cNvCxnSpPr>
          <p:nvPr/>
        </p:nvCxnSpPr>
        <p:spPr>
          <a:xfrm>
            <a:off x="3412800" y="2641320"/>
            <a:ext cx="2508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62" name="Text Box 10"/>
          <p:cNvSpPr/>
          <p:nvPr/>
        </p:nvSpPr>
        <p:spPr>
          <a:xfrm>
            <a:off x="279360" y="4584600"/>
            <a:ext cx="193032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Meter data validated on submission against registration da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7061040" y="4800600"/>
            <a:ext cx="19306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Validated data loaded into Settlement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746520" y="1828800"/>
            <a:ext cx="1930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200" spc="-1" strike="noStrike">
                <a:solidFill>
                  <a:srgbClr val="000000"/>
                </a:solidFill>
                <a:latin typeface="Arial"/>
              </a:rPr>
              <a:t>Registration Data transferred to Settlement system using Master File Im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68A7-3868-420A-AFB9-833F39DE51D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Registration Changes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0" y="1266840"/>
            <a:ext cx="914400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anage through changes to Registration Data; 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dditional flag to signal if Supplier Unit is Interval/Non-Interval; 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No impact on MSP software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required to Masterfile Import </a:t>
            </a:r>
            <a:r>
              <a:rPr b="0" lang="en-US" sz="1900" spc="-1" strike="noStrike">
                <a:solidFill>
                  <a:srgbClr val="000000"/>
                </a:solidFill>
                <a:latin typeface="Helvetica Neue"/>
                <a:ea typeface="Arial"/>
              </a:rPr>
              <a:t>–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transfer from Registration to Settlement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Market Participant Interface require Market Test environment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188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Changes to registration processes in SEM and Retail Market to ensure integrity of data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1342-493F-42BC-BFC7-47CA65116503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1266840"/>
            <a:ext cx="9144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 at last Working Group to explore options with RA consultants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shop took plac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c 2009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shop covered all op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 options paper discussed four option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DD22-93F0-452B-8C27-D718EBC0A371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1266840"/>
            <a:ext cx="91440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options were -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A – “Simplest”;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B – “Simple 1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C – “Simple 2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D – “Detailed Smearing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B9E4-FD2F-4436-9DF5-12CE3B485CA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0" y="1266840"/>
            <a:ext cx="9144000" cy="48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A – “Simplest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ing ESB CS proposal that SEMO take ESU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MO cannot participant (2.118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-register Error Supplier Unit in C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U volume falls to Balancing Co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ed through SEMO price contro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3955-4987-4603-9790-BA80A574B71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0" y="1266840"/>
            <a:ext cx="9144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B – “Simple 1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ual Factor per Supplier of Interval/Non-Interval propor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ual Parameter of proportion of residual to be recovered from Non-Interva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to determine single “smear” factor for C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6811-5C93-4290-9D57-6463049B5A0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0" y="1266840"/>
            <a:ext cx="91440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B – “Simple 1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-dating current Error Supplier Unit 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product for Residual Volume at market leve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“smear” factor to be loaded manuall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processing segments for new calculation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B25D-8125-4356-8538-96B9A574F197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0" y="1266840"/>
            <a:ext cx="914400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C – “Simple 2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 Factor per Supplier of Interval/Non-Interval proporti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dated with new regist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nual Parameter of proportion of residual to be recovered from Non-Interva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E8F8-6B18-45CD-AFFC-5A60224A812F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0" y="1266840"/>
            <a:ext cx="91440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C – “Simple 2”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e as with Option B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ra processing for two data eleme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imports for the two new pieces of dat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4"/>
          <p:cNvSpPr/>
          <p:nvPr/>
        </p:nvSpPr>
        <p:spPr>
          <a:xfrm>
            <a:off x="3409920" y="6543720"/>
            <a:ext cx="1787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3649-C335-4EB3-BA93-1FC1C2EAAC60}" type="slidenum">
              <a:rPr b="0" lang="en-GB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819160" y="592200"/>
            <a:ext cx="6305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obal Aggreg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0" y="1266840"/>
            <a:ext cx="914400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tion D – “Detailed Smearing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ication as propos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tlement calculations review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Supplier Units be separated into Interval Supplier Units and Non-Interval Supplier Unit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9:05:22Z</dcterms:created>
  <dc:creator>Emma Kelly</dc:creator>
  <dc:description/>
  <cp:keywords>Rev o</cp:keywords>
  <dc:language>en-US</dc:language>
  <cp:lastModifiedBy>osullivan_bre</cp:lastModifiedBy>
  <cp:lastPrinted>2002-07-25T14:31:52Z</cp:lastPrinted>
  <dcterms:modified xsi:type="dcterms:W3CDTF">2010-02-22T15:02:41Z</dcterms:modified>
  <cp:revision>626</cp:revision>
  <dc:subject>Training Session - Module 1</dc:subject>
  <dc:title>All Island Market for Electricity</dc:title>
</cp:coreProperties>
</file>