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16/96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0588-EAE2-4859-A5A5-A32E9E27640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A47B-22B7-4C48-ADEF-4B28C6FB954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52B3-3AB1-41ED-ABF0-FF3E5CC74B3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Times New Roman"/>
              </a:rPr>
              <a:t>SEMO would need 3 years verified Supplier data on actual error to reduce cash flow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15C4-5EC0-410F-94DF-079548517D1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Header Placeholder 3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6B1F-5193-4C73-83FF-83870CD95079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##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E0EF0-3FFD-4CC5-965B-37AC9D451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FB7BF-63D1-4D14-8CBC-FD4A4ADE4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6FB4-480D-487E-B2D8-D27A21B1D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5BFA0-DF3A-4D52-80FD-0B44C4D007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7DE52-0599-4FE0-97ED-AFA5D2DDEF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897ED-E682-4561-A2B1-5B5237BA79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CA05F-56C8-4322-B652-58ED182B46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9D47C-5CAB-431B-BDF0-2D78BF9D12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57BE7-4F09-4914-B629-55D8E57C6B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E7F5C-7F32-4E6E-8936-8BB4926740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B0A46-73CC-4994-8789-C9509BE653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A4CCE-92FB-4A5B-BA13-E06796D16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547B2-515D-478B-8110-7599FD36DA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C3F79-8442-4434-AC3B-0E9A420FB3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7174B-6BAD-4C5F-BE8A-A3F6AC45A1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8F1DA-6778-407A-9A19-1C74638259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562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7480" y="147312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44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562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7480" y="3999240"/>
            <a:ext cx="254340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85EC2-9112-4DF7-9E78-E45442F382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FEB4-432D-4337-89C9-4A03B575D4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D8D1F-AD8C-4F57-802E-5AAE2B3AC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5B4BB-9C9F-4100-97AF-8B2301B04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01320" y="404280"/>
            <a:ext cx="5124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27023-BDF5-4594-8391-927099EC3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8C9F9-120B-4C71-BB05-13C8B2418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3280" y="399924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DD62-1EB1-4328-966E-97DEFC6FB1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3280" y="1473120"/>
            <a:ext cx="38548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3999240"/>
            <a:ext cx="7899480" cy="23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90A2B-F3C3-4586-8136-942A0E688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EirGrid_Logo_LORES"/>
          <p:cNvPicPr/>
          <p:nvPr/>
        </p:nvPicPr>
        <p:blipFill>
          <a:blip r:embed="rId2"/>
          <a:stretch/>
        </p:blipFill>
        <p:spPr>
          <a:xfrm>
            <a:off x="0" y="6100920"/>
            <a:ext cx="1486080" cy="757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5" descr="banner1_01"/>
          <p:cNvPicPr/>
          <p:nvPr/>
        </p:nvPicPr>
        <p:blipFill>
          <a:blip r:embed="rId3"/>
          <a:srcRect l="1411" t="0" r="0" b="0"/>
          <a:stretch/>
        </p:blipFill>
        <p:spPr>
          <a:xfrm>
            <a:off x="7810560" y="6095880"/>
            <a:ext cx="1342800" cy="762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Semo logo.jpg"/>
          <p:cNvPicPr/>
          <p:nvPr/>
        </p:nvPicPr>
        <p:blipFill>
          <a:blip r:embed="rId4"/>
          <a:stretch/>
        </p:blipFill>
        <p:spPr>
          <a:xfrm>
            <a:off x="900000" y="836640"/>
            <a:ext cx="6883560" cy="287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755280" y="3776760"/>
            <a:ext cx="7899480" cy="16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4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6400" indent="-267120">
              <a:spcBef>
                <a:spcPts val="40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178200">
              <a:spcBef>
                <a:spcPts val="4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4520" indent="-1782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04EA-2331-415F-8D8C-1559143028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EirGrid, SONI, 2007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228600">
              <a:spcBef>
                <a:spcPts val="799"/>
              </a:spcBef>
              <a:spcAft>
                <a:spcPts val="799"/>
              </a:spcAft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62481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EirGrid, SONI, 2007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3409560" y="654336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57D7-1477-4791-97D9-5909B9FBD1E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5" descr=""/>
          <p:cNvPicPr/>
          <p:nvPr/>
        </p:nvPicPr>
        <p:blipFill>
          <a:blip r:embed="rId2"/>
          <a:stretch/>
        </p:blipFill>
        <p:spPr>
          <a:xfrm>
            <a:off x="0" y="6303960"/>
            <a:ext cx="857160" cy="554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6" descr="EirGrid_Logo_LORES"/>
          <p:cNvPicPr/>
          <p:nvPr/>
        </p:nvPicPr>
        <p:blipFill>
          <a:blip r:embed="rId3"/>
          <a:stretch/>
        </p:blipFill>
        <p:spPr>
          <a:xfrm>
            <a:off x="8086680" y="182520"/>
            <a:ext cx="905040" cy="460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7" descr="banner1_01"/>
          <p:cNvPicPr/>
          <p:nvPr/>
        </p:nvPicPr>
        <p:blipFill>
          <a:blip r:embed="rId4"/>
          <a:srcRect l="1411" t="0" r="0" b="0"/>
          <a:stretch/>
        </p:blipFill>
        <p:spPr>
          <a:xfrm>
            <a:off x="8105760" y="655560"/>
            <a:ext cx="876240" cy="496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Semo logo.jpg"/>
          <p:cNvPicPr/>
          <p:nvPr/>
        </p:nvPicPr>
        <p:blipFill>
          <a:blip r:embed="rId5"/>
          <a:stretch/>
        </p:blipFill>
        <p:spPr>
          <a:xfrm>
            <a:off x="200160" y="371520"/>
            <a:ext cx="1755720" cy="73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12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798B-6E34-4A3F-8051-11D52D2341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7120" y="3429000"/>
            <a:ext cx="8521920" cy="28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od_34_09 </a:t>
            </a:r>
            <a:br>
              <a:rPr sz="2000"/>
            </a:br>
            <a:r>
              <a:rPr b="1" lang="en-IE" sz="2000" spc="-1" strike="noStrike" u="sng">
                <a:solidFill>
                  <a:srgbClr val="000000"/>
                </a:solidFill>
                <a:uFillTx/>
                <a:latin typeface="Arial"/>
              </a:rPr>
              <a:t>High Level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act Assessment of 4 Op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15D1-0849-48DF-9C53-594B270A620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Four Options exami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 A –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ALANCING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 B –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INGLE FACTOR SM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 C –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UAL FACTOR SM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 D –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ETAILED SM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on A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Balancing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rror Supplier Unit no longer assigned to a Participant in S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SU volumes cost recovery from Suppliers throug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alancing C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EM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No systems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Forecast ESU volumes cost as part of Price Contro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Manage cash flow (forecast ESU vs. act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ption B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INGLE FACTOR SMEA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Summary </a:t>
            </a: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Indicative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Impact Assess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ssumption: Algorithm for smear will be similar to Currency Cost 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ll configuration for ESU to be end-d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wo new import sourc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ew processing segments after Currency Cost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Effort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Medium: 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€37k – €55.5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tion 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DUAL FACTOR SMEA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ummary </a:t>
            </a: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Indicative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Impact Assess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imilar to Option 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ssumption: Algorithm for smear will be similar to Currency Cost 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ll configuration for ESU to be end-d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Four new import sourc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ew processing segments after Currency Cost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Effo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edium: 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€37k – €55.5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tion 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DETAILED SMEAR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ummary </a:t>
            </a: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Indicative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Impact Assess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imilar Settlement system changes to Optio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lu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ew interface from Settlement to MI to import Interval/Non-Interval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ddition of Interval/Non-Interval flag to Supplier Unit Registration scree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Update of MPR scre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Update of DB routines to populate new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Effort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: Medium: €74k - €83.25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1"/>
          <p:cNvSpPr/>
          <p:nvPr/>
        </p:nvSpPr>
        <p:spPr>
          <a:xfrm>
            <a:off x="3409920" y="6543720"/>
            <a:ext cx="2133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1A55-6E90-422A-B940-6FF8FE69F6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01320" y="404280"/>
            <a:ext cx="5124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473120"/>
            <a:ext cx="789948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on A –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BALANCING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o systems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on B –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INGLE FACTOR SME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edium: (€37k – €55.5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on C –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UAL FACTOR SME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edium: (€37k - €55.5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on D –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ETAILED SME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spcAft>
                <a:spcPts val="224"/>
              </a:spcAft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edium: (€74k - €83.25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Bef>
                <a:spcPts val="45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Arial"/>
              </a:rPr>
              <a:t>Important: These costs are indicative only 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Arial"/>
              </a:rPr>
              <a:t>will require a Full Impact Assess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14:53:01Z</dcterms:created>
  <dc:creator>Blandine Thiry</dc:creator>
  <dc:description/>
  <dc:language>en-US</dc:language>
  <cp:lastModifiedBy>Aisling O'Donnell</cp:lastModifiedBy>
  <cp:lastPrinted>2002-07-25T14:31:52Z</cp:lastPrinted>
  <dcterms:modified xsi:type="dcterms:W3CDTF">2010-03-05T14:30:32Z</dcterms:modified>
  <cp:revision>793</cp:revision>
  <dc:subject/>
  <dc:title>Training Presentation BLG 190706</dc:title>
</cp:coreProperties>
</file>