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8DD-AF37-4B4F-8077-57F050BEA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2F7-502C-4D94-9064-369B19E4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FE4-FDFE-4BC8-8773-3D5F01B1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CFE-ABEE-410C-8FCA-D685A3FC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E43E-A609-45A5-815B-E978E7D9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02E-9EDB-4725-907A-6171A337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78A2-2F2D-4E22-8537-2B83CAC5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4D61-51F0-421B-BDFA-25D845C0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AD48-B32D-4A4B-877A-F60B63E2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710-811E-488A-A623-19DA83A5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43C-4D6D-42D0-854A-29FAC623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1B72-AE22-4053-9C8B-33C174C5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AC21-10FC-42C8-91E3-E53715A45C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Global Aggregation</a:t>
            </a:r>
            <a:br>
              <a:rPr sz="4400"/>
            </a:b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orksho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agnitude of Global Cor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SB Customer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ction to provide estimate of magnitude of Global Aggregation cor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gree methodology with 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alculate factors in similar fashion to ELEXON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hows potential new risk for Suppliers if within-year adju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sed monthly bills and load profi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ompared profiled bills to SEMO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atio = 1+ [  (SEMO - Profiled) / RoI Pool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lotted the outputs in similar format to the ELEXON charts to enable compari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nualised scaling factor or demand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istribution of HH scal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SB Annual Demand 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76240" y="1413000"/>
            <a:ext cx="664848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LEXON Annual Demand 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76108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SB Half-hourly 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5754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ELEXON Half-hourly 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15824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oth data sets comparable but ELEXON more rob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ighlights new risk of within-year adju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2:02:33Z</dcterms:created>
  <dc:creator>Lowe_J</dc:creator>
  <dc:description/>
  <dc:language>en-US</dc:language>
  <cp:lastModifiedBy>Aisling O'Donnell</cp:lastModifiedBy>
  <dcterms:modified xsi:type="dcterms:W3CDTF">2010-02-23T10:15:13Z</dcterms:modified>
  <cp:revision>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8674369</vt:r8>
  </property>
  <property fmtid="{D5CDD505-2E9C-101B-9397-08002B2CF9AE}" pid="3" name="_AuthorEmail">
    <vt:lpwstr>Stephen.Walsh@esb.ie</vt:lpwstr>
  </property>
  <property fmtid="{D5CDD505-2E9C-101B-9397-08002B2CF9AE}" pid="4" name="_AuthorEmailDisplayName">
    <vt:lpwstr>Walsh. Stephen (Customer Supply)</vt:lpwstr>
  </property>
  <property fmtid="{D5CDD505-2E9C-101B-9397-08002B2CF9AE}" pid="5" name="_EmailSubject">
    <vt:lpwstr>Global Aggregation Workshop 2 v2.ppt</vt:lpwstr>
  </property>
  <property fmtid="{D5CDD505-2E9C-101B-9397-08002B2CF9AE}" pid="6" name="_ReviewingToolsShownOnce">
    <vt:lpwstr/>
  </property>
</Properties>
</file>