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647280" y="746280"/>
            <a:ext cx="5375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2FCE-7C68-42F2-A78B-CF64C2B410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21D3-B380-4363-A23E-6E078AEEA3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647640" y="746280"/>
            <a:ext cx="5375160" cy="37209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91598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4120" y="3930480"/>
            <a:ext cx="91598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412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780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1200" y="131076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77920" y="131076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4120" y="393048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1200" y="393048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77920" y="3930480"/>
            <a:ext cx="294912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2960" y="576360"/>
            <a:ext cx="91598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412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7800" y="393048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412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7800" y="1310760"/>
            <a:ext cx="446976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4120" y="3930480"/>
            <a:ext cx="91598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2960" y="576360"/>
            <a:ext cx="9159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120" y="1310760"/>
            <a:ext cx="9159840" cy="50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23920" indent="-235080"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544760" indent="-230400"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54080" indent="-218880">
              <a:spcBef>
                <a:spcPts val="15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54080" indent="-2188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54080" indent="-2188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Chevron 10"/>
          <p:cNvSpPr/>
          <p:nvPr/>
        </p:nvSpPr>
        <p:spPr>
          <a:xfrm>
            <a:off x="0" y="0"/>
            <a:ext cx="9893160" cy="376200"/>
          </a:xfrm>
          <a:custGeom>
            <a:avLst/>
            <a:gdLst>
              <a:gd name="textAreaLeft" fmla="*/ 0 w 9893160"/>
              <a:gd name="textAreaRight" fmla="*/ 9893520 w 98931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550" y="0"/>
                </a:lnTo>
                <a:lnTo>
                  <a:pt x="21600" y="10800"/>
                </a:lnTo>
                <a:lnTo>
                  <a:pt x="20550" y="21600"/>
                </a:lnTo>
                <a:lnTo>
                  <a:pt x="0" y="21600"/>
                </a:lnTo>
                <a:lnTo>
                  <a:pt x="1050" y="1080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3181320" y="12600"/>
            <a:ext cx="3506760" cy="351000"/>
          </a:xfrm>
          <a:prstGeom prst="rect">
            <a:avLst/>
          </a:prstGeom>
          <a:solidFill>
            <a:srgbClr val="ffffff"/>
          </a:solidFill>
          <a:ln w="50760">
            <a:solidFill>
              <a:srgbClr val="365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70c0"/>
                </a:solidFill>
                <a:latin typeface="Arial"/>
              </a:rPr>
              <a:t>NIE Market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5964120" y="0"/>
            <a:ext cx="7002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3173400" y="0"/>
            <a:ext cx="13604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9440" y="6192720"/>
            <a:ext cx="1511280" cy="5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58680" y="1722600"/>
            <a:ext cx="798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IE Meter Data Provider Impact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sentation to T&amp;SC Working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 Global Ag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nis Kelly – 23</a:t>
            </a:r>
            <a:r>
              <a:rPr b="1" lang="en-US" sz="2400" spc="-1" strike="noStrike" baseline="30000">
                <a:solidFill>
                  <a:srgbClr val="000099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February 2010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8680" y="920880"/>
            <a:ext cx="915984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b3"/>
                </a:solidFill>
                <a:latin typeface="Arial"/>
              </a:rPr>
              <a:t>Options for Smearing &amp; their NIE Impact</a:t>
            </a:r>
            <a:endParaRPr b="1" lang="en-US" sz="2400" spc="-1" strike="noStrike">
              <a:solidFill>
                <a:srgbClr val="0053b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66480" y="1720800"/>
            <a:ext cx="92026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tion 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MDP aggregates the ex-PES’s new Supplier Units and the financial effects of the residual difference is covered in the Balancing Cost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part from significantly increased volumes of data to be processed and the corresponding increase in batch run times, there would be a very low impact on NIE MDP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Enduring Solution design has included provision for the aggregation of at least 1 million MPRNs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84040" indent="-284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ption A therefore could be implemented with relative ea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D026-1FC6-4F42-8BBE-BF1F94A582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ontent Placeholder 2"/>
          <p:cNvSpPr/>
          <p:nvPr/>
        </p:nvSpPr>
        <p:spPr>
          <a:xfrm>
            <a:off x="357120" y="1720800"/>
            <a:ext cx="91695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78280" indent="-27828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tion B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MDP provides an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nua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non-interval factor to SEMO per Supplier Unit to allow them to apportion the residual difference according to the HH v NHH Sp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f the annual HH/NHH factor per Supplier Unit is to be provided in a manual DA report (i.e. e-mailed rather than via an interface to SEMO) the impact would be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n a specified date, the MDP would e-mail this new report using the latest data available i.e. there would be no re-aggreg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 low impact (but less accurate) option would be to take an annual snapshot of the retail billing system HH/NHH split, but not by supplier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188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8280" indent="-278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ption B therefore could be implemented with medium impact and c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C1B9-CCD8-4121-A21D-53DD5FFA0A2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tent Placeholder 2"/>
          <p:cNvSpPr/>
          <p:nvPr/>
        </p:nvSpPr>
        <p:spPr>
          <a:xfrm>
            <a:off x="349200" y="1712880"/>
            <a:ext cx="92026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tion C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MDP provide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ekly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non-interval factor to SEMO per Supplier Unit to allow them to apportion the residual difference according to the HH v NHH Spl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weekly HH/NHH factor per supplier unit would be provided in a new DA report sent via the existing Webwise interface with SEMO. The impact would be high due to the changes necessary to this interface and the creation of a new re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 decision is required as to whether this report simply uses the latest data available on the scheduled date or if a re-aggregation of the HH/NHH factor for that date would be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ption C would therefore have high impact and cost im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1AD1-C257-4651-8973-7F955AEA56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ontent Placeholder 2"/>
          <p:cNvSpPr/>
          <p:nvPr/>
        </p:nvSpPr>
        <p:spPr>
          <a:xfrm>
            <a:off x="374760" y="1720800"/>
            <a:ext cx="923760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tion D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– SEMO provide the MDP with registered Supplier Units for both interval and non-interval data. SEMO can then use the resulting discreet data flows to apply the residual dif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separation of metering data into HH and NHH supplier units would require a significant data migration effort and therefore would have a high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SMO report and Webwise interface would require mod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this initial work load, the ongoing business impact would be 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23560">
              <a:spcBef>
                <a:spcPts val="561"/>
              </a:spcBef>
              <a:buClr>
                <a:srgbClr val="000099"/>
              </a:buClr>
              <a:buSzPct val="75000"/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ption D therefore has very high set up but low ongoing im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1"/>
          <p:cNvSpPr/>
          <p:nvPr/>
        </p:nvSpPr>
        <p:spPr>
          <a:xfrm>
            <a:off x="322200" y="6559560"/>
            <a:ext cx="444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9EBB-0EE0-4A7B-B322-691DE90494F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372960" y="704880"/>
            <a:ext cx="915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480960" y="1441440"/>
            <a:ext cx="920772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 algn="just">
              <a:lnSpc>
                <a:spcPct val="125000"/>
              </a:lnSpc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inor changes required to NIE internal business process docu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25000"/>
              </a:lnSpc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preferred options for T&amp;D MDP on the basis of initial and ongoing costs are Options A followed by Option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25000"/>
              </a:lnSpc>
              <a:spcBef>
                <a:spcPts val="1125"/>
              </a:spcBef>
              <a:buClr>
                <a:srgbClr val="000099"/>
              </a:buClr>
              <a:buSzPct val="75000"/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e can however accommodate any of the options should the market determ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460440" y="3797280"/>
            <a:ext cx="9245520" cy="1620000"/>
          </a:xfrm>
          <a:prstGeom prst="rect">
            <a:avLst/>
          </a:prstGeom>
          <a:solidFill>
            <a:srgbClr val="eded03"/>
          </a:solidFill>
          <a:ln w="3816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. Option 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ow business process &amp; cost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. Option B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 business process &amp; cost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. Option C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dium business process &amp; high cost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. Option D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itially high cost but ongoing low business process impa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9:13:56Z</dcterms:created>
  <dc:creator>CDS</dc:creator>
  <dc:description/>
  <dc:language>en-US</dc:language>
  <cp:lastModifiedBy>fwdpk</cp:lastModifiedBy>
  <cp:lastPrinted>2008-07-29T16:41:07Z</cp:lastPrinted>
  <dcterms:modified xsi:type="dcterms:W3CDTF">2010-02-19T11:33:17Z</dcterms:modified>
  <cp:revision>455</cp:revision>
  <dc:subject/>
  <dc:title>Slide 1</dc:title>
</cp:coreProperties>
</file>