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8.jpeg" ContentType="image/jpe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E38D69BB-2989-40E4-AE27-1E8441264C47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1691381-5635-40E8-9845-8B26977D3BD1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557-CE08-46A7-A5FD-EC8EEC4D51C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0A90-0695-4FE4-ABB5-A81A2F7833A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CC42-5E23-45B4-A198-468AFABFDA5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0FF8-F371-4923-972B-64C98AEDD44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1241-36CC-4B7A-8749-CC5F1814BC08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Mention previous attempts to deal with Global Aggregation in the individual jurisdictions – MOIP in ROI, SIMDRACS in SEM, and FEMO in NI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B7FE-BF8B-454D-8EB9-7196118F413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9292-CA47-4282-99E6-22C0219CB27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26E7-71EE-4F21-95AD-959AA9D757B9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A44-BEBE-4F5E-A2D5-89DC6A30469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entury Gothic"/>
              </a:rPr>
              <a:t>On driver for change, refer to the very informative slides provided by Stephen Walsh and William Steele at the last working grou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2A3-E372-46EE-926A-79D4B39CA96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73C-6073-4A96-BF0A-34703D3D098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B236-F3AB-4FC0-9F02-463978BF869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4DC7-EFE2-4F6A-89DC-37C353BC9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868C-541E-444B-BA07-57A225E4C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8A07-BA7B-4A84-87C8-8964AFF3A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5A64-F709-49C0-ACE3-8A9A9216C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F1E-A7EF-4C6B-9597-0AD9EFB469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38A-BA95-4A4E-ACE9-C5294B683D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494-9D5B-475E-AE14-ECED8DA3C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685D-1708-4933-BF38-E30CC77F8C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38D-5523-40CB-863B-1074A16DEC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2FA-0645-44CE-B1D4-FD98B02E01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454-A1CA-42B9-9C34-0D45D65FE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93DC-0E03-4A7C-AE07-3D61CB8AD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656-9290-4828-BC85-6B9C6C7908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BDC-FA65-446F-9250-565B25C3FE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6FC-93E3-4CFB-ADFF-6FC15018B8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0DD-A231-4135-AE6C-2061627FF1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F61-E78C-46A5-ABDB-A32F051D90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93BA-71C6-41B8-9DE4-05C0FBFE7C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9F5A-EFC6-437D-8A30-2E1BD46CB4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BB55-8971-4EE7-911B-5BFAD5B2D6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0B1-3332-4EC2-9DD8-65F9D46118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F664-E70F-4962-9786-CA92A197A9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7789-4F49-4360-8983-494DE999BB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65DC-18D2-4B6B-B7A5-BA870E1BA6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08CB-9BC8-466E-A0EA-0C62F9CE04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DD4D-E0F7-430B-9A23-488E3C21D2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E54F-215C-45FF-9C9F-608E108DC0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6C5B-AACF-45C8-A261-DDBFDD928E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B972-85A4-41B3-B39C-A0D705169F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677A-91A6-4C03-885D-31D6B6A6BB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59569-7E16-430B-8EC2-6626447321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FA602-3944-4C6C-9426-8EC85CFDBB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1D2A0-A99A-46E9-B42F-110B7CA9E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F00C-D4E8-4B20-8525-B4857631BB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4B0D4-3BDB-4CE0-8062-55561A5620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8DE76-B8CC-4D40-B43D-7B34461333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DF192-989A-4548-B220-8ACC046028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A448E-04D6-4397-8303-0339511C55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EB460-2979-4EBE-B2A0-D8F79F3DF3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7AFC7-1F30-48AD-BE83-404699D63D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D67A6-1E9A-4C47-8ADA-082428908C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20BB7-FE2D-4941-8B03-3F27339429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6AE4B-267E-4E86-B361-A39CA01D64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68B32-634C-469A-810B-328BF128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1734-A291-44E4-A692-8D279B74A3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FE3B2E-7D05-48F7-80E7-F7F62154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AC905-2975-46B2-8DA8-AF39AC0F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53051-C30A-4D06-A54B-86054E1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4EEB2E-ECB3-4BF6-BD1B-75BDF6D8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822878-3928-46B3-8801-F45DCF06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778E4-A93B-4F48-860A-DC1249D1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F88F5-8245-40D8-83C6-9B96DA2F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F7756-14E3-42D8-89A7-0162894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93698-ABC8-43DD-B916-B337B26E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8AEC8-B0ED-4ACC-9B29-27385A7F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9466-BC9D-43EF-A3AB-A8033033F2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00930-42CB-4A81-8C37-A411272F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DF8A-413B-4B69-8FF3-64D80C448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019F-CB8D-45FE-BC61-756893BA9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1F31-32B3-489F-B0FE-56B65CD4C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38F7-01B3-4EEB-8009-6141B0A3CFE4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A22E-E543-407D-B6A5-2ECB5D20E85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6EAD-97A0-4746-8380-7D8D69A170BF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7CD6-D327-4D94-B786-D4DB0A3D3E1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9FAC-B74D-4765-ADBE-B07393C5521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89F-7DB7-4672-93B0-A2137B25F243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4772-57EC-4DAC-9613-9D0F1786A09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1266840"/>
            <a:ext cx="9144000" cy="38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EMO &amp; RA met December 1</a:t>
            </a:r>
            <a:r>
              <a:rPr b="0" lang="en-IE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to develop options paper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our options written up and circulated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A – recovered through SEMO balancing co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B – smear across Suppliers based on annual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C – smear across Supplier based on monthly factor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ption D – as set out in modification propos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DFC7-5CE5-460F-9EEB-FAFAD36D8B6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66840"/>
            <a:ext cx="9144000" cy="43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presented on magnitude of actual error in ESU in RO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resented on magnitude of actual error in ESU in N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presented results of impact assessmen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RSO proposed option E, further enhancement on option 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CFAD-1096-4B55-AE45-7E1CBA2A9399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266840"/>
            <a:ext cx="9144000" cy="20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mary of system impacts for the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436760" y="3036960"/>
          <a:ext cx="6095880" cy="14842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tion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 T&amp;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EEA1-8B38-4EB9-BF5D-4CD711BD299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0" y="1266840"/>
            <a:ext cx="91440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to meet to further review options D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further develop option A+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mpact assess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IE PPB to consider how to deal with issue exclusively in the retail side of the mark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914-B10E-4B8A-A857-6E3F4C7189CE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hat is Global Aggreg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ocess of providing an aggregation for all registered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aggregation of Host Suppli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 implementation means Host Supplier calculated by dif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rror Supplier Unit in the S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 just Host Supplier volumes but also other errors includ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BF98-CABB-48F2-B651-F3D5C6BE2FD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2409840"/>
            <a:ext cx="91440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3D4F-4D05-4F29-9D97-849835003C88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0" y="2467080"/>
            <a:ext cx="91440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BDAA-33A4-4774-AF6E-2D30353E5B9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266840"/>
            <a:ext cx="914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uses of imbalance?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correct profiles of non-interval meters considered chief contribu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8844-7BC1-4643-81DD-AC6984EB0E5A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developed in conjunction with ESSG in N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21081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Not dependent on the ESSG, ESSG being designed as GA read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29354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SSG timelines being followe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7920" y="3770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iver for change is retail requirem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460548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ssue included in CER/10/058, decision on Roadmap to Deregul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9C22-ECD1-4646-B4A6-7DA181573FD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126684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34.09 raised by ESB C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7920" y="21160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 proposes separation of SU into Interval SU and Non-Interval S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0" y="295128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aised at Mods Meeting 24 (29.09.09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-7920" y="382896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ods Panel recommended setting up Working Group to explore furth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0" y="4692600"/>
            <a:ext cx="91440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erms of reference for Working Group circulated, Nov 2009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E386-1F07-4174-8A73-05977A364C4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266840"/>
            <a:ext cx="9144000" cy="53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resentations &amp; Discussion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suggested assigning ESU to non-competing Party under the Cod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suggested simpler smear across all Supplier Unit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DPs presented on impact on syste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reement that Global Aggregation required to ensure all Suppliers be treated equall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assess the magnitude of the actual error in the ESU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69B7-3C5B-4265-94B0-604811C562E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- Reca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0" y="1266840"/>
            <a:ext cx="91440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1, held on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November 2009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RA to meet to further develop 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B CS &amp; NIE to provide estimation of 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s Panel to decide if impact assessments should be sough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Brendan O'Sullivan</dc:creator>
  <dc:description/>
  <dc:language>en-US</dc:language>
  <cp:lastModifiedBy>Aisling O'Donnell</cp:lastModifiedBy>
  <cp:lastPrinted>2002-07-25T14:31:52Z</cp:lastPrinted>
  <dcterms:modified xsi:type="dcterms:W3CDTF">2010-04-27T08:01:04Z</dcterms:modified>
  <cp:revision>643</cp:revision>
  <dc:subject>Mod 34_09 Recao</dc:subject>
  <dc:title>SEMO</dc:title>
</cp:coreProperties>
</file>