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0.png" ContentType="image/png"/>
  <Override PartName="/ppt/media/image5.wmf" ContentType="image/x-wmf"/>
  <Override PartName="/ppt/media/image6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2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i="1" lang="en-GB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Century Gothic"/>
              </a:rPr>
              <a:t>07/16/9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3"/>
          </p:nvPr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4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i="1" lang="en-GB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A7AE882F-71D8-46EF-B118-285FF54336DE}" type="slidenum">
              <a:rPr b="0" i="1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691B59C7-4E53-42BD-87C9-2C65FB99CC4C}" type="slidenum">
              <a:rPr b="0" i="1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BDDC-0609-4494-B77B-F9335D80C266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D7F6-5890-4975-ACE3-C13E3F91315F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C523-47C3-4A19-8F32-65D2BA803DA4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3607-016C-4DD8-A018-ADCE9488E3DF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62B0-7369-4080-BF10-2DD4CC04612A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A92D-ACFD-4684-8FCA-0473C97503AB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4F07-2984-4A26-B33D-93F842FAD6DC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B4ED-B417-48CA-A5B4-70461622D927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198E-73CA-421F-BE24-FBF5B79A9905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6B4A-67EF-4B83-936B-952571FA579F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9085-12C1-40AB-BA78-C2E60695E3A6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9EBE-0EF6-4AEA-956F-520EF570E8EB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51CB-2B45-4F14-9837-F0F2B13AB805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339BB-4247-4F01-B083-FBC02E6FF8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5DD30-FFA0-417C-B314-8AD7C810EF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835F1-AFBA-468B-830A-22E7444B08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523F8-3427-44C7-AD6F-31977E3799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F9F3-76B9-4578-AF26-DE892B98A5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68AB-9B1D-49EE-B2E9-76B4C73529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80F1-1236-4E53-B59D-0A142C565C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F638-5133-4885-A2B0-062CF7B8D0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941A-34E8-46C9-861E-48599FE6D2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0E78-AA42-4298-938C-7AD136CEBB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3113-F21D-4DE4-BE23-694485B46E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0E624-A7A4-46BB-B1FB-06067FD341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2EF4-418A-4C97-9F31-AE17AB4927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6DC9-6630-49E5-98BD-89C280BA2C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1F05-D50F-4B8D-84AF-CA86749317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A1E9-2DDC-4BDF-B412-36584CC711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F1DD-4EF7-4D69-A7D5-E43DE5B3D28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DC98-3E66-412A-9108-64E0C07C4DF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95F9-B433-4C03-8AB6-C7A15861261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ACB1-A4F6-42F0-BF28-33C4358F91F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F55B-BA4E-4934-8150-3D35E22FBA2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A94D-F378-4647-98D1-6EB342351C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3A440-FB73-404B-B1E2-EFDDB49BCC1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C59F-6A6A-4595-8D32-67700028B99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2DE7-FA90-40E2-A092-178F168DEF3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0EE8-43B6-438A-A2A7-0D5E39391F6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C9E8-CB76-444B-9ED7-79C1A6E595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60FB-9410-460C-B675-E3DBCF90F5C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5270-80C5-412B-A676-BC4C01F703C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A9C0-2FCA-4BE3-97AB-E8990F26CE9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B561F2-0024-479D-883F-CD97A20F8B0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E1C845-4E2F-4DC6-A8F2-2748D7E4C48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F38BE4-AF1E-4735-A121-6CBBCFC317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63E92-797A-48BF-A681-8DF73D1622E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CF670F-5092-47AC-909F-6E93CBFA92C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C0C47C-2D8E-441C-9241-F144B2089C8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3AA792-2DED-407B-9455-53C6D725C71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406129-9743-4086-9E7F-C94BCDF28E0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9CDDAA-3771-43E5-BFAD-92469F3B365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6B14B2-A909-4B32-8227-BB204289D50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20359D-F6C8-48AF-9A23-4A6CF32993E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C6078D-7A83-46B9-844C-3CB69E405E4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54AB65-74CC-4656-95F7-BA3840AD10B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59F32F-FCC2-4FA8-8064-5CEC77540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0D150-A331-4567-B363-D491CF9B2D1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BEDF74-136C-486F-9F46-FE57C15D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66399D-0AFE-4CA6-9D0D-9BD6806A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655009-4C67-4BB7-BCA1-919B6122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2DB64C-B492-4FD7-9484-B1832ED0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90CBA4-4761-4F55-938B-942660EC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516E49-E10A-4D4E-9C9F-A9E776CD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6C09AA-D9C7-42FE-9FE8-C615D8C6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3170C4-810F-445E-ACF6-11412D22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D61C82-3147-436B-A962-EB4C58D7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06AD71-3A06-4292-86EA-7EA51ACD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F3398-0740-4EED-B8B8-1F0201C6679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68966C-03F6-4989-B988-3F496F2D5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0C207-48AC-481E-A063-1D60704ACD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6A183-6D9D-488E-A50C-D9BEAE3030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4129C-64AE-42B1-875D-ADFFA9DE2C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5580000" y="6552720"/>
            <a:ext cx="356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opyright EirGrid/SONI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2760-B532-45F3-8B37-863447293D1A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5614920"/>
            <a:ext cx="1306440" cy="124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4" descr="EirGrid_Logo_LORES"/>
          <p:cNvPicPr/>
          <p:nvPr/>
        </p:nvPicPr>
        <p:blipFill>
          <a:blip r:embed="rId2"/>
          <a:stretch/>
        </p:blipFill>
        <p:spPr>
          <a:xfrm>
            <a:off x="0" y="6100920"/>
            <a:ext cx="1486080" cy="757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5" descr="banner1_01"/>
          <p:cNvPicPr/>
          <p:nvPr/>
        </p:nvPicPr>
        <p:blipFill>
          <a:blip r:embed="rId3"/>
          <a:srcRect l="1411" t="0" r="0" b="0"/>
          <a:stretch/>
        </p:blipFill>
        <p:spPr>
          <a:xfrm>
            <a:off x="7810560" y="6095880"/>
            <a:ext cx="1342800" cy="762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Semo logo.jpg"/>
          <p:cNvPicPr/>
          <p:nvPr/>
        </p:nvPicPr>
        <p:blipFill>
          <a:blip r:embed="rId4"/>
          <a:stretch/>
        </p:blipFill>
        <p:spPr>
          <a:xfrm>
            <a:off x="900000" y="836640"/>
            <a:ext cx="6883560" cy="2879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755280" y="3776760"/>
            <a:ext cx="7899480" cy="16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B56B-B88E-47A0-8464-A6760A627F1E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EirGrid, SONI, 2007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EirGrid, SONI, 2007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8D23-38BC-44B6-9F72-C62007694D24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6" descr="EirGrid_Logo_LORES"/>
          <p:cNvPicPr/>
          <p:nvPr/>
        </p:nvPicPr>
        <p:blipFill>
          <a:blip r:embed="rId3"/>
          <a:stretch/>
        </p:blipFill>
        <p:spPr>
          <a:xfrm>
            <a:off x="8086680" y="182520"/>
            <a:ext cx="905040" cy="460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7" descr="banner1_01"/>
          <p:cNvPicPr/>
          <p:nvPr/>
        </p:nvPicPr>
        <p:blipFill>
          <a:blip r:embed="rId4"/>
          <a:srcRect l="1411" t="0" r="0" b="0"/>
          <a:stretch/>
        </p:blipFill>
        <p:spPr>
          <a:xfrm>
            <a:off x="8105760" y="655560"/>
            <a:ext cx="876240" cy="496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Semo logo.jpg"/>
          <p:cNvPicPr/>
          <p:nvPr/>
        </p:nvPicPr>
        <p:blipFill>
          <a:blip r:embed="rId5"/>
          <a:stretch/>
        </p:blipFill>
        <p:spPr>
          <a:xfrm>
            <a:off x="200160" y="371520"/>
            <a:ext cx="175572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6" descr="EirGrid_Logo_LORES"/>
          <p:cNvPicPr/>
          <p:nvPr/>
        </p:nvPicPr>
        <p:blipFill>
          <a:blip r:embed="rId3"/>
          <a:stretch/>
        </p:blipFill>
        <p:spPr>
          <a:xfrm>
            <a:off x="8086680" y="182520"/>
            <a:ext cx="905040" cy="46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7" descr="banner1_01"/>
          <p:cNvPicPr/>
          <p:nvPr/>
        </p:nvPicPr>
        <p:blipFill>
          <a:blip r:embed="rId4"/>
          <a:srcRect l="1411" t="0" r="0" b="0"/>
          <a:stretch/>
        </p:blipFill>
        <p:spPr>
          <a:xfrm>
            <a:off x="8105760" y="655560"/>
            <a:ext cx="876240" cy="496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Semo logo.jpg"/>
          <p:cNvPicPr/>
          <p:nvPr/>
        </p:nvPicPr>
        <p:blipFill>
          <a:blip r:embed="rId5"/>
          <a:stretch/>
        </p:blipFill>
        <p:spPr>
          <a:xfrm>
            <a:off x="200160" y="371520"/>
            <a:ext cx="1755720" cy="7351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7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EirGrid, SONI, 2007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0089-D847-4542-BABE-45014E0593D0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3366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8" descr="SEMO LOGO"/>
          <p:cNvPicPr/>
          <p:nvPr/>
        </p:nvPicPr>
        <p:blipFill>
          <a:blip r:embed="rId2"/>
          <a:stretch/>
        </p:blipFill>
        <p:spPr>
          <a:xfrm>
            <a:off x="1692360" y="861840"/>
            <a:ext cx="5788080" cy="24228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A275-7B02-4545-969F-1E10CBF9E40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© EirGrid &amp; SONI, 200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24B4-6A67-49AE-BB70-04BAC33D2D1F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377720" y="4962600"/>
            <a:ext cx="6676920" cy="6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Global Aggregation Working Gro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IE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 April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774720" y="2600280"/>
            <a:ext cx="7772400" cy="25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5811-4FB2-4DD2-BF7B-BA6524058DA3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– SEMO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0" y="1266840"/>
            <a:ext cx="9144000" cy="15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nfigured updated calculation to get to modified Net Demand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Used the average Trading Period SMP for March 2010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1243080" y="2921040"/>
            <a:ext cx="6105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94D1-8063-41AC-9754-7B7ECBEDD19F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– SEMO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0" y="1266840"/>
            <a:ext cx="914400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Small rounding variances observed on one of the data set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verage variance of -0.0000169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Variances were balanced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ayment calculations for Suppliers were the sam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Demonstrates accuracy of Option E to Option D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487A-3D70-4A8C-A88D-37F1FD19E144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– SEMO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0" y="1266840"/>
            <a:ext cx="9144000" cy="47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urther benefits of Option E –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o change to Credit Risk requirements of the SEM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isk of migration strategy significantly reduced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urrently 66 Suppliers registered in the SEM of which at least half would have to become two Supplier Units under option D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duced registration overheads on future Supplier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on-Participant Generation managed easier than under option D;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94A7-9E41-4DF4-BF13-2D2A59CEA4F6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– SEMO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0" y="1266840"/>
            <a:ext cx="9144000" cy="55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Updated Option A+ –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quirements for reporting on Residual Volum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ublic report of MWh value per Trading Period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JMGLF and JMDLF currently included in public market reports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Residual Volume = (JMGLF – JMDLF)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Data will continue to be included post implementation of Global Aggregation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SEMO suggest that current public reports meet the requirements of A+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0F68-1680-432F-A5C2-1ABFD118F39B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– SEMO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0" y="1266840"/>
            <a:ext cx="914400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mmary of SEMO system impacts for the option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on A – No system cos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on B – Medium (€37K - €55.5K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on C – Medium (€37K - €55.5K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on D – Medium (€74K - €83.25K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on E – Medium (€55K - €74K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Box 9"/>
          <p:cNvSpPr/>
          <p:nvPr/>
        </p:nvSpPr>
        <p:spPr>
          <a:xfrm>
            <a:off x="711360" y="5311800"/>
            <a:ext cx="743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0000"/>
                </a:solidFill>
                <a:latin typeface="Arial"/>
              </a:rPr>
              <a:t>Important: These costs are indicative only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0000"/>
                </a:solidFill>
                <a:latin typeface="Arial"/>
              </a:rPr>
              <a:t>will require a Full Impact Assess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1C5C-E75B-4639-AD8E-6E01EC71B9F4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– SEMO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1266840"/>
            <a:ext cx="9144000" cy="32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Working Group 2, held on 23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February 2010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ctions –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O &amp; MDPs to meet to further review options D and 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O to impact assess options A+ and 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FC7F-4127-4AE8-A2CD-06B44718D204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– SEMO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0" y="1266840"/>
            <a:ext cx="914400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Meeting between MRSO, NIE T&amp;D and SEMO took place on March 5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urther review of Options D and 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Option E confirmed as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gregation for Supplier Units as norm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lusion of a % value for each Trading Peri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% value will indicate at a MW level the proportion of the aggregation that is made up of non-interval metering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% value can change on M+4 and M+13 re-aggregation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D70B-EC36-4D70-8F03-5CD2C257A941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– SEMO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0" y="1266840"/>
            <a:ext cx="8926560" cy="62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urther Impact Assessment requested from vendors on option 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Similar changes as required under Options C/D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o changes to Settlement/MI interface or Registration system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Meter webservice to be extended;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Additional variables to be configured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Assumption: No validations on the new field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Effort: Medium: €55k - €74k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CE7B-C27B-4B6D-89B3-F4E4884AF276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– SEMO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0" y="1266840"/>
            <a:ext cx="9144000" cy="39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otes comments at Working Group 2 with respect to accuracy of Option 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MDPs worked with SEMO to demonstrate accuracy of Option 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MRSO &amp; NIE T&amp;D provided SEMO with sample data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Sample data based on actual aggregated quantities for one Supplier Unit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One data set to follow the proposed Option D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Other data set to follow Option 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05AF-8EBB-4101-8F9B-D3E2D47B9AB1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– SEMO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157320" y="1409760"/>
            <a:ext cx="88293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15A1-9B24-46AA-A1BC-F79CEF4995E6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– SEMO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0" y="1266840"/>
            <a:ext cx="9144000" cy="33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MVPI set to 30%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andom values select for the Residual Meter Volum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or Option D, applied equation from modificatio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716040" y="3359160"/>
            <a:ext cx="6114960" cy="3230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2"/>
          <a:stretch/>
        </p:blipFill>
        <p:spPr>
          <a:xfrm>
            <a:off x="2514600" y="3514680"/>
            <a:ext cx="535140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BCF3-4D60-486A-A4DD-32EF7F15C122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– SEMO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0" y="1266840"/>
            <a:ext cx="9144000" cy="25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nfigured calculation from mod to get to modified Net Demand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alculated energy charge by applying the average Trading Period SMP for March 2010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171440" y="3218040"/>
            <a:ext cx="684072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E2BE-7FB6-477C-A94C-24FA441C01A5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 – SEMO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0" y="1266840"/>
            <a:ext cx="9144000" cy="27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More detailed calculations required under option 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quired to disaggregate the Interval portion from the Non-Interval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or the interval data -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392040" y="3645000"/>
            <a:ext cx="3743280" cy="2124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"/>
          <p:cNvPicPr/>
          <p:nvPr/>
        </p:nvPicPr>
        <p:blipFill>
          <a:blip r:embed="rId2"/>
          <a:stretch/>
        </p:blipFill>
        <p:spPr>
          <a:xfrm>
            <a:off x="4343400" y="3929040"/>
            <a:ext cx="4143240" cy="2743200"/>
          </a:xfrm>
          <a:prstGeom prst="rect">
            <a:avLst/>
          </a:prstGeom>
          <a:ln w="0">
            <a:noFill/>
          </a:ln>
        </p:spPr>
      </p:pic>
      <p:sp>
        <p:nvSpPr>
          <p:cNvPr id="253" name="TextBox 8"/>
          <p:cNvSpPr/>
          <p:nvPr/>
        </p:nvSpPr>
        <p:spPr>
          <a:xfrm>
            <a:off x="4092480" y="3121200"/>
            <a:ext cx="44132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or the non-interval data -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09:05:22Z</dcterms:created>
  <dc:creator>Brendan O'Sullivan</dc:creator>
  <dc:description/>
  <cp:keywords/>
  <dc:language>en-US</dc:language>
  <cp:lastModifiedBy>Aisling O'Donnell</cp:lastModifiedBy>
  <cp:lastPrinted>2002-07-25T14:31:52Z</cp:lastPrinted>
  <dcterms:modified xsi:type="dcterms:W3CDTF">2010-04-27T07:59:49Z</dcterms:modified>
  <cp:revision>657</cp:revision>
  <dc:subject>Mod 34_09 Report</dc:subject>
  <dc:title>SEMO</dc:title>
</cp:coreProperties>
</file>