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0C99B648-E583-431A-85EF-31D58D8813B6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3FB46122-C156-4DFF-983B-CD34A6DC876D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23EF-85FA-403F-93AD-61F4350F1C5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F098-E0A4-4321-9305-AD368EE2F18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527D-4E86-417B-8AA9-5A7EAF0420E3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A90C-2F33-471E-A115-79FF9F008D1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38C1-467C-47B6-9C7F-F619950B5018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4215-07B0-41B5-9B9E-C32F39A8DBA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56A-5ADA-4D8C-9BEE-D0B522715D9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93BA-5AF5-420A-83E8-4FA593A2AC03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7C99-97F0-411B-8533-5461AA7F9EB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FDB9-164C-4F27-9ED0-D78BB37E94D8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8028-7548-43AC-B1A7-A4628A63642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6981-2796-491D-ACBC-B8BB1A4BF59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0DC-FFE9-4BB1-9AD0-4BA7A29A2D5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D6C1-ED5A-4025-8E76-D23E128CC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E5F7-FB48-4B47-86F7-3E3CA985F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D684-E93F-4BBD-9FED-C731B4619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A1DA-C28F-450B-BD61-249F7096B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C07-27CD-490C-905E-15ECE6802F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76C-022C-451E-BF59-65DB59FE01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F16-23A0-4C76-BC2D-67BC59BEF0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5D5-3888-4038-BB3D-CB076B2CF7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880-806F-4073-AB6E-59947B65EB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BB8-537A-46E9-BD1D-8DFD671FA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DC9-85FC-44A7-A2CF-E10A3F8F2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9EE2-6F58-4D91-BD90-2022A7571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BB2-096F-4D11-9942-76856F98CE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964-63DA-42C6-8018-CF327AAB95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E41-CAAC-4D8B-8020-653CDA7B0D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83F-4592-4DB7-A891-10B31C89E6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05A-7C7E-459F-9D4A-1FE5F2F61C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24E6-2BAF-4AE4-990F-F2BC5B5844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77F9-5C07-4977-AE2C-7B1FF787F3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4057-25F5-4034-944B-BB33433976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DBB8-3577-4379-84A6-01CF9B02F2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8694-661D-439F-BDA0-A676B9AFD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01ED-FAE8-4B3F-8D92-F6F0961BEF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0EDE-4AAE-4F23-AE6B-BD74F28753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B425-0415-465A-B1B3-004C0C4107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14BE-B928-467B-8D35-69FA48F0B8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2CD4-5DF7-4231-B30F-9E8E6A9331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0FC3-20DF-4B8F-A349-33453290AB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16D3-8BCC-4188-ABC9-C01A7E0F9B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E37B-53E8-4F40-AB3C-58BABCC402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E00C8-C568-4294-BDE3-4B14610116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F74E5-0594-43EE-8BDE-9A2D07B1B9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3C6DD-BD32-40DB-A503-4D58F1A3F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3723-EF79-4DF3-9F02-0BAF055682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A6ED0-C3CF-483E-831A-0D4C667793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6FF17-298B-4142-8983-54BA73FB45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DC4BF-2E1E-4EC2-AEB9-34D3B04FC3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1CB6D-E777-4FC8-8B92-5B31159E24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87F68-C83A-46AF-B0F7-9ABE8327BE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2A006-345D-415B-B66C-F65F98DB51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4FDAB-BEFE-43A5-9D1D-9DAA567D21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EE769-A70C-4925-9ACF-52824730A8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5C638-9844-4729-9100-0EEA17FC68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E78D8-77ED-4282-BF99-C8EEBDB4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0EB2-7835-43E5-BC39-77D33C7B56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D1570-9B6C-44E9-9583-AF4EB71B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041AB-E22E-426D-8F8A-62A48AC5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CBBAB-5B14-4A95-8EC9-FD1855E1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35839-A944-45B7-BEE3-9E69728E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409F2-87D0-407E-A8F1-853804C9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87B4E-2C25-4238-B90A-9E3CB7F6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4D37B-0375-4FE0-BAF6-57ECA3E4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82D14-B2C8-442D-B36D-A9D3A567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B0BC3-9A2D-4849-AFD0-575A986F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32B60-EF18-4B03-A30C-2787C748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CD31-24D2-48ED-8CB2-11F3480500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C48F8-B187-4DCC-AE23-A2185F3D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51FB-A492-4582-BE08-8A86F7C03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E61A-1A44-404E-9ED7-E34A92B96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ED2EE-3D0A-4BF0-9951-1D3F64686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1206-E03D-40E4-8039-CFCD676FA2F1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9C27-1D15-4838-98D4-AE39BE1FC7E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A42-5083-4AB2-9CB6-E4994E6C886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EC01-B43B-482C-8742-D6D6E251D4A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F69E-48BA-4CF8-B2CB-8F855EDC567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0504-F423-4DAE-B489-8D17D9E427AA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BB04-A1E2-4BF2-A695-E93CD4F152B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126684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figured updated calculation to get to modified Net Dema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sed the average Trading Period SMP for March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243080" y="2921040"/>
            <a:ext cx="6105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9282-FC7D-4043-82ED-1AC459BD6AC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1266840"/>
            <a:ext cx="9144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mall rounding variances observed on one of the data se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erage variance of -0.0000169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Variances were balanc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yment calculations for Suppliers were the sa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monstrates accuracy of Option E to Option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DAE-1570-46CA-8199-FCCC05D81A8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1266840"/>
            <a:ext cx="914400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benefits of Option E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 to Credit Risk requirements of the S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isk of migration strategy significantly reduc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ly 66 Suppliers registered in the SEM of which at least half would have to become two Supplier Units under option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d registration overheads on future Supplier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n-Participant Generation managed easier than under option D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B079-FC06-4972-8DBD-DD02019A687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266840"/>
            <a:ext cx="9144000" cy="55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pdated Option A+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reporting on Residual Volu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ublic report of MWh value per Trading Perio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MGLF and JMDLF currently included in public market repor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idual Volume = (JMGLF – JMDLF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ata will continue to be included post implementation of Global Aggregatio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EMO suggest that current public reports meet the requirements of A+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FA45-0FBB-43DA-A33A-6437D0EED25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1266840"/>
            <a:ext cx="91440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mary of SEMO system impacts for the optio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A – No system cos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B – Medium (€37K - €55.5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C – Medium (€37K - €55.5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D – Medium (€74K - €83.25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E – Medium (€55K - €74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711360" y="5311800"/>
            <a:ext cx="74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Important: These costs are indicative onl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will require a Full Impact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ED1-2ED3-462E-8898-B4AF5C46F49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to meet to further review options D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mpact assess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FD95-AA57-4455-8B89-94578CD7E291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eeting between MRSO, NIE T&amp;D and SEMO took place on March 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review of Options D and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E confirmed as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ion for Supplier Units as norm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sion of a % value for each Trading Peri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value will indicate at a MW level the proportion of the aggregation that is made up of non-interval meter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value can change on M+4 and M+13 re-aggrega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ADC2-3296-4F6D-A0C7-DB3DAF6B2D1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0" y="1266840"/>
            <a:ext cx="89265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Impact Assessment requested from vendors on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imilar changes as required under Options C/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s to Settlement/MI interface or Registration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eter webservice to be extended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variables to be configur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ssumption: No validations on the new fiel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ffort: Medium: €55k - €74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B27-CBB4-430D-8123-806D89CC029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1266840"/>
            <a:ext cx="914400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es comments at Working Group 2 with respect to accuracy of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DPs worked with SEMO to demonstrate accuracy of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RSO &amp; NIE T&amp;D provided SEMO with sample data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ample data based on actual aggregated quantities for one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ne data set to follow the proposed Option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ther data set to follow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8553-9CCB-495C-B4C3-266FC90274C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57320" y="1409760"/>
            <a:ext cx="8829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CC83-B8A7-477B-AECE-81B57A870FB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1266840"/>
            <a:ext cx="914400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MVPI set to 30%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andom values select for the Residual Meter Volu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Option D, applied equation from modific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16040" y="3359160"/>
            <a:ext cx="6114960" cy="3230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2514600" y="3514680"/>
            <a:ext cx="53514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788D-D656-466E-BD5F-2EE79DD783A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266840"/>
            <a:ext cx="9144000" cy="25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figured calculation from mod to get to modified Net Dema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lculated energy charge by applying the average Trading Period SMP for March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171440" y="3218040"/>
            <a:ext cx="6840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5C88-21E6-4F3F-815D-EF8925A12DC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0" y="1266840"/>
            <a:ext cx="91440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e detailed calculations required under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quired to disaggregate the Interval portion from the Non-Interval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the interval data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392040" y="3645000"/>
            <a:ext cx="3743280" cy="212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4343400" y="3929040"/>
            <a:ext cx="4143240" cy="2743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4092480" y="3121200"/>
            <a:ext cx="4413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the non-interval data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Brendan O'Sullivan</dc:creator>
  <dc:description/>
  <cp:keywords/>
  <dc:language>en-US</dc:language>
  <cp:lastModifiedBy>Aisling O'Donnell</cp:lastModifiedBy>
  <cp:lastPrinted>2002-07-25T14:31:52Z</cp:lastPrinted>
  <dcterms:modified xsi:type="dcterms:W3CDTF">2010-04-27T07:59:49Z</dcterms:modified>
  <cp:revision>657</cp:revision>
  <dc:subject>Mod 34_09 Report</dc:subject>
  <dc:title>SEMO</dc:title>
</cp:coreProperties>
</file>