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jpeg" ContentType="image/jpe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D2E5D028-2A21-4AB2-B3BD-78DA472B18E6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8865469B-B065-4181-B722-4872E725ED0E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entury Gothic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6D3C-7021-47B1-8965-35A9445324C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A9A7-8447-44AE-9665-876FE5DCBD92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4FC7-E6C8-4372-8DB6-31BAF6429F9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6CA1-0E8F-43CA-B56E-012B1B2B2FED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CB21-53BE-41B2-ACC3-7BDBA15EB15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entury Gothic"/>
              </a:rPr>
              <a:t>Mention previous attempts to deal with Global Aggregation in the individual jurisdictions – MOIP in ROI, SIMDRACS in SEM, and FEMO in NI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12F1-BFFE-4220-9821-4BC169FC5E1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806B-DFEF-4A68-978A-10D62007B3F9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69D1-DF2C-4967-BDF3-2FEDE1029E58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000D-D288-4110-BD49-06B48104CA5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entury Gothic"/>
              </a:rPr>
              <a:t>On driver for change, refer to the very informative slides provided by Stephen Walsh and William Steele at the last working grou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C9EE-5F15-4063-BC23-AE9C8F62CF8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E9A0-F6D9-45FE-A7F7-7774F8B152D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649F-F22C-4C4F-9274-99B8D7437AF3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FB56-DD69-4A8A-8942-55274A175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E2F3-7208-4298-9626-E7AE93526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72DC-AA28-4B27-A0CA-16151AA61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A9FE-7738-4978-8866-5260F200C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38B-21C5-4766-9152-D6351F0582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713-A868-4F83-8B32-4407DFFB71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480-5878-4E9B-B34B-CCAD336D14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291-65BB-4EA0-A88E-4E6CB24C3E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F03-AF6C-44D5-B889-AD832BD7C3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372-16AA-49FF-8C5A-5881E5DE9B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0F9-BED9-4847-957A-411605F543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2812-6544-4131-BCB8-1E5DB223D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AAE-ECA3-467B-85D2-3516C11A92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63A-AFB1-411F-AD5A-E1E2E9E1DA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F73-33B5-424E-8D39-F126E24BC7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1AF-88F9-40AF-9B16-20887E8556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569-F214-4EB6-A72F-0D6A4291FA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5DF1-DFA1-4C33-BFDC-E782523656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9EA6-4107-42ED-9425-BFAD240A33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5C0C-C8D3-4A5C-85DC-018B365C06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9400-92A7-4C37-BD98-79E7CCC78D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6E03-1A40-4A8E-A90A-52EA6F509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EFEC-C5CF-4819-9C0C-33A331E53B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AAF2-A50D-4FE9-BA97-FDDEE1DC31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5BDF-BFCD-4637-9139-CE9AA835FE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4926-B5C6-4414-BFDB-D1362E083F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CC89-148F-4206-9B89-5D58D0FBB4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A4DA-C2B9-40E9-B958-7A392125A8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ADD7-DE5A-4A0E-8F25-8E87EA9B6B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A0F0-6447-422E-88B8-C6298B6130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DA086-7179-436C-80C4-F4257DE4BE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DB293-6D0B-463F-A778-D91DE9FBF9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A28BE-1A60-4486-A25C-D1D5A860C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F68B-4A44-4141-9E16-0AB9A670C4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E6A69-473B-4D68-87FA-39AF84FD34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7CC83-5262-43E6-9208-9F490A1BFF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97180-B141-4493-AD38-16592C588E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47BBD-FF66-4477-8BDC-711F953BC7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3952E-2C9F-4350-80CF-1097BEEA05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3AD35-432D-42F0-B38A-2D999D0648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0103A-25CE-4FA3-9924-DCB489D7F4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28259-BE5D-4D27-8D69-E5C42CCD39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22C87-7D96-4E7C-85F5-DB7EA9D253C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A7746-9CE5-47D7-B7E2-7D838EB3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CF41-6939-4F46-9BD2-C4657CBCA1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A01268-B350-4013-AC3A-C3785A63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8B9BB5-2933-4E3D-8926-CCBC09E1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30529-0ADE-4A9D-A5D4-AF3EAB5E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80C682-7D60-4034-88C7-7AFBAE2A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A7BF3-5649-47AF-9AD0-70ABB008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2E259-182F-4B35-830B-50BB6A3D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F2536-A322-4397-A07A-23D25D95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2ECFD-5DFB-4ED7-924A-171C8A27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8DC4C-64AA-454F-BADF-7B0EF09F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AA82F-85FA-44C0-B80C-9BF08E5E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F6217-C1E6-451C-B790-96E80991AD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AE386-9EB7-4610-8899-5BDBDEDA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ADDD-F571-4CF2-A463-68B4CF8AD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39C8-3CFF-4AF9-A724-7B8BC1F28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5ED0-2D67-466D-B90A-C8C0032E8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3A9E-FA9F-49C3-993F-597889706772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5EBE-C0F4-44D1-B682-D2B90E07ACE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8B19-71B8-439A-A6F5-5137A2078B9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3662-C700-4AE5-A433-AAEBB6AC795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15A0-0697-45F7-851A-3DBA0D2E7B3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1A39-C6B8-4B82-85E8-6457F5CA3352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Global Aggregation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B912-87F4-49F8-B2EB-EFC7117F1A9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1266840"/>
            <a:ext cx="914400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EMO &amp; RA met December 1</a:t>
            </a:r>
            <a:r>
              <a:rPr b="0" lang="en-IE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to develop options pape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our options written up and circulated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A – recovered through SEMO balancing co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B – smear across Suppliers based on annual fac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C – smear across Supplier based on monthly fac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D – as set out in modification propos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F567-6E04-439F-8E5D-55BDCCB57F6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1266840"/>
            <a:ext cx="9144000" cy="43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presented on magnitude of actual error in ESU in RO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E presented on magnitude of actual error in ESU in N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presented results of impact assessmen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RSO proposed option E, further enhancement on option 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F707-73BA-474B-B65D-62EE404C01A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266840"/>
            <a:ext cx="9144000" cy="20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 of system impacts for the 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36760" y="3036960"/>
          <a:ext cx="6095880" cy="14842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 T&amp;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1D30-6A38-4648-99CB-9C6160E65CB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0" y="1266840"/>
            <a:ext cx="91440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to meet to further review options D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&amp; NIE to further develop option A+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impact assess options A+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E PPB to consider how to deal with issue exclusively in the retail side of the mark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6D19-E087-40F5-9719-ED450F37215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266840"/>
            <a:ext cx="914400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hat is Global Aggreg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of providing an aggregation for all registered Suppli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aggregation of Host Suppli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urrent implementation means Host Supplier calculated by differe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rror Supplier Unit in the SE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 just Host Supplier volumes but also other errors includ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B2BC-3B5B-4647-AD8A-A2AB22818B3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2409840"/>
            <a:ext cx="91440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0ABC-6ADF-471C-9DD8-D42D7DE5E69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2467080"/>
            <a:ext cx="91440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0DAC-889D-412F-A111-CC9C8436F59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266840"/>
            <a:ext cx="914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correct profiles of non-interval meters considered chief contribu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67A4-AA69-4BB8-AE56-050C7F98802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developed in conjunction with ESSG in N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21081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Not dependent on the ESSG, ESSG being designed as GA read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0" y="29354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SSG timelines being follow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7920" y="3770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iver for change is retail require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4605480"/>
            <a:ext cx="914400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ssue included in CER/10/058, decision on Roadmap to Deregul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CA1B-BDFF-47E5-B081-7933F2D1EFA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34.09 raised by ESB C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-7920" y="21160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proposes separation of SU into Interval SU and Non-Interval S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0" y="2951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aised at Mods Meeting 24 (29.09.09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-7920" y="38289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s Panel recommended setting up Working Group to explore furth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0" y="469260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erms of reference for Working Group circulated, Nov 2009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4717-4FB1-4945-8E36-AB684C8C85F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26684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1, held on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November 200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suggested assigning ESU to non-competing Party under the Cod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suggested simpler smear across all Supplier Uni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DPs presented on impact on system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eement that Global Aggregation required to ensure all Suppliers be treated equall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to assess the magnitude of the actual error in the ES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C847-0AC7-44A6-9108-CCC4254214C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0" y="1266840"/>
            <a:ext cx="91440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1, held on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November 200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RA to meet to further develop 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&amp; NIE to provide estimation of 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s Panel to decide if impact assessments should be sough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Brendan O'Sullivan</dc:creator>
  <dc:description/>
  <dc:language>en-US</dc:language>
  <cp:lastModifiedBy>Aisling O'Donnell</cp:lastModifiedBy>
  <cp:lastPrinted>2002-07-25T14:31:52Z</cp:lastPrinted>
  <dcterms:modified xsi:type="dcterms:W3CDTF">2010-04-27T08:01:04Z</dcterms:modified>
  <cp:revision>643</cp:revision>
  <dc:subject>Mod 34_09 Recao</dc:subject>
  <dc:title>SEMO</dc:title>
</cp:coreProperties>
</file>