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DD2C705-3148-4BC6-A018-54CDC53F4892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457300D3-82C9-41D9-AECB-0D1FF8146F7F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2023-9DE5-4370-BFFE-765B8372A96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21AA-01F8-4C33-81D7-C6728B6E3E9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4D3-36D0-4245-A346-59E7B3D5C02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12FE-E1A5-4DC2-B27C-15D0DFA9D04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5566-D449-4325-A333-95F7535CDCC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2AC1-AB61-40A6-BE50-42A55F193A6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D3A-D7CB-475F-A5C3-9FCE2707B1A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1F2-DFEA-4223-A301-DF94AE6C257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75E-865D-4D50-962A-13BBC7AF3C8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B71C-6373-46B3-98FC-8674F96E0CA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05FF-D01F-43E7-8CDC-A60C40FBF18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Mention previous attempts to deal with Global Aggregation in the individual jurisdictions – MOIP in ROI, SIMDRACS in SEM, and FEMO in NI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89B7-8C3F-4CD9-8306-D21400C8D7A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92AC-86BC-4C00-87CF-1353BB4EAEC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0E0-961F-49C4-98B2-4881E55F698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93A-151B-46F9-AF47-7DBB399B26A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280-A5E7-4394-92D3-EC58B6FB628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315-48AF-44D3-AA4E-FFB9B827242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5C6-949E-413A-93DF-49B6E176FBC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9E43-A589-47C7-B8AD-F8DDAC43D07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D877-DA58-4880-847B-E5CBA42C6E0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890-2DD2-4977-93D7-09AB49C21D7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F884-23E0-4588-BCE3-5D52C811610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0F2A-F442-475F-935C-112CF9F29A1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On driver for change, refer to the very informative slides provided by Stephen Walsh and William Steele at the last working grou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FE7-38F2-4FBB-8B67-9F04BDDA595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FD7-E827-4A32-A64A-E0C26EDB834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122-FD5B-4867-A649-C02E866542F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ACD9-88C5-4AE2-BADE-5DA94FDC5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4467-F0D7-469A-9C25-5706AB579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EAD3-D0B7-43EC-97B9-95B1E760F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DCC0-9B44-4F96-BA2D-0B9339FDA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67B-395B-4EEF-8541-D58723D456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630-B126-4480-A232-A1BA77B5CF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1D5-34E8-472F-BC9C-EDBBFFB0D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49B-0E33-4B3E-9300-249EE6CDD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2D-2D08-4B88-9699-D9FBD449A3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E13-7C14-43EE-AF2A-CCE5474722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821-EE96-432D-9803-CB3D5DC2E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6956-A9B5-4F0C-BFC6-D471150BF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01A-DAD1-44D0-9A32-7BF5B62207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7DA-DFA9-4B56-B068-1DC87C12E8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939-F07C-459A-A779-0BE163EC0B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6E5-E006-4236-8188-FA143F5D92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9DF-2470-420D-B3AC-559DFAE01E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D4C3-BD14-4D35-8CFC-240F9D01D9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F996-673F-4D13-8DB2-98C47A59C1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5B3-20B9-48EB-BE69-857A01C589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7011-35E0-488C-B99C-84E715D869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E2B5-BB86-43A7-B099-1739E1A45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E098-46D9-4A99-818E-46975F7E01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357B-BFAF-4D23-A61A-8094323EB0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DDD-FA20-413E-95CA-1D628BBE8C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7DAF-9703-44E6-9DA7-979207364C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2A34-A139-41AB-B493-5B87C11864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B97-0DF9-41AC-8D0F-CE91B28EAB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55F9-2C7D-4F5D-99B7-6D37752DF7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2747-01CB-4E19-926D-E7C60C57D0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B8BD5-CB08-4EC9-BFE7-44AEB2B766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B6049-0DC7-4932-9ADB-573B3F73B3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C0C6C-D21F-42B6-B0AA-A0047248C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5FC1-5E65-4DFD-A348-BC0E84298C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F786-5599-4EAE-8007-2E826D7136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30846-F809-4A41-973C-E00B84908E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2A286-7539-4117-8059-2294948A09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7D685-5764-4C7C-8086-8714DB3476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DF1C5-E476-4C45-A59A-2B027C6C7B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7BE9D-1996-4140-B4DC-CC1591C9A0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CCE19-9BF0-4809-8847-7D5ABA8F75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67528-F562-4E2B-9285-550127228D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C8D49-99E4-428D-81AE-6AE00F7A86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81BBA-02E4-4F1B-A4FA-8986163F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F458-572E-4B49-8AF7-B06ABB32A0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704B1-6F89-431B-8DC4-B9A5DBBF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F4A8B-E9B2-40A8-8A1E-0F3EC65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0B61C-98D9-419C-BD40-4C55A2DB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1E876-ABE6-4F25-9004-5652C36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1F591-DA52-4FD0-A0BA-6437BBD0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CA278-E5B7-46A6-9AA6-B8AAA8B7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51478-FAF0-4340-855E-05C0ECA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7BD40-89F6-4743-B9ED-7366903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AD004-573A-4063-ABC8-389BA61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5B250-5554-485E-B2F2-650D7633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45F4-DE4C-4D7C-A179-8BC06F1880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17FD0-2C9B-4FDC-B0C1-A63A710E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5AF8-F5E6-4CD0-8F8E-0DC2C2136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0E90-3FA4-40BA-958B-5A84A74D1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A515-B103-444A-BEFC-62FBC8C2B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25D4-F633-44C5-8D92-BC2F590C3D0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1B3-376C-4993-9BA0-D7CC6837CE6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9820-DB04-4573-9033-E59AE602711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8C2-BC50-4051-8ACD-464BFD431D0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3CE-3D59-4B83-978E-8B8C609A723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BA56-B6FC-46DA-82AD-4DC973BDF65F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0BD7-3F97-4116-BFF8-6EB04EB48F3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&amp; RA met December 1</a:t>
            </a:r>
            <a:r>
              <a:rPr b="0" lang="en-IE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to develop options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our options written up and circulated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A – recovered through SEMO balancing co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 – smear across Suppliers based on annual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C – smear across Supplier based on monthly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D – as set out in modification propos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09F5-3BD2-41E1-9C08-BC5672BF003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3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presented on magnitude of actual error in ESU in RO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resented on magnitude of actual error in ESU in 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presented results of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RSO proposed option E, further enhancement on option 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E61D-64CE-48F0-90F0-B205E3BF811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of system impacts for the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36760" y="3036960"/>
          <a:ext cx="6095880" cy="14824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T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459E-B3EC-4A11-BA55-48791B7CD07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1266840"/>
            <a:ext cx="9144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further develop option A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PB to consider how to deal with issue exclusively in the retail side of the mark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4C8D-8CFC-44C8-8E3E-DD61857EF14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266840"/>
            <a:ext cx="914400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eting between MRSO, NIE T&amp;D and SEMO took place on March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review of Options D and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E confirmed a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ion for Supplier Units as norm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sion of a % value for each Trading Peri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will indicate at a MW level the proportion of the aggregation that is made up of non-interval meter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5519-DEBD-4A60-8D8D-E1C5A1B8720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3, held on 2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pril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presented re-cap of process so fa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presented on MDP meetings and further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rGrid presented on TUoS impac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E55D-7F33-4DF3-BBBE-2E23C7D8CEA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0" y="126684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3, held on 2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pril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outline possible interface chang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rGrid to discuss data feed requirements for TUoS with SEM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ssue consultation on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SO to review implementation of Option A for TU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rGrid to discuss TUoS issues with SO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F9A-12E9-4490-80E4-E0F9AB3D4A1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0" y="1266840"/>
            <a:ext cx="9144000" cy="44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sultation document issued on June 1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ponses due by July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s asked to express preference between Option A+ and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ponses welcomed on discarded options B, C and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s asked to comment on data to be included in meter data fe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546-EDB3-407B-92FA-0FCAB1AC676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ine responses received to Consult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ive responses favoured Option 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ree responses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avoure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A+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ne response recommended either op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819520" y="61128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819520" y="61128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2819520" y="515880"/>
            <a:ext cx="6305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F55-C57A-4E9E-B2CF-23AEA085AEB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f Participants who responded 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wo responses favoured Option 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ree responses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avoure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A+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maining three responses supporting Option E from service provid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90F9-4786-48F1-AF4C-B2A2BA28533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hat is Global Aggreg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of providing an aggregation for all registered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aggregation of Host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implementation means Host Supplier calculated by dif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 in the S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just Host Supplier volumes but also other errors includ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D380-A1C0-458A-9ACA-0D6510C9D14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0" y="126684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 responses supporting Option A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rtainty of tariff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d risk on Suppli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eaper implementation cos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 responses supporting Option 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nsparenc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curac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st effective (based on indicative costs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046-8C04-48BE-B7EF-7C4C99E111E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126684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ds Meeting 29, held on 2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Jul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MO presented on progress of Working Group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ummarized consultation respons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ked for permission to progress two actions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duce draft modifications for both op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ure full impact assessment on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538C-5F1F-48D9-AC2D-38E04BC4EE2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1266840"/>
            <a:ext cx="914400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A+ and Option E draft modifications circulat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oth versions to be submitted to Mods committee for consider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ctation of today is to pass both back to Mods committee with recommendations for voting on each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BD6F-CAB4-441D-AA58-7E3A25FC413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ll impact assessment returned from CMS vend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ew assessment is approx 1200 hours or €210 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0" y="2951280"/>
            <a:ext cx="914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 in costs appears to focus on 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items on SEMO repor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rface for TUoS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ecification of demand increase as separate line item on PI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C25-B3D0-497A-BE1B-426D1B7574E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0" y="12668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discussion took place at Mods meeting on 2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Jul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ntered on “Roadmap for Deregulation”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reference to “interim solution” for Global Aggregation in ROI pending implementation of Mod 34_09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d that design of Option E is jurisdictional independe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at is, timing of implementation in one jurisdiction is not dependent on the timing of the oth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ways part of the Option E design, recognising that synchronizing the implementation in each jurisdiction carried high risk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5720-5CEB-462C-873A-6347449C4FB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85840" y="19242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Generation Loss Adj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04920" y="3543480"/>
            <a:ext cx="211428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Demand by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25718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GLF - ND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54482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Error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9" name="Shape 9"/>
          <p:cNvCxnSpPr>
            <a:stCxn id="315" idx="3"/>
            <a:endCxn id="317" idx="0"/>
          </p:cNvCxnSpPr>
          <p:nvPr/>
        </p:nvCxnSpPr>
        <p:spPr>
          <a:xfrm>
            <a:off x="2400120" y="2266920"/>
            <a:ext cx="1229400" cy="45792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20" name="Shape 11"/>
          <p:cNvCxnSpPr>
            <a:stCxn id="316" idx="3"/>
            <a:endCxn id="317" idx="2"/>
          </p:cNvCxnSpPr>
          <p:nvPr/>
        </p:nvCxnSpPr>
        <p:spPr>
          <a:xfrm flipV="1">
            <a:off x="2418840" y="3409200"/>
            <a:ext cx="1210680" cy="47700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21" name="Elbow Connector 13"/>
          <p:cNvCxnSpPr>
            <a:stCxn id="317" idx="3"/>
            <a:endCxn id="318" idx="1"/>
          </p:cNvCxnSpPr>
          <p:nvPr/>
        </p:nvCxnSpPr>
        <p:spPr>
          <a:xfrm>
            <a:off x="4686480" y="3067200"/>
            <a:ext cx="762480" cy="2160"/>
          </a:xfrm>
          <a:prstGeom prst="bentConnector3">
            <a:avLst>
              <a:gd name="adj1" fmla="val 49976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22" name="Rectangle 2"/>
          <p:cNvSpPr/>
          <p:nvPr/>
        </p:nvSpPr>
        <p:spPr>
          <a:xfrm>
            <a:off x="2819520" y="1144440"/>
            <a:ext cx="6305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urrent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86B-19AF-4ACA-B4F1-8C4E5E24F3C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85840" y="19242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Generation Loss Adj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04920" y="3543480"/>
            <a:ext cx="211428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Demand by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5718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GLF - ND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54482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Error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Shape 9"/>
          <p:cNvCxnSpPr>
            <a:stCxn id="325" idx="3"/>
            <a:endCxn id="327" idx="0"/>
          </p:cNvCxnSpPr>
          <p:nvPr/>
        </p:nvCxnSpPr>
        <p:spPr>
          <a:xfrm>
            <a:off x="2400120" y="2266920"/>
            <a:ext cx="1229400" cy="45792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0" name="Shape 11"/>
          <p:cNvCxnSpPr>
            <a:stCxn id="326" idx="3"/>
            <a:endCxn id="327" idx="2"/>
          </p:cNvCxnSpPr>
          <p:nvPr/>
        </p:nvCxnSpPr>
        <p:spPr>
          <a:xfrm flipV="1">
            <a:off x="2418840" y="3409200"/>
            <a:ext cx="1210680" cy="47700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1" name="Elbow Connector 13"/>
          <p:cNvCxnSpPr>
            <a:stCxn id="327" idx="3"/>
            <a:endCxn id="328" idx="1"/>
          </p:cNvCxnSpPr>
          <p:nvPr/>
        </p:nvCxnSpPr>
        <p:spPr>
          <a:xfrm>
            <a:off x="4686480" y="3067200"/>
            <a:ext cx="762480" cy="2160"/>
          </a:xfrm>
          <a:prstGeom prst="bentConnector3">
            <a:avLst>
              <a:gd name="adj1" fmla="val 49976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32" name="Rectangle 2"/>
          <p:cNvSpPr/>
          <p:nvPr/>
        </p:nvSpPr>
        <p:spPr>
          <a:xfrm>
            <a:off x="2819520" y="1144440"/>
            <a:ext cx="6305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ption E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1504800" y="445788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Generation Loss Adj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1523880" y="60768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Demand by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790800" y="52578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GLF - ND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6667560" y="52578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Residual Meter Volume &amp; Sme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Shape 18"/>
          <p:cNvCxnSpPr>
            <a:stCxn id="333" idx="3"/>
            <a:endCxn id="335" idx="0"/>
          </p:cNvCxnSpPr>
          <p:nvPr/>
        </p:nvCxnSpPr>
        <p:spPr>
          <a:xfrm>
            <a:off x="3619080" y="4800600"/>
            <a:ext cx="1229400" cy="45792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8" name="Shape 19"/>
          <p:cNvCxnSpPr>
            <a:stCxn id="334" idx="3"/>
            <a:endCxn id="335" idx="2"/>
          </p:cNvCxnSpPr>
          <p:nvPr/>
        </p:nvCxnSpPr>
        <p:spPr>
          <a:xfrm flipV="1">
            <a:off x="3638520" y="5942880"/>
            <a:ext cx="1210320" cy="47700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9" name="Elbow Connector 20"/>
          <p:cNvCxnSpPr>
            <a:stCxn id="335" idx="3"/>
            <a:endCxn id="336" idx="1"/>
          </p:cNvCxnSpPr>
          <p:nvPr/>
        </p:nvCxnSpPr>
        <p:spPr>
          <a:xfrm>
            <a:off x="5905080" y="5600880"/>
            <a:ext cx="7628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40" name="Straight Connector 27"/>
          <p:cNvSpPr/>
          <p:nvPr/>
        </p:nvSpPr>
        <p:spPr>
          <a:xfrm>
            <a:off x="7562880" y="3067200"/>
            <a:ext cx="81900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traight Connector 29"/>
          <p:cNvSpPr/>
          <p:nvPr/>
        </p:nvSpPr>
        <p:spPr>
          <a:xfrm flipV="1">
            <a:off x="895320" y="4362480"/>
            <a:ext cx="7448760" cy="381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traight Connector 31"/>
          <p:cNvSpPr/>
          <p:nvPr/>
        </p:nvSpPr>
        <p:spPr>
          <a:xfrm flipH="1">
            <a:off x="8344080" y="3067200"/>
            <a:ext cx="18720" cy="12952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traight Connector 33"/>
          <p:cNvSpPr/>
          <p:nvPr/>
        </p:nvSpPr>
        <p:spPr>
          <a:xfrm>
            <a:off x="932760" y="4400640"/>
            <a:ext cx="19080" cy="20001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Straight Arrow Connector 35"/>
          <p:cNvCxnSpPr>
            <a:endCxn id="334" idx="1"/>
          </p:cNvCxnSpPr>
          <p:nvPr/>
        </p:nvCxnSpPr>
        <p:spPr>
          <a:xfrm>
            <a:off x="971640" y="6400440"/>
            <a:ext cx="552960" cy="198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0E15-4D17-4AA6-BF3F-B937751EC50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0" y="1266840"/>
            <a:ext cx="914400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lows for implementation in one jurisdiction ahead of the oth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Option E can therefore remove need for “interim solution” in ROI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EE4-1D2E-4C76-887B-7B58CBC8518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570A-6C4D-4F50-A0B8-FB42874180A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2C5-E223-4DD4-A262-6181BD0EB32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266840"/>
            <a:ext cx="914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orrect profiles of non-interval meters considered chief contribu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2942-7E05-4D51-BE99-E588F1CB226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developed in conjunction with ESSG in N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1081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 dependent on the ESSG, ESSG being designed as GA read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29354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SSG timelines being follow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7920" y="3770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iver for change is retail requir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460548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ssue included in CER/10/058, decision on Roadmap to Deregu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298-943D-4C16-A9DF-57DD106AD47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34.09 raised by ESB 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proposes separation of SU into Interval SU and Non-Interval 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aised at Mods Meeting 24 (29.09.0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s Panel recommended setting up Working Group to explore furth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469260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erms of reference for Working Group circulated, Nov 200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1D33-4913-448F-9A96-EF6FA55DABE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26684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suggested assigning ESU to non-competing Party under the Co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suggested simpler smear across all Supplier Uni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DPs presented on impact on syste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 that Global Aggregation required to ensure all Suppliers be treated equall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assess the magnitude of the actual error in the ES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2891-560F-49D5-B86C-0697244F665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RA to meet to further develop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provide estimation of 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s Panel to decide if impact assessments should be sou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dc:language>en-US</dc:language>
  <cp:lastModifiedBy>Brendan O'Sullivan</cp:lastModifiedBy>
  <cp:lastPrinted>2002-07-25T14:31:52Z</cp:lastPrinted>
  <dcterms:modified xsi:type="dcterms:W3CDTF">2010-08-26T08:31:29Z</dcterms:modified>
  <cp:revision>661</cp:revision>
  <dc:subject>Mod 34_09 Recao</dc:subject>
  <dc:title>SEMO</dc:title>
</cp:coreProperties>
</file>