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713400"/>
            <a:ext cx="8610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7134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7134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240" y="152388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7560" y="152388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71340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240" y="371340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7560" y="371340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10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7134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7134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713400"/>
            <a:ext cx="8610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238400" indent="-38124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57440" indent="-22860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6480" indent="-22860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495520" indent="-22860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49552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49552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95280" y="62485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ower Generation &amp; 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2766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Mod_45_09</a:t>
            </a:r>
            <a:br>
              <a:rPr sz="3600"/>
            </a:br>
            <a:br>
              <a:rPr sz="36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ss Adjustments in the calculation of the Cost of running in the Procedure to calculate final Uplift values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Donal Lucey</a:t>
            </a:r>
            <a:br>
              <a:rPr sz="2800"/>
            </a:b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3-December-0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Example2 Merit Or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228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Options impact on merit order</a:t>
            </a: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6840720" cy="1978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4360" y="1197000"/>
            <a:ext cx="7048440" cy="1440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763640" y="4797360"/>
            <a:ext cx="495936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ptimisation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85840" y="1523880"/>
            <a:ext cx="6848640" cy="4191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6920" y="1844640"/>
            <a:ext cx="4753080" cy="39607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981000"/>
            <a:ext cx="2376360" cy="2133720"/>
          </a:xfrm>
          <a:prstGeom prst="wedgeEllipseCallout">
            <a:avLst>
              <a:gd name="adj1" fmla="val 98027"/>
              <a:gd name="adj2" fmla="val 66296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bjectiv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inimise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Example3 Productio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20720" y="1484280"/>
            <a:ext cx="5472360" cy="2559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4292640"/>
            <a:ext cx="856908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ptimisation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85840" y="1523880"/>
            <a:ext cx="6848640" cy="419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724360" y="1773360"/>
            <a:ext cx="2376720" cy="3816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189000"/>
            <a:ext cx="2376720" cy="2133360"/>
          </a:xfrm>
          <a:prstGeom prst="wedgeEllipseCallout">
            <a:avLst>
              <a:gd name="adj1" fmla="val -27824"/>
              <a:gd name="adj2" fmla="val 109226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bjectiv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inimise Revenues Paid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Upl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Example3 SP and Uplif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228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192720" cy="728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332000" y="2276640"/>
            <a:ext cx="7127640" cy="995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03280" y="3933720"/>
            <a:ext cx="581364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4000" y="692280"/>
          <a:ext cx="8208720" cy="510372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6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itment &amp; Dispatch 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lift 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Minimise Production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Minimise Uplift Revenue – Subject to constraints (no load and start u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1 Mod_12_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_45_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Generation units not recovering cost as bid through Uplift pay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6720" indent="-66672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Generation units are made whole via make whole pay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6720" indent="-66672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However SMP is understated – not reflecting full costs as bid by gen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6720" indent="-66672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ESB PG’s Mod_45_09 correct for the abo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68360" y="2349360"/>
                <a:ext cx="7939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ukt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∩</m:t>
                            </m:r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SQuh</m:t>
                                    </m:r>
                                    <m:r>
                                      <m:t xml:space="preserve">×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OPuh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LCuh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LAFuh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SQCCLFuh</m:t>
                                </m:r>
                              </m:e>
                            </m:d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PD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Cuk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LAFu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24000" y="4149720"/>
                <a:ext cx="8461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ukt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∩</m:t>
                            </m:r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SQuh</m:t>
                                    </m:r>
                                    <m:r>
                                      <m:t xml:space="preserve">×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OPuh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LCuh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LAFuh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SQCCuh</m:t>
                                </m:r>
                              </m:e>
                            </m:d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PD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Cuk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LAFu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orrection to Mod_46_0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roposed 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6720" indent="-6667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orrected 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6720" indent="-6667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hange does not impact logic or calc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2492280"/>
            <a:ext cx="1511280" cy="432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4365720"/>
            <a:ext cx="1511640" cy="431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22766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Mod_45_09</a:t>
            </a:r>
            <a:br>
              <a:rPr sz="3600"/>
            </a:br>
            <a:br>
              <a:rPr sz="36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ss Adjustments in the calculation of the Cost of running in the Procedure to calculate final Uplift values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Donal Lucey</a:t>
            </a:r>
            <a:br>
              <a:rPr sz="2800"/>
            </a:b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3-December-0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Why is Mod required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Generation units not recovering cost as bid through Uplift pay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6720" indent="-66672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Generation units receive make whole pay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6720" indent="-66672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However SMP is understated – not reflecting full costs as bid by gen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6720" indent="-66672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ESB PG’s Mod_45_09 corrects for the abo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476360" y="2133720"/>
                <a:ext cx="65390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∩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PLIFTh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Ph</m:t>
                                </m:r>
                              </m:e>
                            </m:d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Quh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PD</m:t>
                            </m:r>
                          </m:e>
                        </m:d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CRuk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Algebr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Uplift is calculated such that for all Generator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66720" indent="-66672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But Energy Payments are calculated 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6720" indent="-66672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Marginal Generator will under recover cost on a trading day ba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619280" y="3933720"/>
                <a:ext cx="48006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Pu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MPh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MSQLFuh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TP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3851280" y="3860640"/>
            <a:ext cx="1657440" cy="7207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8000" y="2060640"/>
            <a:ext cx="1224000" cy="7207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ptimisation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5840" y="1523880"/>
            <a:ext cx="6848640" cy="4191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1844640"/>
            <a:ext cx="4753080" cy="39607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24360" y="1773360"/>
            <a:ext cx="2376720" cy="3816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981000"/>
            <a:ext cx="2376360" cy="2133720"/>
          </a:xfrm>
          <a:prstGeom prst="wedgeEllipseCallout">
            <a:avLst>
              <a:gd name="adj1" fmla="val 98027"/>
              <a:gd name="adj2" fmla="val 66296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bjectiv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inimise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27640" y="189000"/>
            <a:ext cx="2376720" cy="2133360"/>
          </a:xfrm>
          <a:prstGeom prst="wedgeEllipseCallout">
            <a:avLst>
              <a:gd name="adj1" fmla="val -27824"/>
              <a:gd name="adj2" fmla="val 109226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bjectiv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Minimise Revenues Paid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Upl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- Subject to all units recovering start up and no load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ptions 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24000" y="692280"/>
          <a:ext cx="8208720" cy="510372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6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itment &amp; Dispatch 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lift 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Minimise Production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Minimise Uplift Revenue – Subject to constraints (no load and start u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1 Mod_12_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_45_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Proposed Mod_45_09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Start up and no load cost for generator units are not impacted by lo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6720" indent="-666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Loss adjustment of start up and no load cost lead to incorrect dispatch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6720" indent="-666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od_45_0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238400" indent="-381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Generator Unit COD – only P part is adjusted for CLAF (as curr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38400" indent="-381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Principle of minimisation of production costs as per T&amp;S code are satisf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38400" indent="-381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Change is made to cost of running formula in Uplift Calculation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476360" y="2133720"/>
                <a:ext cx="65390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∩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PLIFTh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Ph</m:t>
                                </m:r>
                              </m:e>
                            </m:d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Quh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PD</m:t>
                            </m:r>
                          </m:e>
                        </m:d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CRuk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Algebr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Uplift is calculated such that for all Generator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66720" indent="-66672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But Energy Payments are calculated 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6720" indent="-66672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Marginal Generator will under recover cost on a trading day ba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19280" y="3933720"/>
                <a:ext cx="48006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Pu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MPh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MSQLFuh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TP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3851280" y="3860640"/>
            <a:ext cx="1657440" cy="7207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88000" y="2060640"/>
            <a:ext cx="1224000" cy="7207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Proposed Mod_45_0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Current Fo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6720" indent="-66672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Mod_45_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95280" y="2133720"/>
                <a:ext cx="6840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ukt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∩</m:t>
                            </m:r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SQuh</m:t>
                                    </m:r>
                                    <m:r>
                                      <m:t xml:space="preserve">×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OPuh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NLCuh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SQCCuh</m:t>
                                </m:r>
                              </m:e>
                            </m:d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PD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TCu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24000" y="4076640"/>
                <a:ext cx="8461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ukt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∩</m:t>
                            </m:r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SQuh</m:t>
                                    </m:r>
                                    <m:r>
                                      <m:t xml:space="preserve">×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OPuh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LCuh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LAFuh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SQCCuh</m:t>
                                </m:r>
                              </m:e>
                            </m:d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PD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Cuk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LAFu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4211640" y="4076640"/>
            <a:ext cx="1511280" cy="9367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32720" y="4149720"/>
            <a:ext cx="1511280" cy="792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Example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67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6720" indent="-66672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3 Generator as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6720" indent="-66672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System load in half hour is 700M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137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4:49:39Z</dcterms:created>
  <dc:creator>McGee_T</dc:creator>
  <dc:description/>
  <dc:language>en-US</dc:language>
  <cp:lastModifiedBy>clone</cp:lastModifiedBy>
  <dcterms:modified xsi:type="dcterms:W3CDTF">2009-12-02T16:14:17Z</dcterms:modified>
  <cp:revision>1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75678265</vt:r8>
  </property>
  <property fmtid="{D5CDD505-2E9C-101B-9397-08002B2CF9AE}" pid="3" name="_AuthorEmail">
    <vt:lpwstr>Donal.Lucey@esb.ie</vt:lpwstr>
  </property>
  <property fmtid="{D5CDD505-2E9C-101B-9397-08002B2CF9AE}" pid="4" name="_AuthorEmailDisplayName">
    <vt:lpwstr>Lucey. Donal (Power Generation)</vt:lpwstr>
  </property>
  <property fmtid="{D5CDD505-2E9C-101B-9397-08002B2CF9AE}" pid="5" name="_EmailEntryID">
    <vt:lpwstr>000000002098B2E460E8EF44A3EA17EE05D9649A0700988C1718E139A14498E1AA4DAF841DB60000000014AE00004553ED30EA64E040BF2204B094C8770F000000676F380000</vt:lpwstr>
  </property>
  <property fmtid="{D5CDD505-2E9C-101B-9397-08002B2CF9AE}" pid="6" name="_EmailStoreID">
    <vt:lpwstr>0000000038A1BB1005E5101AA1BB08002B2A56C20000454D534D44422E444C4C00000000000000001B55FA20AA6611CD9BC800AA002FC45A0C0000004845414445584330303456002F6F3D4553422F6F753D455843483030312F636E3D526563697069656E74732F636E3D4D63476F7665726E5F4A00</vt:lpwstr>
  </property>
  <property fmtid="{D5CDD505-2E9C-101B-9397-08002B2CF9AE}" pid="7" name="_EmailSubject">
    <vt:lpwstr>Modification Proposal.ppt</vt:lpwstr>
  </property>
  <property fmtid="{D5CDD505-2E9C-101B-9397-08002B2CF9AE}" pid="8" name="_PreviousAdHocReviewCycleID">
    <vt:r8>-1469917005</vt:r8>
  </property>
  <property fmtid="{D5CDD505-2E9C-101B-9397-08002B2CF9AE}" pid="9" name="_ReviewCycleID">
    <vt:r8>-1091831939</vt:r8>
  </property>
</Properties>
</file>