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16/9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E8F76-5B38-40CE-A8D0-622A3B205B3A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47F46-B9E7-476A-983D-4D5D8AA9D1B8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Header Placeholder 3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4"/>
          <p:cNvSpPr/>
          <p:nvPr/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B384F-8F84-416A-9014-EFDA8388F1DB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C7A39-EF52-428F-906C-EB4BAC4EF6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D5C84-1F6E-4799-9C8E-067DA8D674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722EF-EF19-44A6-902B-583AEC42F8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562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74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44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562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74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0BC3F-AD39-4E47-B0CE-C7225FEFD7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E22536-5954-41F6-A961-6E3D19CB33B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96359F-AA57-4E40-A316-B63C1F68798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F2AFFC-DB26-460C-A424-E260F5D29C9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2FD877-F497-4278-8414-CCC5C04FA61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0B8097-08C9-492A-8521-0A0BCF392D5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101320" y="404280"/>
            <a:ext cx="5124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209E65-0D35-4891-AFAE-6553D7A388F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9C5B31-73E7-4EC3-A58A-6A08CC17C1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D18CE-6476-4C5D-9DE5-E72DA33346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27F1D1-F1D5-44AF-BE53-CF6AE495DA1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AA89A5-194A-4B23-A7FA-70E95E96B02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D6BC28-FD9F-4A11-8B8C-6DB4475EE5B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60AF80-F1FE-463A-860B-B72414E6727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562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74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44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562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74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C785E1-C3A6-46FF-A8C9-325A62D4CE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E46BB-6443-4776-BB4C-986E4C74C5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D8168-4CE6-4174-8A3C-CEB4102781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C3058-B87B-451C-A77D-E6149F64A6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01320" y="404280"/>
            <a:ext cx="5124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F71D0-C05A-4C61-9C71-432F89AF18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E8A3C-9241-4DF6-B5D9-CDA84206A0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A5C88-40ED-41EA-8C20-E1B70AE21D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F3E44-A8A3-4D55-851F-162984A5E5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image" Target="../media/image2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4" descr="EirGrid_Logo_LORES"/>
          <p:cNvPicPr/>
          <p:nvPr/>
        </p:nvPicPr>
        <p:blipFill>
          <a:blip r:embed="rId2"/>
          <a:stretch/>
        </p:blipFill>
        <p:spPr>
          <a:xfrm>
            <a:off x="0" y="6100920"/>
            <a:ext cx="1486080" cy="7570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5" descr="banner1_01"/>
          <p:cNvPicPr/>
          <p:nvPr/>
        </p:nvPicPr>
        <p:blipFill>
          <a:blip r:embed="rId3"/>
          <a:srcRect l="1411" t="0" r="0" b="0"/>
          <a:stretch/>
        </p:blipFill>
        <p:spPr>
          <a:xfrm>
            <a:off x="7810560" y="6095880"/>
            <a:ext cx="1342800" cy="7621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1" descr="Semo logo.jpg"/>
          <p:cNvPicPr/>
          <p:nvPr/>
        </p:nvPicPr>
        <p:blipFill>
          <a:blip r:embed="rId4"/>
          <a:stretch/>
        </p:blipFill>
        <p:spPr>
          <a:xfrm>
            <a:off x="900000" y="836640"/>
            <a:ext cx="6883560" cy="287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755280" y="3776760"/>
            <a:ext cx="7899480" cy="16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267120">
              <a:spcBef>
                <a:spcPts val="4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78200">
              <a:spcBef>
                <a:spcPts val="4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09560" y="654336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1EAA5-B4F0-4E81-B9CC-905B02C463C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62481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EirGrid, SONI, 2007.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451"/>
              </a:spcBef>
              <a:spcAft>
                <a:spcPts val="451"/>
              </a:spcAft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228600">
              <a:spcBef>
                <a:spcPts val="451"/>
              </a:spcBef>
              <a:spcAft>
                <a:spcPts val="451"/>
              </a:spcAft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62481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EirGrid, SONI, 2007.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3409560" y="654336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6E0E3-0717-4AF9-8DA7-676E69DDF19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5" descr=""/>
          <p:cNvPicPr/>
          <p:nvPr/>
        </p:nvPicPr>
        <p:blipFill>
          <a:blip r:embed="rId2"/>
          <a:stretch/>
        </p:blipFill>
        <p:spPr>
          <a:xfrm>
            <a:off x="0" y="6303960"/>
            <a:ext cx="857160" cy="554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6" descr="EirGrid_Logo_LORES"/>
          <p:cNvPicPr/>
          <p:nvPr/>
        </p:nvPicPr>
        <p:blipFill>
          <a:blip r:embed="rId3"/>
          <a:stretch/>
        </p:blipFill>
        <p:spPr>
          <a:xfrm>
            <a:off x="8086680" y="182520"/>
            <a:ext cx="905040" cy="460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7" descr="banner1_01"/>
          <p:cNvPicPr/>
          <p:nvPr/>
        </p:nvPicPr>
        <p:blipFill>
          <a:blip r:embed="rId4"/>
          <a:srcRect l="1411" t="0" r="0" b="0"/>
          <a:stretch/>
        </p:blipFill>
        <p:spPr>
          <a:xfrm>
            <a:off x="8105760" y="655560"/>
            <a:ext cx="876240" cy="496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Semo logo.jpg"/>
          <p:cNvPicPr/>
          <p:nvPr/>
        </p:nvPicPr>
        <p:blipFill>
          <a:blip r:embed="rId5"/>
          <a:stretch/>
        </p:blipFill>
        <p:spPr>
          <a:xfrm>
            <a:off x="200160" y="371520"/>
            <a:ext cx="1755720" cy="73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12"/>
          <p:cNvSpPr/>
          <p:nvPr/>
        </p:nvSpPr>
        <p:spPr>
          <a:xfrm>
            <a:off x="3409920" y="6543720"/>
            <a:ext cx="2133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EA7F-77CB-4729-BD35-795779F7879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7120" y="3429000"/>
            <a:ext cx="8521920" cy="28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Mod_12_09 vs Mod_45_09</a:t>
            </a:r>
            <a:br>
              <a:rPr sz="2000"/>
            </a:b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Loss adjustment of Commercial Offer Dat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1"/>
          <p:cNvSpPr/>
          <p:nvPr/>
        </p:nvSpPr>
        <p:spPr>
          <a:xfrm>
            <a:off x="3409920" y="6543720"/>
            <a:ext cx="2133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00B78-9BC3-442D-8362-B9160CB282E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Mod_12_09 vs Mod_45_0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Mod_12_09 (Option 1) arises out of a General Direction made by the SEMC in Dec 2008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ESBPG put forward Option 2 as an alternativ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Working Group considered Option 1 and Option 2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Outcome of Working Group was that both options needed to be considered further through worked examples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SEMO provided a worked example of Options 1 &amp; 2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Mod_45_09 (Option 2+) put forward by ESBPG that arrives at same outcome as Option 2 but through simpler changes to the algebr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SEMO obtained a high level impact assessment from the vendor on Options 1, Option 2 and Option 2+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Both Modifications address the issue of Uplift being set based on MSQ whereas Generator Units are settled on MSQLF, which can be &lt; MSQ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Mod_12_09 vs Mod_45_0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Mod_12_09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451"/>
              </a:spcBef>
              <a:spcAft>
                <a:spcPts val="224"/>
              </a:spcAft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Generators incorporate loss factors in Start-Up, No-Load &amp; Incremental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451"/>
              </a:spcBef>
              <a:spcAft>
                <a:spcPts val="224"/>
              </a:spcAft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Unit Commitment, Economic Dispatch &amp; SMP(Uplift) calculations all use the same costs as submitted in C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451"/>
              </a:spcBef>
              <a:spcAft>
                <a:spcPts val="224"/>
              </a:spcAft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Constraint and Make Whole Payment calculations are adju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Mod_45_0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451"/>
              </a:spcBef>
              <a:spcAft>
                <a:spcPts val="224"/>
              </a:spcAft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Generators incorporate loss factors in Incremental Costs on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451"/>
              </a:spcBef>
              <a:spcAft>
                <a:spcPts val="224"/>
              </a:spcAft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Unit Commitment &amp; Economic Dispatch use costs as submitted in C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451"/>
              </a:spcBef>
              <a:spcAft>
                <a:spcPts val="224"/>
              </a:spcAft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Start Up and No Load are adjusted to incorporate loss factors in the Cost of Running calc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451"/>
              </a:spcBef>
              <a:spcAft>
                <a:spcPts val="224"/>
              </a:spcAft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SMP(Uplift) calculation uses cost calculated in the Cost of Run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Potentially different Schedules</a:t>
            </a:r>
            <a:br>
              <a:rPr sz="1800"/>
            </a:b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Mod_12_09: Gen B, Mod_45_09: Gen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Rectangle 3" descr=""/>
          <p:cNvPicPr/>
          <p:nvPr/>
        </p:nvPicPr>
        <p:blipFill>
          <a:blip r:embed="rId1"/>
          <a:stretch/>
        </p:blipFill>
        <p:spPr>
          <a:xfrm>
            <a:off x="685800" y="1473120"/>
            <a:ext cx="7899480" cy="483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High Level Impact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0000"/>
                </a:solidFill>
                <a:latin typeface="Arial"/>
              </a:rPr>
              <a:t>These costs are indicative only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Mod_12_09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CMS changes: Low (&lt; €37,000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Other: Generators would have to change their COD pro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Mod_45_09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CMS changes: Med (&gt;€37,000 and &lt;€92,500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Other: Re-certification of MSP Soft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Deci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If you believe tha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451"/>
              </a:spcBef>
              <a:spcAft>
                <a:spcPts val="224"/>
              </a:spcAft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Production Costs (in Unit Commitment) and Cost of Running (in SMP(Uplift) calculation) should be the s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451"/>
              </a:spcBef>
              <a:spcAft>
                <a:spcPts val="224"/>
              </a:spcAft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Loss factors should be included in Start Up, No Load and Incremental Cost components of COD as this is the cost that is reflected in the SM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451"/>
              </a:spcBef>
              <a:spcAft>
                <a:spcPts val="224"/>
              </a:spcAft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Pick Mod_12_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If you believe tha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451"/>
              </a:spcBef>
              <a:spcAft>
                <a:spcPts val="224"/>
              </a:spcAft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Production Costs (as considered by the Unit Commitment) and Cost of Running (as considered by the SMP(Uplift) calculation) can be different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451"/>
              </a:spcBef>
              <a:spcAft>
                <a:spcPts val="224"/>
              </a:spcAft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Loss factors should only be included in the Incremental Cost component of COD as they are only incurred on that ba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451"/>
              </a:spcBef>
              <a:spcAft>
                <a:spcPts val="224"/>
              </a:spcAft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Pick Mod_45_09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14:53:01Z</dcterms:created>
  <dc:creator>Blandine Thiry</dc:creator>
  <dc:description/>
  <dc:language>en-US</dc:language>
  <cp:lastModifiedBy>Aodhagan Downey</cp:lastModifiedBy>
  <cp:lastPrinted>2002-07-25T14:31:52Z</cp:lastPrinted>
  <dcterms:modified xsi:type="dcterms:W3CDTF">2009-12-02T16:53:32Z</dcterms:modified>
  <cp:revision>759</cp:revision>
  <dc:subject/>
  <dc:title>Training Presentation BLG 190706</dc:title>
</cp:coreProperties>
</file>