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C94-46D9-43D5-A9A2-D5481CFD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7A6-2296-41A2-A635-A6BF6E94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F4F-7488-4358-A496-4DBB5F0E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482-B407-4888-B409-3A1956B3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0A2C-FC48-4FDA-9117-8BC9B981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C80-50B8-4B8B-933F-A0ECA551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20EA-CEEA-4818-9FA5-650529FD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09D-41B7-40DF-A6B1-D01E634F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59BC-D857-458B-A539-E1D2D7FD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B4D-F3B6-487E-8ADB-0FE56274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DB2A-B665-4E0F-8695-36F4642F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618-DD25-4BDD-995D-419E353B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D143-05FE-443A-9AF1-10CF1EBF0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333399"/>
                </a:solidFill>
                <a:latin typeface="Arial"/>
              </a:rPr>
              <a:t>Future proofing the Modification- ESB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will the flag be used and for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an a mixed fuel unit know if it should have the flag on or off if burning some biom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f the flag can be a percentage, how accurately does the percentage have to be calculated?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Burning bio fuels may require “oil support” for stable combustion. Other fuel units, like the coal or peat units, will occasionally use a mix of main fuel and oil for combustion support. The exact mix is difficult to specify but it will affect the average carbon intens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re is already an EPA scheme for trading carbon allowances and those generators’ carbon emissions are worked out differently to using a dispatch fuel flag. This will create inconsist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will non-dispatched autonomous generators be hand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will non-participant (de-minimus) Generators be hand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will uninstructed imbalances away from dispatch be hand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will instructed imbalances away from MSQ be handled: Will there be a mis-match between pool tradable energy for CfDs and “flagged” green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will start-up energy be handled? How will energy used after dispatched de-synchronisation be hand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8:12:18Z</dcterms:created>
  <dc:creator>Aisling O'Donnell</dc:creator>
  <dc:description/>
  <dc:language>en-US</dc:language>
  <cp:lastModifiedBy>Aisling O'Donnell</cp:lastModifiedBy>
  <dcterms:modified xsi:type="dcterms:W3CDTF">2010-06-21T18:16:20Z</dcterms:modified>
  <cp:revision>2</cp:revision>
  <dc:subject/>
  <dc:title>Future proofing the Modification - ESBCS</dc:title>
</cp:coreProperties>
</file>