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11.gif" ContentType="image/gif"/>
  <Override PartName="/ppt/media/image1.jpeg" ContentType="image/jpeg"/>
  <Override PartName="/ppt/media/image4.wmf" ContentType="image/x-wmf"/>
  <Override PartName="/ppt/media/image2.png" ContentType="image/png"/>
  <Override PartName="/ppt/media/image6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8.gif" ContentType="image/gif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82F0-CD45-4E7E-A52E-023C758E01C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B975-852E-46FB-B914-31275A0BDF5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67D2-8F76-468D-9BAC-3B5E3AF619D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C3D8-A309-4AF1-80F6-50B3050F4EB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F8BC-1BA1-4C15-85EB-CFF90DAB695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B218-E544-4B6E-B75B-453F25A8A7F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2A3-1FB1-468D-B311-AAC09C5F50C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027B-44DA-4E8E-91BC-D9C060ED1C2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713D-704E-4125-8A08-90537C8B788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E119-972F-4458-9C48-D987E6D65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35D7-137D-4F49-9C76-F034B4825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4E46-244A-4231-B01A-36C10F079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3531-29C1-42A8-ADF4-F7FC6F640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53AEF-7C07-4444-A429-4A50C67001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B3176-E3B5-40E8-81EF-68FC111B6A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85B74-B0DD-47C3-8320-682B3BE42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16D58-04F8-4676-878C-1D30512D88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6855D-86C1-4C1A-887D-A2C9BA4DF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42433-ED98-43CD-950B-E6830BBE2C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1BC7F-ED21-41D8-BEC8-A6F1B1E7C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4285-6919-4214-9E0C-051F0CBA8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5076C-FEB7-45CC-8520-11B1D22C8C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EF7DC-3942-4881-8E55-66246E3D2C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4FE90-1E6D-456A-A65F-F01E858D52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5662E-16D0-4FF8-AEB1-6BC9ED82C9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934DE-8F19-47D6-A097-0CF988CD91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65BC-E4FF-466C-9DF4-3852E9B81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D4B9-CB4E-4697-8140-A1C472DCF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901E-F016-4D23-B755-1BA2E003A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41F2-6454-4033-BAB2-0092D627B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A763-C1CD-460C-87ED-2F1143AD2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6C8F-528A-4CFC-8F37-F13D1304C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802D-9129-4BDD-82F3-8F2C9C8D0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5992-9CE8-49CD-9B0A-2E6491B302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D7E-6DB3-40B5-AD87-52AE1B0937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395B-6982-4CE4-9F40-36D86423A4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04_10 :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ddition of Fuel Flag to Dispatch Instruction Data Transaction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orking Grou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D:\Documents and Settings\delaney_n\Local Settings\Temporary Internet Files\Content.IE5\W5M3OHM3\MM900336445[1].gif"/>
          <p:cNvPicPr/>
          <p:nvPr/>
        </p:nvPicPr>
        <p:blipFill>
          <a:blip r:embed="rId1"/>
          <a:stretch/>
        </p:blipFill>
        <p:spPr>
          <a:xfrm>
            <a:off x="6000840" y="514368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oints for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Is are acceptable for Fuel Mix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utonomous and non-market generation Fuel data not covered under this modification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09CF-CED8-4F5F-89B3-BEDDFB0D1A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cap of Modif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al to includ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 field denoting the </a:t>
            </a:r>
            <a:r>
              <a:rPr b="0" lang="en-IE" sz="2000" spc="-1" strike="noStrike">
                <a:solidFill>
                  <a:srgbClr val="ff0000"/>
                </a:solidFill>
                <a:latin typeface="Arial"/>
              </a:rPr>
              <a:t>Fuel Typ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sued with the Dispatch Instruction by the TS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 to Dispatch Instruction f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CB9B-5D36-40B1-9C51-3BA9798656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cap of Modif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able K.15 – Dispatch Instruction Data Transaction Data Rec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Participant Na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Participant ID (Not submitted for SO Interconnector Trad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Unit 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struction Timesta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struction Issue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struction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struction Combination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Ramp Up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Ramp Down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ispatch Instruction M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0000"/>
                </a:solidFill>
                <a:uFillTx/>
                <a:latin typeface="Arial"/>
              </a:rPr>
              <a:t>Fuel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D342-0142-476C-82CB-1EE88ECFFD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cap of Modif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 to be used by SEMO systems in future Fuel Mix disclosure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ould Integrate previous manual submission of data from TSOs into Central Market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00"/>
                </a:solidFill>
                <a:latin typeface="Arial"/>
              </a:rPr>
              <a:t>Approach chosen as being more auditable and less prone to err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B8F7-05AD-4B2E-884C-2E1D09AA5C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ogress through Modifications 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sed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26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O  requested modification to be deferred as TSOs requested further discussion on alternativ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d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27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 representative gave an update on RES Directiv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dicated summer 2010 was earliest possible implementation date for secondary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and TSOs were requested to procure ful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D2F-CF32-427C-91DD-589F4DD098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iscussion in Meeting 2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d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2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gave details of full impact assessment as being €2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SO gave an assessment of the impact on the TSO systems as “medi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9F8B-A20F-4647-BA22-AC9B56423F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MO Impact Assessment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following Fuel Types will be available in new Fuel_Type field is the Dispatch Instructions tab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MULTI (Multiple Fu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IO (Biom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HP (Combined Heat an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UMP (Pumped Sto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NUCLR (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DISTL (Distill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300"/>
              </a:spcBef>
              <a:spcAft>
                <a:spcPts val="150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NA (Not Applic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0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uel_Type will be added to Daily Dispatch Instructions D+1 public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OI Interface will show new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Documents and Settings\delaney_n\Local Settings\Temporary Internet Files\Content.IE5\W5M3OHM3\MM900236544[1].gif"/>
          <p:cNvPicPr/>
          <p:nvPr/>
        </p:nvPicPr>
        <p:blipFill>
          <a:blip r:embed="rId1"/>
          <a:stretch/>
        </p:blipFill>
        <p:spPr>
          <a:xfrm>
            <a:off x="4143240" y="2357280"/>
            <a:ext cx="1071720" cy="78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Documents and Settings\delaney_n\Local Settings\Temporary Internet Files\Content.IE5\WHMF89YB\MM900296926[1].gif"/>
          <p:cNvPicPr/>
          <p:nvPr/>
        </p:nvPicPr>
        <p:blipFill>
          <a:blip r:embed="rId2"/>
          <a:stretch/>
        </p:blipFill>
        <p:spPr>
          <a:xfrm>
            <a:off x="5572080" y="1928880"/>
            <a:ext cx="1000080" cy="831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:\Documents and Settings\delaney_n\Local Settings\Temporary Internet Files\Content.IE5\W12Z8TUF\MM900336844[1].gif"/>
          <p:cNvPicPr/>
          <p:nvPr/>
        </p:nvPicPr>
        <p:blipFill>
          <a:blip r:embed="rId3"/>
          <a:stretch/>
        </p:blipFill>
        <p:spPr>
          <a:xfrm>
            <a:off x="4000680" y="3571920"/>
            <a:ext cx="928440" cy="895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:\Documents and Settings\delaney_n\Local Settings\Temporary Internet Files\Content.IE5\W12Z8TUF\MM900282797[1].gif"/>
          <p:cNvPicPr/>
          <p:nvPr/>
        </p:nvPicPr>
        <p:blipFill>
          <a:blip r:embed="rId4"/>
          <a:stretch/>
        </p:blipFill>
        <p:spPr>
          <a:xfrm>
            <a:off x="7072200" y="321480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:\Documents and Settings\delaney_n\Local Settings\Temporary Internet Files\Content.IE5\W12Z8TUF\MM900283597[1].gif"/>
          <p:cNvPicPr/>
          <p:nvPr/>
        </p:nvPicPr>
        <p:blipFill>
          <a:blip r:embed="rId5"/>
          <a:stretch/>
        </p:blipFill>
        <p:spPr>
          <a:xfrm>
            <a:off x="7286760" y="2071800"/>
            <a:ext cx="93816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:\Documents and Settings\delaney_n\Local Settings\Temporary Internet Files\Content.IE5\OH6ZSTMJ\MP900439271[1].jpg"/>
          <p:cNvPicPr/>
          <p:nvPr/>
        </p:nvPicPr>
        <p:blipFill>
          <a:blip r:embed="rId6"/>
          <a:stretch/>
        </p:blipFill>
        <p:spPr>
          <a:xfrm>
            <a:off x="5500800" y="3143160"/>
            <a:ext cx="142848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860C-D04F-4D32-A513-60E7377EB0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iscussion in Meeting 28 (cont’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d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eting 2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gave details of full impact assessment as being €2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SO assessed impact as “medi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stated preference to continue with manual cal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iscussion around enduring fuel-mix disclosure arran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dification only relates to dispatchable generators, therefore Autonomous and non-market generation will not be accounted for under this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has compared the quality of the Fuel Mix Calculations using the TSO DIs and the EPA fuel consumption figures and the results 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is shows that the DIs can be used as a reasonable approxi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410000" cy="17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06-21T18:38:17Z</dcterms:modified>
  <cp:revision>870</cp:revision>
  <dc:subject/>
  <dc:title>Training Presentation BLG 190706</dc:title>
</cp:coreProperties>
</file>