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EBDE-6762-4672-B239-CA896079DBA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D5BD-0E27-4F28-B99F-142DC25BC85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B7FE-9321-460B-8A3C-350833A24E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AE1E-67AB-438F-AC09-C3918BB005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AA1C-31E3-4643-B447-FFCECF6536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5422-2FCA-425B-A0A3-4FEC881245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FC1E-CE46-432F-A79E-E5214B3CED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C1B8-CAE3-4710-A33D-D3BE8CBA57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B79D-C296-49C6-9694-797B6E23BD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emo logo.jpg"/>
          <p:cNvPicPr/>
          <p:nvPr/>
        </p:nvPicPr>
        <p:blipFill>
          <a:blip r:embed="rId2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429000"/>
            <a:ext cx="852192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mpact Assessment Mod_11_12 : 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Proposal to extend the definition of Special Units to include Compressed Air Energy Storage</a:t>
            </a:r>
            <a:br>
              <a:rPr sz="2000"/>
            </a:b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23 January 201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241200" y="987480"/>
            <a:ext cx="8731440" cy="40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ification: Proposal by Gaelectric Energy Storage Ltd. to designate Compressed Air Energy Storage as a Special Unit in the Code as develop market rules for it on that ba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wo options were put forward for Impact Assessment purpo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ption 1(a): Pumped Storage Unit with Commercial Offer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ption 1(b): Pumped Storage Unit with Commercial Offer Data  and a Pumped Storage Cycle Efficiency which is a function of output rather than const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ption 2: New Unit with similar logic to Interconnector Un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385920" y="409680"/>
            <a:ext cx="87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act Assessment of Mod_11_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241200" y="987480"/>
            <a:ext cx="873144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MO developed a change request and discussed the options with the vendor in a number of conference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ption 2 was discussed at length, but the vendor did not feel that it would fit well into the existing system architecture. Their view was as follow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In the existing implementation, Interconnector units’ bid/offer capacity are limited by capacity holdings. CAES would not have a similar capacity holding mechanism. Therefore, it would not consider the physical limits of CAES in the UUC optimisation. Instead, the physical limits would be imposed by post-processing, modifying the market schedule quantities (MSQs) determined by the UUC. This post processing would cause sub-optimal solutions for MSQ and SMP and would in turn introduce unfair competition into SEM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this, it was decided not to proceed further with Option 2 and to perform a detailed impact assessment of Option 1(a) and 1(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385920" y="409680"/>
            <a:ext cx="87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act  Assessment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241200" y="987480"/>
            <a:ext cx="8731440" cy="60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ption 1(a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ew CAES unit which replicates all existing of existing PS uni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n addition includes complex COD (Start Up Costs, No Load Costs and PQ pair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nergy Payments, Constraint Payments, Uninstructed Imbalance Payments and Make Whole Payments would use the formulae for PPM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apacity Payments would the formulae for PS units except for the calculation of CPGPF where the PPMG formulae would be u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385920" y="409680"/>
            <a:ext cx="87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endor Impact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241200" y="987480"/>
            <a:ext cx="8731440" cy="87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ption 1(a) System Chang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anges to MA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A in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MP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anges to MI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P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Valid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I-MOI GU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ettlement chang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ption 1(a) Cost: €222,000 (ABB) + €155,230 = 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€ 377,230 + Testing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385920" y="409680"/>
            <a:ext cx="87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endor Impact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241200" y="987480"/>
            <a:ext cx="87314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ption 1(b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Functionality as in Option 1(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n addition, Pumped Storage Cycle Efficiency (PSCE) would be changed from a constant to a function that varies with the output of the unit (piecewise linear function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385920" y="409680"/>
            <a:ext cx="87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endor Impact Assessment (cont’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241200" y="987480"/>
            <a:ext cx="8731440" cy="87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ption 1(b) System Chang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anges to MA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A in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MP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SCE function and min/max charging including display chan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SCE function model in L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SCE function model in M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anges to MI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P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Valid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I-MOI GU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ettlement chang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ption 1(b) Cost: € 222,000 +  €448,000 (ABB) + €155,230 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€ 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825,230 + Testing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385920" y="409680"/>
            <a:ext cx="87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endor Impact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241200" y="987480"/>
            <a:ext cx="8731440" cy="51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811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anges assessed only apply to Central Market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CUC would also need to be changed according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ssessment for this, if required would be additiona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385920" y="409680"/>
            <a:ext cx="87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4:53:01Z</dcterms:created>
  <dc:creator>Blandine Thiry</dc:creator>
  <dc:description/>
  <dc:language>en-US</dc:language>
  <cp:lastModifiedBy>sking</cp:lastModifiedBy>
  <cp:lastPrinted>2002-07-25T14:31:52Z</cp:lastPrinted>
  <dcterms:modified xsi:type="dcterms:W3CDTF">2013-01-22T17:08:07Z</dcterms:modified>
  <cp:revision>1447</cp:revision>
  <dc:subject/>
  <dc:title>Training Presentation BLG 190706</dc:title>
</cp:coreProperties>
</file>