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A594-EED6-4D75-AEB9-A348AE05C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4C30-2F3C-492B-8EF9-F1D2FCEA5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1FC0-25FF-4059-A822-5E24E7641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FE27-3361-4C57-AC63-693B15DD1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AA2FC-0195-4A71-B545-85F4087E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CBBF8-7D64-4A01-B4C1-60FA8FB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74A52-D6CF-41CA-A068-077D67F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DD05E-9689-4619-A9F2-E4AE8F52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D58E8-1E79-4843-8B65-185D573D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82440"/>
            <a:ext cx="71247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7EF0-E6FA-4BED-9CB4-8FAB2F00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90733-64D0-4EE3-B3CA-1C64177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7F1C-828E-49B1-B43B-29AB46382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9ED1-A321-4D1C-8B7F-0352C4C2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4ECD6-3349-41BA-9C38-1EA9DBF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09CA-251F-4388-9FCC-8FC984C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8B970-B2B4-40C7-A82B-CE8002F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9BB47-596F-4720-BFD6-AD66D7CC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AD2C-FB42-479B-B1EE-155369026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C067-DDB9-4BA4-A833-731D4C13B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B2D9-C05A-4A54-AF23-0717453D4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82440"/>
            <a:ext cx="7124760" cy="45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4C68-7E7A-4D56-A0CF-2660435B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5829-EC56-4D32-88D4-A147317F3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5858-C321-4B17-A340-7E8B7A802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DF3E-E252-4B69-A152-B83CFE159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33cc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65F84D-F30A-421F-B6BB-95C7148B6F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" descr="SEMO logo"/>
          <p:cNvPicPr/>
          <p:nvPr/>
        </p:nvPicPr>
        <p:blipFill>
          <a:blip r:embed="rId3"/>
          <a:stretch/>
        </p:blipFill>
        <p:spPr>
          <a:xfrm>
            <a:off x="7515360" y="47520"/>
            <a:ext cx="1581120" cy="10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33cc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10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012000" y="6524640"/>
            <a:ext cx="30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C717F8-DBF5-4ED3-870F-6F2D69C4AD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odification Working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244520"/>
            <a:ext cx="822816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redit Requirement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I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September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1244520"/>
            <a:ext cx="7886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modification proposal has a potential impact on banking in the SEM in two are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5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ligibility to act as the SEM 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spcBef>
                <a:spcPts val="5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ligibility to provide Letters of Credit to Participants in the 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SEM Ba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960" y="1244160"/>
            <a:ext cx="79423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tract in place with Danske Bank operating through National Irish Bank in ROI and Northern Bank in NI (a subsidiary of Danske Ban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tract has been in place since the start of SEM but will expire in Quarter 3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ender will take place in 2012 to appoint SEM bank for a period of 5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tender will consider all requirements of a SEM bank including credit worthiness, presence in both jurisdictions and ability to meet payment timeframes as defined in the TS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redit C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26000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urrent Statu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Credit cover can be held in Letters of Credit (LOC’s) or ca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Chart 4" descr=""/>
          <p:cNvPicPr/>
          <p:nvPr/>
        </p:nvPicPr>
        <p:blipFill>
          <a:blip r:embed="rId1"/>
          <a:stretch/>
        </p:blipFill>
        <p:spPr>
          <a:xfrm>
            <a:off x="1066680" y="2279520"/>
            <a:ext cx="70837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82440"/>
            <a:ext cx="712476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redit C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Rating of Banks Holding LOC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5580000" y="6553080"/>
            <a:ext cx="356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SEMO is a joint venture between EirGrid plc and SONI limit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Chart 6" descr=""/>
          <p:cNvPicPr/>
          <p:nvPr/>
        </p:nvPicPr>
        <p:blipFill>
          <a:blip r:embed="rId1"/>
          <a:stretch/>
        </p:blipFill>
        <p:spPr>
          <a:xfrm>
            <a:off x="2084400" y="1773360"/>
            <a:ext cx="4975200" cy="3311280"/>
          </a:xfrm>
          <a:prstGeom prst="rect">
            <a:avLst/>
          </a:prstGeom>
          <a:ln w="0">
            <a:noFill/>
          </a:ln>
        </p:spPr>
      </p:pic>
      <p:pic>
        <p:nvPicPr>
          <p:cNvPr id="103" name="Chart 7" descr=""/>
          <p:cNvPicPr/>
          <p:nvPr/>
        </p:nvPicPr>
        <p:blipFill>
          <a:blip r:embed="rId2"/>
          <a:stretch/>
        </p:blipFill>
        <p:spPr>
          <a:xfrm>
            <a:off x="993600" y="2139840"/>
            <a:ext cx="687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ing</cp:lastModifiedBy>
  <dcterms:modified xsi:type="dcterms:W3CDTF">2011-09-12T14:13:09Z</dcterms:modified>
  <cp:revision>99</cp:revision>
  <dc:subject/>
  <dc:title> SEM Establishment Programme  Technical Solution Update  Michael Carrington </dc:title>
</cp:coreProperties>
</file>