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D8EA-3EEE-46C6-BC01-4348E9EF81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DDB-57BB-42A0-91FF-7B7AC4019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Semo logo.jpg"/>
          <p:cNvPicPr/>
          <p:nvPr/>
        </p:nvPicPr>
        <p:blipFill>
          <a:blip r:embed="rId1"/>
          <a:stretch/>
        </p:blipFill>
        <p:spPr>
          <a:xfrm>
            <a:off x="7308720" y="95400"/>
            <a:ext cx="1727280" cy="722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41200" y="781200"/>
            <a:ext cx="866484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ing Group #5 discussed a number of 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-Day Trading desig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 Windows: Opening and Clos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Option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Window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SEMO and TSOs to consider WD1 Trading Wind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and Technical Offer Dat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as presen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Trading Day Exchange Rat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as presen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Dat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Working Assumption: as presen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nector Units: Protectio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Issues raised : SEMO to consider furth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-Post PQ Pairs Constructio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Dependent on design for treatment of I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IOLI or UIOS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fundamental differences between UIOLI or UIOS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IOSI is to be implemented for SEM, this should be administered by the Interconnector Own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Participants to consider whether UIOSI is requir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IOSI is required, input data to the calculation of payments for unused capacity by Interconnector Owners (PQ Pairs, SMP, MSQ) may be provided by SEM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O Impact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RCUC </a:t>
            </a: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(3 hour) production process information to be provided to WG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SEMO to conduct Impact Assessment with CMS vendor of TSO Mitigation Op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chedule Productio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SEMO to provide high level information on 90 minute process by WG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sking</cp:lastModifiedBy>
  <cp:lastPrinted>2002-07-25T14:31:52Z</cp:lastPrinted>
  <dcterms:modified xsi:type="dcterms:W3CDTF">2010-10-22T16:03:52Z</dcterms:modified>
  <cp:revision>1103</cp:revision>
  <dc:subject/>
  <dc:title>Training Presentation BLG 190706</dc:title>
</cp:coreProperties>
</file>