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A7A3-2FB4-4536-8B10-202EEA63886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FE3-FB86-4F0A-9AD1-42672670984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F314-D9C9-403E-A6B0-53F39AFDA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655E-F67B-47B9-97D4-954B53729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2427-AB66-40F4-8CF0-72FCC6147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D07-5948-4782-B2B7-C684BB6B0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0AE-8480-4C8A-8C9D-3427E3945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33E-CA71-4978-B51D-BE72E66FE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846E-E7ED-430D-88DB-339E61795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3C26-805B-4995-B729-EA2F9744A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and Credit Risk Management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orking Group 9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9 June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story of Mod_18_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1238400"/>
            <a:ext cx="873144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ification Mod_18_10 raised March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s 1 to 7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5 Nov 2010  - Modifications Committee Meeting 32 – Modifications Committee recommended to approve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04 March 2011 - SEM Committee approve implementation of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01 Feb 2011 - Modifications Committee Meeting 33 – SEMO to develop legal text based on High Level Desig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0 May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8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9 June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9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06 September 2011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0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2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0 November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1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cap of design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ments addressed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issues resolved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orking Group 9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view the draft rules for Functional Group 3 – Settlement and Credit Risk Management produced by SEMO, ensuring that the resulting Modification Proposal aligns with the agreed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identify and address areas of change to the Code that are not identified by the draf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discuss and address drafting issues raised by SE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commend to the Modifications Committee whether legal drafting aligns with the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9 - Objectiv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41200" y="1225440"/>
            <a:ext cx="87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Working Group 9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ain English Document  FG3 (PED_FG3) describing Code changes in respect of IDT Settlement and Credit Risk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Drafting covering all Code changes required for FG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rking Group Report to the Modifications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reed deadline date for Participant comments on the FG1+FG3 drafting – 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3 weeks from Working Group meeting (20th July 2011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9 - Deliver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41200" y="1225440"/>
            <a:ext cx="8731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mental Draf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41200" y="1225440"/>
            <a:ext cx="873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response to Participant comments at Working Group #8, drafting has been combined for FG1 + FG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rcRect l="7546" t="16598" r="65021" b="20734"/>
          <a:stretch/>
        </p:blipFill>
        <p:spPr>
          <a:xfrm>
            <a:off x="3240000" y="2033640"/>
            <a:ext cx="5523120" cy="3941640"/>
          </a:xfrm>
          <a:prstGeom prst="rect">
            <a:avLst/>
          </a:prstGeom>
          <a:ln w="0">
            <a:noFill/>
          </a:ln>
        </p:spPr>
      </p:pic>
      <p:sp>
        <p:nvSpPr>
          <p:cNvPr id="99" name="Left Brace 6"/>
          <p:cNvSpPr/>
          <p:nvPr/>
        </p:nvSpPr>
        <p:spPr>
          <a:xfrm>
            <a:off x="2717640" y="1974960"/>
            <a:ext cx="447840" cy="2519280"/>
          </a:xfrm>
          <a:custGeom>
            <a:avLst/>
            <a:gdLst>
              <a:gd name="textAreaLeft" fmla="*/ 286200 w 447840"/>
              <a:gd name="textAreaRight" fmla="*/ 448200 w 447840"/>
              <a:gd name="textAreaTop" fmla="*/ 11520 h 2519280"/>
              <a:gd name="textAreaBottom" fmla="*/ 2507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Brace 7"/>
          <p:cNvSpPr/>
          <p:nvPr/>
        </p:nvSpPr>
        <p:spPr>
          <a:xfrm>
            <a:off x="2714760" y="4529160"/>
            <a:ext cx="447480" cy="1343160"/>
          </a:xfrm>
          <a:custGeom>
            <a:avLst/>
            <a:gdLst>
              <a:gd name="textAreaLeft" fmla="*/ 285840 w 447480"/>
              <a:gd name="textAreaRight" fmla="*/ 447840 w 447480"/>
              <a:gd name="textAreaTop" fmla="*/ 11520 h 1343160"/>
              <a:gd name="textAreaBottom" fmla="*/ 1331640 h 13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1"/>
                  <a:pt x="10800" y="601"/>
                </a:cubicBezTo>
                <a:lnTo>
                  <a:pt x="10800" y="10199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1"/>
                  <a:pt x="10800" y="11401"/>
                </a:cubicBezTo>
                <a:lnTo>
                  <a:pt x="10800" y="20999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826920" y="2908440"/>
            <a:ext cx="18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FG1 changes (changed marked and highlighted in yellow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814320" y="4870440"/>
            <a:ext cx="18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FG3 changes (changed marked but not highligh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Members to review PED, legal drafting and sl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to be submitted before, during or after Working Group on comment spreadsheet provided through Secretari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 for submission of comments to be agreed during Working Grou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e draft changes are based on T&amp;SC V8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ior to Working Group 10, SEMO will provide an update of the changes made as a result of all comments received (Participants, RAs, internal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osed Review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80 Participant comments on FG1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sponses evaluated and changes made where in agre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pdated spreadsheet issued on June 22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with explanation of resolutions (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RESPONSES_FG1_ParticipantReview_vIssu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pdated text in FG1+FG3 legal drafting of T&amp;SC issued on June 22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G1 Participant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G1 Comments Summary (1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1114560"/>
          <a:ext cx="8335800" cy="4375080"/>
        </p:xfrm>
        <a:graphic>
          <a:graphicData uri="http://schemas.openxmlformats.org/drawingml/2006/table">
            <a:tbl>
              <a:tblPr/>
              <a:tblGrid>
                <a:gridCol w="2084400"/>
                <a:gridCol w="1325520"/>
                <a:gridCol w="1515960"/>
                <a:gridCol w="340992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raphs Affec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ographical / Format Errors and Drafting Suggesti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4, 5, 6, 7, 10, 15, 16, 21, 22, 24, 25, 27, 31, 32, 33, 34, 56, 63, 66, 68, 69, 70, 72, 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8A, 2.100, 3.20A, 3.40, 3.42J, 3.43, 3.47, 4.28, 4.30, 4.36, 5.9A, 5.18, 5.35, 5.56, 5.57, 6.58, AppH, AppI.2A, AppI.2B, AppI.2C, AppI.2E, AppI.3E, AP1-3.5.1, AP1-App2, AP1-App3, AP2-App2 , AP4-2.3.2, AP4-2.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 of Interconnector Uni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62, 75, 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1, 2.98A, AP4-2.3.4, AP4-2.6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Window vs Trading Window vs Trading D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 9, 11, 13, 14, 17, 18, 19, 23, 30, 35, 36, 37, 38, 39, 40, 41, 42, 43, 44, 45, 46, 47, 51, 52, 53, 54, 55, 65, 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2L, 3.44, 4.4, 4.17-4.30, 4.26, 4.27, 4.28-4.30, 5.51, 5.52, 5.56, 5.114, 5.115, 5.122-5.124, 5.156, 5.159, 5.160, 5.174, AppI.2A, AppI.2B, AP2-3.2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G1 Comments Summary (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1084320"/>
          <a:ext cx="8269200" cy="2427120"/>
        </p:xfrm>
        <a:graphic>
          <a:graphicData uri="http://schemas.openxmlformats.org/drawingml/2006/table">
            <a:tbl>
              <a:tblPr/>
              <a:tblGrid>
                <a:gridCol w="2066760"/>
                <a:gridCol w="1316160"/>
                <a:gridCol w="1503360"/>
                <a:gridCol w="3382920"/>
              </a:tblGrid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raphs Affec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 20, 26, 28, 48, 49, 50, 57, 58, 59, 60, 61, 64, 67, 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ssary, 4.16, AP1, AP4-2.3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IDT Chang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 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ry of System Dat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 74, 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4-2.3.3, AP4-2.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4:24:15Z</dcterms:created>
  <dc:creator/>
  <dc:description/>
  <dc:language>en-US</dc:language>
  <cp:lastModifiedBy/>
  <dcterms:modified xsi:type="dcterms:W3CDTF">2011-07-15T14:24:24Z</dcterms:modified>
  <cp:revision>1</cp:revision>
  <dc:subject/>
  <dc:title/>
</cp:coreProperties>
</file>