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74AC-CE87-420B-AB17-ED9CBE3A4D6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3500-2779-4247-B70E-50C4DD70BA9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6B11-87C4-48EF-8C97-AD3637C2E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6A97-329F-4652-9A0B-DB59106872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6B9A-05B5-44B3-B9B3-68A297BA7F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TextBox 4"/>
          <p:cNvSpPr/>
          <p:nvPr/>
        </p:nvSpPr>
        <p:spPr>
          <a:xfrm>
            <a:off x="8326800" y="64468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D9FF-44A7-4C4E-9398-A15C3A5F9D7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-DAY TRADING DESIGN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hanges to Agreed Procedures 6, 9 and 10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9 June 2011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241200" y="966960"/>
            <a:ext cx="8340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Summary of proposed chan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greed Procedure 6 (Data Publication and Repor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rrection of typos and formatting errors, clarif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plit of Market Data Classifications to clarify when report/publications produced – most changes will be made in FG2 draf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clusion of  Required  Credit Cover (RCC) and Available Credit Cover (ACC) reports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hanges to Agreed Procedure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241200" y="987480"/>
            <a:ext cx="8450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Summary of proposed chan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greed Procedure 9 (Management of Credit Cover and Credit Defaul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rrection of typos and formatting erro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ew principles of Credit Cover (as per the High Level Design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roduction of Traded Exposure for Interconnector Units and exclusion from having Undefined Exposur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arification of existing provisions (non material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parison of PCC against RCC to determine of WLN or CCIN requir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of eligible Credit Cover Provider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anges to Posted Credit Cover/ Withdrawal of Cash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orecast Data for New/Adjusted Particip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hanges required to meet IDT timelines for Credit Co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ivery of WLN and CCINs via RCC Report (rather than fax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utomation of SRA cancel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hanges to Agreed Procedure 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241200" y="987480"/>
            <a:ext cx="81392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Summary of proposed chan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greed Procedure 10 (Settlement Realloc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rrection of typos and formatting err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556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clusion of notification of SRA cancellation via new re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hanges to Agreed Procedure 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4:25:31Z</dcterms:created>
  <dc:creator/>
  <dc:description/>
  <dc:language>en-US</dc:language>
  <cp:lastModifiedBy/>
  <dcterms:modified xsi:type="dcterms:W3CDTF">2011-07-15T14:25:34Z</dcterms:modified>
  <cp:revision>1</cp:revision>
  <dc:subject/>
  <dc:title/>
</cp:coreProperties>
</file>