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2A5-612D-4481-881A-44D3E045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8C9-2C65-4043-BC14-B8376D74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339-5AC2-4A01-93DA-EB2D6705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B5E-8BE0-4739-AA1A-ED431FDC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9101-B25E-46DD-BCE1-64B73A35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C82F-BE12-47E3-8E80-42A7FF37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B76A-A381-4BDC-BDA3-1DF82C54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145A-8EBD-419A-8F86-B500717F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BFE4-8599-4527-8E3F-CCEC113F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D574-F7B6-4E3B-B71B-EF236A65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72FA-3F64-4266-9680-BEB8A484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A2E-6919-4936-9BAE-3CA2652F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101B-9827-4739-920C-319B151B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B0C3-7368-4E2A-8C62-18438C9B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7E87-95D0-4CFF-850A-E8E63AF9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1059-3D69-4FF1-9B82-FC27E75C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2F77-49A5-46D5-B98C-C2E3EF7C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188-BE68-48D7-AE32-7DAC9C12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DF5-6B3D-41BC-98FD-5BC904A2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6D9-EF25-445A-9211-EEA7AAF2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77C-CCA2-416C-82C8-99B76719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312-1356-4F0C-8F0C-C7C7DCCA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A58-8D8D-40E4-A8A7-167764AE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771-7A10-4CA8-9EBF-A2742994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19A6-74BA-4700-88A4-209D3304B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Irishlogo"/>
          <p:cNvPicPr/>
          <p:nvPr/>
        </p:nvPicPr>
        <p:blipFill>
          <a:blip r:embed="rId2"/>
          <a:stretch/>
        </p:blipFill>
        <p:spPr>
          <a:xfrm>
            <a:off x="500040" y="285840"/>
            <a:ext cx="2000160" cy="820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UtilityRegulator"/>
          <p:cNvPicPr/>
          <p:nvPr/>
        </p:nvPicPr>
        <p:blipFill>
          <a:blip r:embed="rId3"/>
          <a:stretch/>
        </p:blipFill>
        <p:spPr>
          <a:xfrm>
            <a:off x="6072120" y="357120"/>
            <a:ext cx="2548080" cy="627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3CEB-C5F8-4C7C-877B-BC3C65922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a Day Trading Working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EM Modifications  Committee 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22 April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Irishlogo"/>
          <p:cNvPicPr/>
          <p:nvPr/>
        </p:nvPicPr>
        <p:blipFill>
          <a:blip r:embed="rId1"/>
          <a:stretch/>
        </p:blipFill>
        <p:spPr>
          <a:xfrm>
            <a:off x="500040" y="285840"/>
            <a:ext cx="2428920" cy="996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UtilityRegulator"/>
          <p:cNvPicPr/>
          <p:nvPr/>
        </p:nvPicPr>
        <p:blipFill>
          <a:blip r:embed="rId2"/>
          <a:stretch/>
        </p:blipFill>
        <p:spPr>
          <a:xfrm>
            <a:off x="5643720" y="500040"/>
            <a:ext cx="29048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428760" y="150012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As to chair Working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MO to act as Secretari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MO – drafting proposals, assessing impa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mbers of Working Grou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attend all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arry out work a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eliverables &amp;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irst Meeting of Working Group: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22 April 20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igh Level Modification Outline by Second Meeting: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end May 20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etailed Proposal to be presented to and discussed at Third Working Group Meeting: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mid July 20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ssessment of impact by SEMO on CMS and by SOs/IC owners: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September 20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Recommendation to Modifications Committee: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October 20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ubmit Modification to Modifications Committee for vote: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December 20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table too t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t West and Moyle end up being under-used owing to lack of incentives to trade in the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ing Group lacks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t West non-compliant on commissi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erms of Re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ion and Conclus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Intra Day Mod Pro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Draft Proposal Introduces the following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Interconnector Commercial Offer Data for Intra Day gate closures (2 extra gate closures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Means of distinguishing for each Interconnector User between capacity explicitly bought and in merit in ex-ante MSP run and that which is available for reallocation in two(or more) Intra Day MSP Software Ru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Two Indicative Intra-Day MSP Software Runs (auctions)  and data inputs for thes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Modified Interconnector Unite Nominations (MIUNs) from Intra Day Trading Auc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Intra Day Active Interconnector Unit Capacity Holding (IUCH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Values for use in the Ex-Post MSP Software Run to reflect Intra Day trad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igh Level Issue for 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o be Determin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finition of Intra-D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ming and number of gate clo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plicit or Implicit Auctions (or combination of bo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IOLI or UIO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uctions for part of or full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ice affecting or Constraints payments –Option 1 or Option 2/3 from  SEM C Consul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efinition of Intra Day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MG: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‘Successive intra day allocations of available transmissions capacity for day D shall take place on day D-1 and D, after the issuing of the indicated or actual day ahead production schedules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ra Day re-nominations on D-1 only or on D als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preferable for traders and produces greatest benefits to custom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feasible for operators and generato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nd Variability and forecasting f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iming and Number of Gate Closures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2 gate closures at 14.00 and 18.00 on D-1 proposed in Mo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Moving current gate closure? –Intra Day for IC users only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What are optimal times for IC traders? Trade on D and D-1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Value in later gates closures to traders and for wind forecast accurac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What is feasible from system and market operation point of view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What are implications for SEM generation – e.g. gas purchasing/selling – Initial Operations Schedule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Impact of timing on SO-SO Trades and balanc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omparison with IFA and other IC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icit or Implicit Auctions </a:t>
            </a:r>
            <a:br>
              <a:rPr sz="2900"/>
            </a:b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icit intra day auctions could be done by MSP Software – determine MIUNs and DQ of 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icit would deliver optimal solution and make trading easier and more effici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icit would involve within day auctions on Moyle and EWIC and re-nomination in SEM/re-optimisation of M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icit would better provide revenue link between IC owner and intra day trad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ractual arrangements with the relevant IC owner for IC users of capacity need conside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UIOLI or UIO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IOLI – Option 1 and Option 2 for Intr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IOLI most feasible option – participants not in merit in ex-ante allocation lose capacity rights in intr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would UIOSI work with implicit intra day reallo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Meeting Objectiv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 and agree the 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 the high level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gree a set of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sign 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gree time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ice Affecting or Constraints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ice Affecting would impact on ex post MSQs and SMP in the SEM in +/- dir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ice Affecting would lead to more efficient schedule and pric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onstraints only would be simpler as first step but may not be as attractive to trad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ay not be much difference in terms of system changes? CMS cos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s discrimination an issue as all participants entitled to register an IC unit and make use of within day IC capacit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art of Full Day Auctions</a:t>
            </a:r>
            <a:br>
              <a:rPr sz="2900"/>
            </a:b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urrent model is that trades would affect either the schedule and dispatch or just  dispatch of full trading day 6.00am - 6.00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ption to have intra day affect part day – c.f. IFA, IFE, Britned arrang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alue to traders in part day auc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ystem implications of part day a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igh Level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ion and Conclus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igh Level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ion and Conclus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Terms of Referen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kehol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 &amp;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liverables &amp; Sched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M Regional Integr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sultation Paper – 23 September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sion Paper – 3 March 20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ximise efficient use of interconnector capac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Compliance with existing EU regul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rket rule changes to accommodate East West I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Ensure SEM compatibility with European target models for cross border trad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commendations – Explicit, Day Ahead, Intra Day, Barriers to Trading, SO-SO Trades, EWIC TSC changes, CP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sure that interconnectors in the SEM are used effici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cilitate price arbitrage by IC users after gate clo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ow IC users to respond to changing conditions nearer real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sure IC users can use ATC to its effective max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ement UIOLI and/or UIO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y with the CM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sure system 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sure compatibility with target mode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357200"/>
            <a:ext cx="82296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n scop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re for intra-day trading to affect SMP and market sched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sideration of multiple gate clo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eractions with arrangements for other time fram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eractions with dispatch in general and wind in partic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vantages of alignment with IFA, BritNed and target European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rits of UIOLI vs. UIO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act on SO-SO trading arrang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pacity pay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ope (cont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60" y="1357200"/>
            <a:ext cx="82296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ut of scop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rriers to cross border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rket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-SO tr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anges to SEM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takehol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428760" y="164304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rket participants (IC us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ystem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tual Energy L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rested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R and NIA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w entr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ontent Placeholder 2"/>
          <p:cNvSpPr/>
          <p:nvPr/>
        </p:nvSpPr>
        <p:spPr>
          <a:xfrm>
            <a:off x="428760" y="150012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As to chair Working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G members to propose feasibl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MO to analyse impact on C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MO to develop options, with support of IC users and SOs/Mo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keholders to contribute to the discussion of the options and recommend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8:35:14Z</dcterms:created>
  <dc:creator>pnewsome</dc:creator>
  <dc:description/>
  <dc:language>en-US</dc:language>
  <cp:lastModifiedBy>Aisling O'Donnell</cp:lastModifiedBy>
  <dcterms:modified xsi:type="dcterms:W3CDTF">2010-04-21T16:07:27Z</dcterms:modified>
  <cp:revision>87</cp:revision>
  <dc:subject/>
  <dc:title>Interaction &amp; Data Transactions (interim)</dc:title>
</cp:coreProperties>
</file>