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DF9D-BE49-43E6-8B0A-936B3DE2E83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A974-D53D-4990-8379-401203F25FD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6877-24F5-49CA-A993-63A269C4B56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5714-77DF-4A64-A807-FDBEB254BB1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6085-0869-4D5D-BAAA-B144B0F7206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6D7E-00D4-4F29-863D-1AD2A03E943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E6DB-9A05-4603-8ED7-97EA98FA0EB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B85E-0F9D-444E-A93B-4F32DDD03A7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D816-685B-490F-827F-1F29AC8D27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4DB7-9F99-4B02-BFE9-AFBCA02A77E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896B-2D50-4E2B-BEAD-B48AFDA1E6B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C742-86A3-4ABD-A2E7-88D8BDAA8EA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D984-1F4A-45B1-BBF3-7FB90BBAC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F08A-2DF9-46C0-885C-9BC11365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E014-05F2-4BDB-8C31-57946424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4DAE-946D-4750-8790-D878D394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E141-562D-40F3-A2B6-A0F385AC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D55D-D03F-47F1-BC4A-956A6317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E423-5296-4CFC-9B6B-5EA02148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CBAE-886C-4035-AA99-9CF3F30E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54EF-8892-4D1E-BC17-CCE8EFD4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E489-6B09-4C2C-A188-B4E678F7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FB44-15B9-44BA-AD25-F2258C75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390B-5D05-44FA-8E14-CBDF426D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AF07-A207-40BD-AA07-F47DF7EBE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6" descr="Irishlogo"/>
          <p:cNvPicPr/>
          <p:nvPr/>
        </p:nvPicPr>
        <p:blipFill>
          <a:blip r:embed="rId2"/>
          <a:stretch/>
        </p:blipFill>
        <p:spPr>
          <a:xfrm>
            <a:off x="500040" y="285840"/>
            <a:ext cx="2428920" cy="9968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UtilityRegulator"/>
          <p:cNvPicPr/>
          <p:nvPr/>
        </p:nvPicPr>
        <p:blipFill>
          <a:blip r:embed="rId3"/>
          <a:stretch/>
        </p:blipFill>
        <p:spPr>
          <a:xfrm>
            <a:off x="5715000" y="285840"/>
            <a:ext cx="29052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221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tra Day Trading Working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8592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High level Principles Discussed by W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11 May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High Level Issu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cussion and Conclus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l Questionnaire responses to be circul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G members to consider issues and propose three options for intra day tra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s will combine these to present 3 clear options in advance of the next meeting of the W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SOs and SEMO to then develop and examine costs/benefits of Op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G 3 Meeting – 15 June 20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High Level Issue for W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finition of Intra-Da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iming and number of gate clos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ice affecting or Constraints pay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plicit or Implicit Au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IOLI or UIOS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uctions for part of or full 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Definition of Intra Day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MG: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‘Successive intra day allocations of available transmissions capacity for day D shall take place on day D-1 and D, after the issuing of the indicated or actual day ahead production schedules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s and TSOs  considering compliance issue and definition for next me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ptions  for additional gate closure to be developed on cost benefit ba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Timing and Number of Gate Closures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orking Group view that intra day gate closures and auctions should be develop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ptimal times for IC traders to be balanced with what is feasible from system and market operation point of vi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ll generators rebidding close to real time likely to mean redesign of SEM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minant WG view that intra day IC only trades shouldn’t affect market schedule and SM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ne option to be investigated - Intra Day for IC users only and affecting constraints schedu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ore radical options in terms of timing and participation (e.g. all gens) to be investigated als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SOs and SEMO to investigate Candidate Options on timing of gate closures  based on this – cost/benefits of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rice Affecting or Constraint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Question of whether RCUC or MSP the most suitable means of conducting intra day auction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s investigating further whether RCUC can be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ssue of incentives for IC users to trade without infra marginal rent  to be further consider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Explicit or Implicit Auctions </a:t>
            </a: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licit intra day auctions could be done by MSP Software and/or RCUC – determine MIUNs and DQ of 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licit would deliver optimal solution and make trading easier and more effic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ith implicit auctions - Need to ‘protect’ MIUNs allocated in initial allocation for initial capacity holders– can be done in MSP (and RCUC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UIOLI or UIO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IOLI most feasible option for intra day – participants not in merit in ex-ante allocation lose capacity rights in intra 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IOSI through secondary trading of  capacity before initial gate clos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art or Full Day Auctions</a:t>
            </a: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ption to have intra day affect part day as for intra day on many European 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G view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ne view (Moyle) that part day intra day auctions best o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ystem implications of part day auctions –possible for MSP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eed to investigate for R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Other Issues</a:t>
            </a: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e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irm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tra Day wind forecast notifica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teractions with Day Ahead and balancing (SO-SO) solu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gional (FUI) perspec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pdate on other Regional Integration from RAs at next W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1:49:56Z</dcterms:created>
  <dc:creator>pnewsome</dc:creator>
  <dc:description/>
  <dc:language>en-US</dc:language>
  <cp:lastModifiedBy>Fargher</cp:lastModifiedBy>
  <dcterms:modified xsi:type="dcterms:W3CDTF">2010-05-14T13:47:11Z</dcterms:modified>
  <cp:revision>77</cp:revision>
  <dc:subject/>
  <dc:title>Intra Day Trading Working Group</dc:title>
</cp:coreProperties>
</file>