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20" y="7920"/>
            <a:ext cx="1239840" cy="6094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434960" y="19080"/>
            <a:ext cx="140976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_18_10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Intra Day Trad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orking Group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/05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O com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356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126828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20720" y="1843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61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126828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6160" y="1843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944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2720" y="29955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81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84360" y="2563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27664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3080" y="2276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872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23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23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084640"/>
            <a:ext cx="756108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61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9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81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51577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93080" y="51577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872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23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23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5516640"/>
            <a:ext cx="100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000" y="6093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06880" y="5443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920" y="4076640"/>
            <a:ext cx="8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1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380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66320" y="4076640"/>
            <a:ext cx="106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AS Purc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2144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57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3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1640" y="263700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91560" y="6165720"/>
            <a:ext cx="1107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9480" y="328464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3640" y="35733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2924280"/>
            <a:ext cx="439272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3080" y="35733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92428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58200" y="4076640"/>
            <a:ext cx="799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177012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835200"/>
            <a:ext cx="79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ure 1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20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6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83520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616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944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8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84320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184320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872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23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3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722840"/>
            <a:ext cx="756108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6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944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8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47959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93080" y="47959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872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23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50832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3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5154480"/>
            <a:ext cx="100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08000" y="573084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0688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41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744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5720" y="6308640"/>
            <a:ext cx="622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+ Interconnector (only) gate opened again at 18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83520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ure 2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83520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380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744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256212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003640" y="2130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580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714840"/>
            <a:ext cx="10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D-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GC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924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288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3800" y="50832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62520" y="515448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8160" y="573084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3740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472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81160" y="5489640"/>
            <a:ext cx="799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ssu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2 hours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et 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011640" y="5443560"/>
            <a:ext cx="13683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2720" y="26337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1640" y="227484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9480" y="292248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32115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2562120"/>
            <a:ext cx="1873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32115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256212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484360" y="22014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69640" y="3643200"/>
            <a:ext cx="974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D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GC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67080" y="3716280"/>
            <a:ext cx="974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D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GC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532280" y="189000"/>
            <a:ext cx="10677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240" y="765000"/>
            <a:ext cx="466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00 AM gate 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yle flow fixed from 11.00 D-1 for 06.00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00 Day ahead schedule final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hours to order pl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8520" y="2565360"/>
            <a:ext cx="466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.00 PM gate 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yle flow fixed from 19.00 D-1 for 06.00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.00 Day ahead schedule final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hours to order pl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0680" y="4149720"/>
            <a:ext cx="751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ing / multiple gate clo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De-commitment  - Wind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 efficiency – Constraint cos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independent (within the market) interconnectors - N/S constrain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532280" y="189000"/>
            <a:ext cx="10677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981000"/>
            <a:ext cx="7489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ing / multiple gate clo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exposure to large changes in flow [reduction of GB import to export] with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time scale that does not allow starting of off line plant resulting in a generation / demand shortfall or reduced transmission system secur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possible is this 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the Ex-Ante market schedule optimisation setting the interconnector flow it does not limit this condition –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nores generation start up notification times. (12 hours cold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sync to min gen not modell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 plant may be committed by MS  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MS factors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532280" y="189000"/>
            <a:ext cx="10677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92280"/>
            <a:ext cx="748980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ing / multiple gate clo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exposure to large changes in flow [reduction of GB import to export] with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time scale that does not allow starting of off line plant resulting in a generation / demand shortfall or reduced transmission system security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igation ?   With a market schedule and achievable dispatch schedule getting further ap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 rate of change – ramp rate limit, restrict flow quantity or price change from gate to g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C limit change to secure system. This is required to be able to secure extreme real time situations where multiple plant loss has occur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the Interconnector flow from RCU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 larger reserves and accept increased cos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m SO /SO buy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532280" y="189000"/>
            <a:ext cx="10677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836640"/>
            <a:ext cx="74898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ing / multiple gate clo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- commitment of plant at short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exposure to large changes in flow [reduction of GB export to import] within a time scale that does not allow shutdown of on line plant may result in wind output constrai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atch Efficienc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ility to dispatch plant to match the mar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-Increased constraint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risdictional external interconnectors and jurisdictional flow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 N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traint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8:52:01Z</dcterms:created>
  <dc:creator>mpreston</dc:creator>
  <dc:description/>
  <dc:language>en-US</dc:language>
  <cp:lastModifiedBy>Aisling O'Donnell</cp:lastModifiedBy>
  <dcterms:modified xsi:type="dcterms:W3CDTF">2010-05-10T17:15:09Z</dcterms:modified>
  <cp:revision>18</cp:revision>
  <dc:subject/>
  <dc:title>Slide 1</dc:title>
</cp:coreProperties>
</file>