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1B5F-A95F-44CB-9689-FA9DD3E2A8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71C5-ECE1-4863-9C3B-97FBF5A8D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C7851-29F9-4E69-9C1A-8C6354894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889F-AF59-4ECB-947C-B584C458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638A-612B-4346-980D-45E52492F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6DDFC-F8B1-4777-9030-D1ACE3B1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E35D3-8A8F-4A99-ADC7-A996AE156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17DE4-1C39-4E42-A6B2-068108868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7321B-4670-4D84-AB70-14A56026F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7C035-6FA2-4B99-BAA1-E81F53BCC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CD153-F30C-463D-9567-58911EE69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41EDD-9E9E-46AD-A587-B330CEBAD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DD37-FD57-4A76-8037-378FDB67B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8B71-4B51-4891-A403-C523DBAD4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549A7-1034-441C-A6F6-79F6646C5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EA5C1-81D5-4DD9-8345-DD2CB2382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D5965-6F74-4AB0-8568-2C477AECB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D7357-5BA4-45E2-AD03-1B1EAB34B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D8C42-B85A-4183-8A24-D89CE99D4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1B47-6A01-45D4-98B7-DD2BD5E6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AE44-D3F3-4051-8313-57695AF2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96655-B903-4DD8-BB85-36CAE751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CAF6-E056-447F-A845-405208C5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4E31-FF63-4CEE-9D1A-AFD4BE639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DDB3-8983-4D85-A483-DE732E03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FA2B-3533-4E28-B27E-20024F773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582E-7A45-430F-8FEF-E50CC6FBDF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ishlogo"/>
          <p:cNvPicPr/>
          <p:nvPr/>
        </p:nvPicPr>
        <p:blipFill>
          <a:blip r:embed="rId2"/>
          <a:stretch/>
        </p:blipFill>
        <p:spPr>
          <a:xfrm>
            <a:off x="500040" y="285840"/>
            <a:ext cx="2000160" cy="820800"/>
          </a:xfrm>
          <a:prstGeom prst="rect">
            <a:avLst/>
          </a:prstGeom>
          <a:ln w="0">
            <a:noFill/>
          </a:ln>
        </p:spPr>
      </p:pic>
      <p:pic>
        <p:nvPicPr>
          <p:cNvPr id="42" name="Picture 2" descr="UtilityRegulator"/>
          <p:cNvPicPr/>
          <p:nvPr/>
        </p:nvPicPr>
        <p:blipFill>
          <a:blip r:embed="rId3"/>
          <a:stretch/>
        </p:blipFill>
        <p:spPr>
          <a:xfrm>
            <a:off x="6072120" y="357120"/>
            <a:ext cx="2548080" cy="627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AA32-8586-491D-A726-12147E21A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a Day Trading Working Group</a:t>
            </a:r>
            <a:endParaRPr b="0" lang="en-US" sz="4400" spc="-1" strike="noStrike">
              <a:solidFill>
                <a:srgbClr val="000000"/>
              </a:solidFill>
              <a:latin typeface="Calibri"/>
            </a:endParaRPr>
          </a:p>
        </p:txBody>
      </p:sp>
      <p:sp>
        <p:nvSpPr>
          <p:cNvPr id="92" name="PlaceHolder 2"/>
          <p:cNvSpPr>
            <a:spLocks noGrp="1"/>
          </p:cNvSpPr>
          <p:nvPr>
            <p:ph type="subTitle"/>
          </p:nvPr>
        </p:nvSpPr>
        <p:spPr>
          <a:xfrm>
            <a:off x="1285920" y="3857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Questionnaire Resul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1 May 2010</a:t>
            </a:r>
            <a:endParaRPr b="0" lang="en-US" sz="3200" spc="-1" strike="noStrike">
              <a:solidFill>
                <a:srgbClr val="000000"/>
              </a:solidFill>
              <a:latin typeface="Calibri"/>
            </a:endParaRPr>
          </a:p>
        </p:txBody>
      </p:sp>
      <p:pic>
        <p:nvPicPr>
          <p:cNvPr id="93" name="Picture 3" descr="Irishlogo"/>
          <p:cNvPicPr/>
          <p:nvPr/>
        </p:nvPicPr>
        <p:blipFill>
          <a:blip r:embed="rId1"/>
          <a:stretch/>
        </p:blipFill>
        <p:spPr>
          <a:xfrm>
            <a:off x="500040" y="285840"/>
            <a:ext cx="2428920" cy="996840"/>
          </a:xfrm>
          <a:prstGeom prst="rect">
            <a:avLst/>
          </a:prstGeom>
          <a:ln w="0">
            <a:noFill/>
          </a:ln>
        </p:spPr>
      </p:pic>
      <p:pic>
        <p:nvPicPr>
          <p:cNvPr id="94" name="Picture 2" descr="UtilityRegulator"/>
          <p:cNvPicPr/>
          <p:nvPr/>
        </p:nvPicPr>
        <p:blipFill>
          <a:blip r:embed="rId2"/>
          <a:stretch/>
        </p:blipFill>
        <p:spPr>
          <a:xfrm>
            <a:off x="5643720" y="500040"/>
            <a:ext cx="290484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2" name=""/>
          <p:cNvSpPr txBox="1"/>
          <p:nvPr/>
        </p:nvSpPr>
        <p:spPr>
          <a:xfrm>
            <a:off x="428760" y="1643040"/>
            <a:ext cx="8229600" cy="4525920"/>
          </a:xfrm>
          <a:prstGeom prst="rect">
            <a:avLst/>
          </a:prstGeom>
          <a:noFill/>
          <a:ln w="0">
            <a:noFill/>
          </a:ln>
        </p:spPr>
        <p:txBody>
          <a:bodyPr anchor="t">
            <a:normAutofit/>
          </a:bodyPr>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8</a:t>
            </a:r>
            <a:r>
              <a:rPr b="0" i="1" lang="en-GB" sz="2400" spc="-1" strike="noStrike">
                <a:solidFill>
                  <a:srgbClr val="000000"/>
                </a:solidFill>
                <a:latin typeface="Calibri"/>
              </a:rPr>
              <a:t>	</a:t>
            </a:r>
            <a:r>
              <a:rPr b="0" i="1" lang="en-GB" sz="2400" spc="-1" strike="noStrike">
                <a:solidFill>
                  <a:srgbClr val="000000"/>
                </a:solidFill>
                <a:latin typeface="Calibri"/>
              </a:rPr>
              <a:t>Should intra-day trades affect SMP and market schedule</a:t>
            </a:r>
            <a:r>
              <a:rPr b="0" i="1" lang="en-US" sz="2400" spc="-1" strike="noStrike">
                <a:solidFill>
                  <a:srgbClr val="000000"/>
                </a:solidFill>
                <a:latin typeface="Calibri"/>
              </a:rPr>
              <a:t>?</a:t>
            </a:r>
            <a:endParaRPr b="0" lang="en-US" sz="2400" spc="-1" strike="noStrike">
              <a:solidFill>
                <a:srgbClr val="000000"/>
              </a:solidFill>
              <a:latin typeface="Calibri"/>
            </a:endParaRPr>
          </a:p>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ing intraday trades to affect SMP and market schedule would promote gaming (BGE)</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must apply to all generators and traders in the SEM to avoid discrimination (BGE,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for all participants should affect SMP and market schedule; if only for IC users, then not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incentive to trade if pay as bid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should not be allowed to affect SMP or MSQs, but efficient trading would require all bids to be updated (PPB)</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4" name=""/>
          <p:cNvSpPr txBox="1"/>
          <p:nvPr/>
        </p:nvSpPr>
        <p:spPr>
          <a:xfrm>
            <a:off x="428760" y="1643040"/>
            <a:ext cx="8229600" cy="4857840"/>
          </a:xfrm>
          <a:prstGeom prst="rect">
            <a:avLst/>
          </a:prstGeom>
          <a:noFill/>
          <a:ln w="0">
            <a:noFill/>
          </a:ln>
        </p:spPr>
        <p:txBody>
          <a:bodyPr anchor="t">
            <a:normAutofit/>
          </a:bodyPr>
          <a:p>
            <a:pPr marL="722160" indent="-72216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8</a:t>
            </a:r>
            <a:r>
              <a:rPr b="0" i="1" lang="en-GB" sz="2200" spc="-1" strike="noStrike">
                <a:solidFill>
                  <a:srgbClr val="000000"/>
                </a:solidFill>
                <a:latin typeface="Calibri"/>
              </a:rPr>
              <a:t>	</a:t>
            </a:r>
            <a:r>
              <a:rPr b="0" i="1" lang="en-GB" sz="2200" spc="-1" strike="noStrike">
                <a:solidFill>
                  <a:srgbClr val="000000"/>
                </a:solidFill>
                <a:latin typeface="Calibri"/>
              </a:rPr>
              <a:t>Continued</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ter gate closure could have punitive effect on marginal gas generator because of inability to predict running/gas requirements  (Premier Power)</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ll participants should be allowed to participate and SMP/MSQs should be affected (SS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uplift if pay as bid (Tynagh)</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ntra-day trading affected scheduling and SMP then it would need to be open to all SEM generators (VPE) </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rading on the IC post gate closure via the constraint mechanism would not maximise IC usage (VP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suming the IC is not covered by BCoP, IC users could bid such that the offered price covered GB costs plus margin.  With sufficient competition this should result in a competitive constraint market on the IC and reduce overall constraint costs (VP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Issues</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ition of intra-day: D-1 and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ing and number of gate clos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t day optimization of day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participants or only IC users allowed to rebi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MP/market schedule affected by rebidding/only the constraints mark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icit or implicit auctions intra-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IOLI/UIO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1 </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What are the best times for trading gas?</a:t>
            </a: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nswers:</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in liquid trading window in GB is 08.00 to 16.30 (BG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reduces after 16.00 for day ahead and after 17.00 for within day (ESBI)</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8.00 to 12.00 and 14.00 to 16.00 (PPB)</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fore 16.00 (Premier Power)</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til 1730 D-1 with brokers and until 03.35 within day on APX.   APX has adequate liquidity out of hours (SS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ak times to trade are 08.30-09.30 and 16.00-16.30 (Tynagh) </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in the day ahead gas market greatest between 16.00 and 16:30 (VP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8" name=""/>
          <p:cNvSpPr txBox="1"/>
          <p:nvPr/>
        </p:nvSpPr>
        <p:spPr>
          <a:xfrm>
            <a:off x="428760" y="1643040"/>
            <a:ext cx="8229600" cy="4525920"/>
          </a:xfrm>
          <a:prstGeom prst="rect">
            <a:avLst/>
          </a:prstGeom>
          <a:noFill/>
          <a:ln w="0">
            <a:noFill/>
          </a:ln>
        </p:spPr>
        <p:txBody>
          <a:bodyPr anchor="t">
            <a:normAutofit/>
          </a:bodyPr>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2</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Deadlines for gas nominations in GB and Ireland/Northern Ireland?  What are the penalties for being out of balance?</a:t>
            </a:r>
            <a:endParaRPr b="0" lang="en-US" sz="2200" spc="-1" strike="noStrike">
              <a:solidFill>
                <a:srgbClr val="000000"/>
              </a:solidFill>
              <a:latin typeface="Calibri"/>
            </a:endParaRPr>
          </a:p>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3.45 for nominations using PTL for the SNIP pipeline (only in N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1.45 on GTMS in Ro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4.00 in GB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4.00 for practical purposes (Premier Power)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B gas market closed for nominations between 04.00 and 06.00 (SSE)</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nalties based on SMP Buy and Sell prices in GB and on SAP in RoI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0" name=""/>
          <p:cNvSpPr txBox="1"/>
          <p:nvPr/>
        </p:nvSpPr>
        <p:spPr>
          <a:xfrm>
            <a:off x="42876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3 </a:t>
            </a:r>
            <a:r>
              <a:rPr b="1" lang="en-GB" sz="2400" spc="-1" strike="noStrike">
                <a:solidFill>
                  <a:srgbClr val="000000"/>
                </a:solidFill>
                <a:latin typeface="Calibri"/>
              </a:rPr>
              <a:t>	</a:t>
            </a:r>
            <a:r>
              <a:rPr b="0" i="1" lang="en-GB" sz="2400" spc="-1" strike="noStrike">
                <a:solidFill>
                  <a:srgbClr val="000000"/>
                </a:solidFill>
                <a:latin typeface="Calibri"/>
              </a:rPr>
              <a:t>Trading energy in GB?</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ss to transparent prices is limited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can quickly disappear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for day ahead products dries up at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in day products actively traded from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drops off after 11.00 D-1. However there is adequate liquidity on APX for Moyle trading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2"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Later gate closur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later than 2pm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within day (D) gate closures aligned with EFA block timings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s generators need indicative schedules by 13.00 to allow gas to be purchased in afternoon window, so moving gate closure detrimental for marginal gas generators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within day gate closure would enable rescheduling for triads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advantage in simply moving gate closur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4" name=""/>
          <p:cNvSpPr txBox="1"/>
          <p:nvPr/>
        </p:nvSpPr>
        <p:spPr>
          <a:xfrm>
            <a:off x="428760" y="1285560"/>
            <a:ext cx="8229600" cy="4786200"/>
          </a:xfrm>
          <a:prstGeom prst="rect">
            <a:avLst/>
          </a:prstGeom>
          <a:noFill/>
          <a:ln w="0">
            <a:noFill/>
          </a:ln>
        </p:spPr>
        <p:txBody>
          <a:bodyPr anchor="t">
            <a:normAutofit/>
          </a:bodyPr>
          <a:p>
            <a:pPr marL="343080" indent="-343080" algn="just">
              <a:lnSpc>
                <a:spcPct val="8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Continued</a:t>
            </a:r>
            <a:endParaRPr b="0" lang="en-US" sz="2400" spc="-1" strike="noStrike">
              <a:solidFill>
                <a:srgbClr val="000000"/>
              </a:solidFill>
              <a:latin typeface="Calibri"/>
            </a:endParaRPr>
          </a:p>
          <a:p>
            <a:pPr marL="343080" indent="-343080" algn="just">
              <a:lnSpc>
                <a:spcPct val="80000"/>
              </a:lnSpc>
              <a:spcBef>
                <a:spcPts val="425"/>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te closure after 16.00 would cause problems for gas-fired generators and have an impact on current contractual arrangements (Tynag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M gate closures between 10:00 and 17:00 would be of limited benefit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e at 17:00 D-1 would allow generators to reflect the Heren day ahead closing price in their offers but would not be a significant benefit to interconnector trading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ur on D would allow generators to better manage their gas positions but it would have significant system and staff resourcing issues for all SEM participants (including TSO and SEMO) and would require significant redesign of the market (VPE)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line with GB gate closures on D would provide significant benefit to interconnector trading but would have significant resource issues for all participants and would require significant redesign of the market (VP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6"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5</a:t>
            </a:r>
            <a:r>
              <a:rPr b="0" i="1" lang="en-GB" sz="2400" spc="-1" strike="noStrike">
                <a:solidFill>
                  <a:srgbClr val="000000"/>
                </a:solidFill>
                <a:latin typeface="Calibri"/>
              </a:rPr>
              <a:t>	</a:t>
            </a:r>
            <a:r>
              <a:rPr b="0" i="1" lang="en-GB" sz="2400" spc="-1" strike="noStrike">
                <a:solidFill>
                  <a:srgbClr val="000000"/>
                </a:solidFill>
                <a:latin typeface="Calibri"/>
              </a:rPr>
              <a:t>More than one intra-day gate closure for IC user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exclusivity for IC users (BGE,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test at 2pm on D-1 for all participants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licit auctions could be applied at initial gate closure (Mutual Energy)</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C users could offer price to SOs at 15.00 D-1 and at 10.00 D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least one more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gate closures a day, four hours ahead of real tim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8" name=""/>
          <p:cNvSpPr txBox="1"/>
          <p:nvPr/>
        </p:nvSpPr>
        <p:spPr>
          <a:xfrm>
            <a:off x="428760" y="164304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6</a:t>
            </a:r>
            <a:r>
              <a:rPr b="0" i="1" lang="en-GB" sz="2200" spc="-1" strike="noStrike">
                <a:solidFill>
                  <a:srgbClr val="000000"/>
                </a:solidFill>
                <a:latin typeface="Calibri"/>
              </a:rPr>
              <a:t>	</a:t>
            </a:r>
            <a:r>
              <a:rPr b="0" i="1" lang="en-GB" sz="2200" spc="-1" strike="noStrike">
                <a:solidFill>
                  <a:srgbClr val="000000"/>
                </a:solidFill>
                <a:latin typeface="Calibri"/>
              </a:rPr>
              <a:t>Benefits of trading</a:t>
            </a:r>
            <a:r>
              <a:rPr b="0" i="1" lang="en-US" sz="2200" spc="-1" strike="noStrike">
                <a:solidFill>
                  <a:srgbClr val="000000"/>
                </a:solidFill>
                <a:latin typeface="Calibri"/>
              </a:rPr>
              <a:t> on IC on day D?  Part day trading?</a:t>
            </a:r>
            <a:endParaRPr b="0" lang="en-US" sz="2200" spc="-1" strike="noStrike">
              <a:solidFill>
                <a:srgbClr val="000000"/>
              </a:solidFill>
              <a:latin typeface="Calibri"/>
            </a:endParaRPr>
          </a:p>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benefits of trading beyond 2pm on D-1 (BG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ffering gate closures in BETTA and SEM discriminate against SEM participants – any narrowing would be beneficial (ESBI)</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C user bids in the constrained schedule would be sufficient to meet requirements (Mutual Energ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day trading for all participants within day would be cost-reflective (PPB)</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in day trading would be beneficial given time-varying costs (Synerge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ultiple within day gate closures allowing traders to access the liquidity on the APX half hourly products would benefit trading (VP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0" name=""/>
          <p:cNvSpPr txBox="1"/>
          <p:nvPr/>
        </p:nvSpPr>
        <p:spPr>
          <a:xfrm>
            <a:off x="50004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7</a:t>
            </a:r>
            <a:r>
              <a:rPr b="0" i="1" lang="en-GB" sz="2400" spc="-1" strike="noStrike">
                <a:solidFill>
                  <a:srgbClr val="000000"/>
                </a:solidFill>
                <a:latin typeface="Calibri"/>
              </a:rPr>
              <a:t>	</a:t>
            </a:r>
            <a:r>
              <a:rPr b="0" i="1" lang="en-GB" sz="2400" spc="-1" strike="noStrike">
                <a:solidFill>
                  <a:srgbClr val="000000"/>
                </a:solidFill>
                <a:latin typeface="Calibri"/>
              </a:rPr>
              <a:t>Would you trade intra-day on the ICs?  Would you have overnight resource issu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ven liquidity problems, no benefit of gate closure later than 2pm D-1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overnight resource problem (BGE,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jor resource issues (PPB)</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SE would trade and have no resource problems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significant cost issues (Syner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resource problems (Tynag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8:35:14Z</dcterms:created>
  <dc:creator>pnewsome</dc:creator>
  <dc:description/>
  <dc:language>en-US</dc:language>
  <cp:lastModifiedBy>odonnell_a</cp:lastModifiedBy>
  <dcterms:modified xsi:type="dcterms:W3CDTF">2010-05-12T09:10:46Z</dcterms:modified>
  <cp:revision>158</cp:revision>
  <dc:subject/>
  <dc:title>Interaction &amp; Data Transactions (interim)</dc:title>
</cp:coreProperties>
</file>