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94536-4621-4E03-A927-0DDBDDF00E36}" type="slidenum">
              <a:rPr b="0" lang="en-I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Calibri"/>
              </a:rPr>
              <a:t>Need 12am MITS timeline to be maintained for National Grid dat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8762A-1875-458B-BA3B-DBFF600DD9FD}" type="slidenum">
              <a:rPr b="0" lang="en-I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000000"/>
                </a:solidFill>
                <a:latin typeface="Calibri"/>
              </a:rPr>
              <a:t>Need 12am MITS timeline to be maintained for National Grid dat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36CCA-2586-4E57-9B81-5A07FAAAA8C5}" type="slidenum">
              <a:rPr b="0" lang="en-I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Calibri"/>
              </a:rPr>
              <a:t>Need 12am MITS timeline to be maintained for National Grid dat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368FC-25BD-44D1-8DB7-E856B9430D57}" type="slidenum">
              <a:rPr b="0" lang="en-I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Calibri"/>
              </a:rPr>
              <a:t>Taking care of part of the security side of 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3944D-C468-4B0B-B5D7-04EF6529BA11}" type="slidenum">
              <a:rPr b="0" lang="en-I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C8CED-447A-45F0-97F3-3AC6D048CB2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9" descr="sonilogo"/>
          <p:cNvPicPr/>
          <p:nvPr/>
        </p:nvPicPr>
        <p:blipFill>
          <a:blip r:embed="rId2"/>
          <a:stretch/>
        </p:blipFill>
        <p:spPr>
          <a:xfrm>
            <a:off x="7920" y="7920"/>
            <a:ext cx="1239840" cy="60948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EirGrid_Logo_LORES"/>
          <p:cNvPicPr/>
          <p:nvPr/>
        </p:nvPicPr>
        <p:blipFill>
          <a:blip r:embed="rId3"/>
          <a:stretch/>
        </p:blipFill>
        <p:spPr>
          <a:xfrm>
            <a:off x="1434960" y="19080"/>
            <a:ext cx="1409760" cy="554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od_18_10</a:t>
            </a:r>
            <a:r>
              <a:rPr b="1" i="1" lang="en-GB" sz="3200" spc="-1" strike="noStrike">
                <a:solidFill>
                  <a:srgbClr val="000000"/>
                </a:solidFill>
                <a:latin typeface="Arial"/>
              </a:rPr>
              <a:t> Intra Day Trading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Working Group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nimum Compliance Op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Tight timelines for systems deliv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A number of project dependencies on the outcome of intra-day trading m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Need to proceed with option(s) after this mee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At the very least, a minimum compliance option needs to be progres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19"/>
          <p:cNvSpPr/>
          <p:nvPr/>
        </p:nvSpPr>
        <p:spPr>
          <a:xfrm>
            <a:off x="684360" y="2203560"/>
            <a:ext cx="7561080" cy="28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5"/>
          <p:cNvSpPr/>
          <p:nvPr/>
        </p:nvSpPr>
        <p:spPr>
          <a:xfrm>
            <a:off x="1332000" y="1268280"/>
            <a:ext cx="647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G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losur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6"/>
          <p:cNvSpPr/>
          <p:nvPr/>
        </p:nvSpPr>
        <p:spPr>
          <a:xfrm>
            <a:off x="1620720" y="18432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7"/>
          <p:cNvSpPr/>
          <p:nvPr/>
        </p:nvSpPr>
        <p:spPr>
          <a:xfrm>
            <a:off x="1406160" y="2276640"/>
            <a:ext cx="4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10: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8"/>
          <p:cNvSpPr/>
          <p:nvPr/>
        </p:nvSpPr>
        <p:spPr>
          <a:xfrm>
            <a:off x="1979640" y="1268280"/>
            <a:ext cx="10080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IUN t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MI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9"/>
          <p:cNvSpPr/>
          <p:nvPr/>
        </p:nvSpPr>
        <p:spPr>
          <a:xfrm>
            <a:off x="2486160" y="18432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0"/>
          <p:cNvSpPr/>
          <p:nvPr/>
        </p:nvSpPr>
        <p:spPr>
          <a:xfrm>
            <a:off x="2269440" y="2276640"/>
            <a:ext cx="4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11: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5"/>
          <p:cNvSpPr/>
          <p:nvPr/>
        </p:nvSpPr>
        <p:spPr>
          <a:xfrm>
            <a:off x="2052720" y="2995560"/>
            <a:ext cx="10080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MI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MIUN t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EM &amp; S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20"/>
          <p:cNvSpPr/>
          <p:nvPr/>
        </p:nvSpPr>
        <p:spPr>
          <a:xfrm>
            <a:off x="6878160" y="2276640"/>
            <a:ext cx="4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06: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23"/>
          <p:cNvSpPr/>
          <p:nvPr/>
        </p:nvSpPr>
        <p:spPr>
          <a:xfrm flipV="1">
            <a:off x="2484360" y="25635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25"/>
          <p:cNvSpPr/>
          <p:nvPr/>
        </p:nvSpPr>
        <p:spPr>
          <a:xfrm>
            <a:off x="755640" y="2276640"/>
            <a:ext cx="633744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26"/>
          <p:cNvSpPr/>
          <p:nvPr/>
        </p:nvSpPr>
        <p:spPr>
          <a:xfrm>
            <a:off x="7093080" y="2276640"/>
            <a:ext cx="107928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27"/>
          <p:cNvSpPr/>
          <p:nvPr/>
        </p:nvSpPr>
        <p:spPr>
          <a:xfrm>
            <a:off x="2988720" y="2276640"/>
            <a:ext cx="4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12: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28"/>
          <p:cNvSpPr/>
          <p:nvPr/>
        </p:nvSpPr>
        <p:spPr>
          <a:xfrm>
            <a:off x="3852360" y="2276640"/>
            <a:ext cx="4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16: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32"/>
          <p:cNvSpPr/>
          <p:nvPr/>
        </p:nvSpPr>
        <p:spPr>
          <a:xfrm>
            <a:off x="612360" y="2276640"/>
            <a:ext cx="4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06: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43"/>
          <p:cNvSpPr/>
          <p:nvPr/>
        </p:nvSpPr>
        <p:spPr>
          <a:xfrm>
            <a:off x="684360" y="5084640"/>
            <a:ext cx="7561080" cy="289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44"/>
          <p:cNvSpPr/>
          <p:nvPr/>
        </p:nvSpPr>
        <p:spPr>
          <a:xfrm>
            <a:off x="1406160" y="5157720"/>
            <a:ext cx="4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10: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45"/>
          <p:cNvSpPr/>
          <p:nvPr/>
        </p:nvSpPr>
        <p:spPr>
          <a:xfrm>
            <a:off x="2269440" y="5157720"/>
            <a:ext cx="4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11: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46"/>
          <p:cNvSpPr/>
          <p:nvPr/>
        </p:nvSpPr>
        <p:spPr>
          <a:xfrm>
            <a:off x="6878160" y="5157720"/>
            <a:ext cx="4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06: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47"/>
          <p:cNvSpPr/>
          <p:nvPr/>
        </p:nvSpPr>
        <p:spPr>
          <a:xfrm>
            <a:off x="755640" y="5157720"/>
            <a:ext cx="633744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48"/>
          <p:cNvSpPr/>
          <p:nvPr/>
        </p:nvSpPr>
        <p:spPr>
          <a:xfrm>
            <a:off x="7093080" y="5157720"/>
            <a:ext cx="107928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49"/>
          <p:cNvSpPr/>
          <p:nvPr/>
        </p:nvSpPr>
        <p:spPr>
          <a:xfrm>
            <a:off x="2988720" y="5157720"/>
            <a:ext cx="4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12: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50"/>
          <p:cNvSpPr/>
          <p:nvPr/>
        </p:nvSpPr>
        <p:spPr>
          <a:xfrm>
            <a:off x="3852360" y="5157720"/>
            <a:ext cx="4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16: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51"/>
          <p:cNvSpPr/>
          <p:nvPr/>
        </p:nvSpPr>
        <p:spPr>
          <a:xfrm>
            <a:off x="3203640" y="544500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52"/>
          <p:cNvSpPr/>
          <p:nvPr/>
        </p:nvSpPr>
        <p:spPr>
          <a:xfrm>
            <a:off x="612360" y="5157720"/>
            <a:ext cx="4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06: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53"/>
          <p:cNvSpPr/>
          <p:nvPr/>
        </p:nvSpPr>
        <p:spPr>
          <a:xfrm>
            <a:off x="3132000" y="5516640"/>
            <a:ext cx="10083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Day Ahe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RCU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ru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54"/>
          <p:cNvSpPr/>
          <p:nvPr/>
        </p:nvSpPr>
        <p:spPr>
          <a:xfrm>
            <a:off x="3708000" y="6093000"/>
            <a:ext cx="805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Day Ahe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RCU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published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55"/>
          <p:cNvSpPr/>
          <p:nvPr/>
        </p:nvSpPr>
        <p:spPr>
          <a:xfrm flipV="1">
            <a:off x="4106880" y="54432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59"/>
          <p:cNvSpPr/>
          <p:nvPr/>
        </p:nvSpPr>
        <p:spPr>
          <a:xfrm>
            <a:off x="1692360" y="4797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61"/>
          <p:cNvSpPr/>
          <p:nvPr/>
        </p:nvSpPr>
        <p:spPr>
          <a:xfrm>
            <a:off x="5947920" y="4076640"/>
            <a:ext cx="8053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ithin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RCUC ru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(UPDAT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D-1 data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62"/>
          <p:cNvSpPr/>
          <p:nvPr/>
        </p:nvSpPr>
        <p:spPr>
          <a:xfrm>
            <a:off x="6373800" y="4797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63"/>
          <p:cNvSpPr/>
          <p:nvPr/>
        </p:nvSpPr>
        <p:spPr>
          <a:xfrm>
            <a:off x="4666320" y="4076640"/>
            <a:ext cx="10602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ithin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RCUC ru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(GAS Purch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D-2 data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64"/>
          <p:cNvSpPr/>
          <p:nvPr/>
        </p:nvSpPr>
        <p:spPr>
          <a:xfrm>
            <a:off x="5221440" y="4797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65"/>
          <p:cNvSpPr/>
          <p:nvPr/>
        </p:nvSpPr>
        <p:spPr>
          <a:xfrm>
            <a:off x="6157440" y="5157720"/>
            <a:ext cx="4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04:3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66"/>
          <p:cNvSpPr/>
          <p:nvPr/>
        </p:nvSpPr>
        <p:spPr>
          <a:xfrm>
            <a:off x="4933440" y="5157720"/>
            <a:ext cx="4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21: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67"/>
          <p:cNvSpPr/>
          <p:nvPr/>
        </p:nvSpPr>
        <p:spPr>
          <a:xfrm>
            <a:off x="7091640" y="2637000"/>
            <a:ext cx="1557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yle transfer fix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70"/>
          <p:cNvSpPr/>
          <p:nvPr/>
        </p:nvSpPr>
        <p:spPr>
          <a:xfrm>
            <a:off x="7891560" y="6165720"/>
            <a:ext cx="11073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xisting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71"/>
          <p:cNvSpPr/>
          <p:nvPr/>
        </p:nvSpPr>
        <p:spPr>
          <a:xfrm>
            <a:off x="7089480" y="3284640"/>
            <a:ext cx="179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eration prices fix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72"/>
          <p:cNvSpPr/>
          <p:nvPr/>
        </p:nvSpPr>
        <p:spPr>
          <a:xfrm>
            <a:off x="1763640" y="3573360"/>
            <a:ext cx="5329440" cy="0"/>
          </a:xfrm>
          <a:prstGeom prst="line">
            <a:avLst/>
          </a:prstGeom>
          <a:ln w="19080">
            <a:solidFill>
              <a:srgbClr val="3399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73"/>
          <p:cNvSpPr/>
          <p:nvPr/>
        </p:nvSpPr>
        <p:spPr>
          <a:xfrm>
            <a:off x="2700360" y="2924280"/>
            <a:ext cx="4392720" cy="0"/>
          </a:xfrm>
          <a:prstGeom prst="line">
            <a:avLst/>
          </a:prstGeom>
          <a:ln w="19080">
            <a:solidFill>
              <a:srgbClr val="3399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75"/>
          <p:cNvSpPr/>
          <p:nvPr/>
        </p:nvSpPr>
        <p:spPr>
          <a:xfrm>
            <a:off x="186120" y="6237360"/>
            <a:ext cx="100512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77"/>
          <p:cNvSpPr/>
          <p:nvPr/>
        </p:nvSpPr>
        <p:spPr>
          <a:xfrm>
            <a:off x="7093080" y="3573360"/>
            <a:ext cx="1222200" cy="0"/>
          </a:xfrm>
          <a:prstGeom prst="line">
            <a:avLst/>
          </a:prstGeom>
          <a:ln w="28440">
            <a:solidFill>
              <a:srgbClr val="3399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78"/>
          <p:cNvSpPr/>
          <p:nvPr/>
        </p:nvSpPr>
        <p:spPr>
          <a:xfrm>
            <a:off x="7093080" y="2924280"/>
            <a:ext cx="1150920" cy="0"/>
          </a:xfrm>
          <a:prstGeom prst="line">
            <a:avLst/>
          </a:prstGeom>
          <a:ln w="28440">
            <a:solidFill>
              <a:srgbClr val="3399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81"/>
          <p:cNvSpPr/>
          <p:nvPr/>
        </p:nvSpPr>
        <p:spPr>
          <a:xfrm>
            <a:off x="755640" y="765000"/>
            <a:ext cx="6337440" cy="0"/>
          </a:xfrm>
          <a:prstGeom prst="line">
            <a:avLst/>
          </a:prstGeom>
          <a:ln w="28440">
            <a:solidFill>
              <a:srgbClr val="3333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82"/>
          <p:cNvSpPr/>
          <p:nvPr/>
        </p:nvSpPr>
        <p:spPr>
          <a:xfrm>
            <a:off x="7093080" y="765000"/>
            <a:ext cx="1079280" cy="0"/>
          </a:xfrm>
          <a:prstGeom prst="line">
            <a:avLst/>
          </a:prstGeom>
          <a:ln w="28440">
            <a:solidFill>
              <a:srgbClr val="3333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83"/>
          <p:cNvSpPr/>
          <p:nvPr/>
        </p:nvSpPr>
        <p:spPr>
          <a:xfrm>
            <a:off x="3494520" y="260280"/>
            <a:ext cx="5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D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84"/>
          <p:cNvSpPr/>
          <p:nvPr/>
        </p:nvSpPr>
        <p:spPr>
          <a:xfrm>
            <a:off x="7382160" y="2602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85"/>
          <p:cNvSpPr/>
          <p:nvPr/>
        </p:nvSpPr>
        <p:spPr>
          <a:xfrm>
            <a:off x="1258200" y="4076640"/>
            <a:ext cx="7995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ithin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RCUC ru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(UPD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D-2 data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49"/>
          <p:cNvSpPr/>
          <p:nvPr/>
        </p:nvSpPr>
        <p:spPr>
          <a:xfrm>
            <a:off x="4500720" y="142920"/>
            <a:ext cx="221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</a:rPr>
              <a:t>Current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2"/>
          <p:cNvSpPr/>
          <p:nvPr/>
        </p:nvSpPr>
        <p:spPr>
          <a:xfrm>
            <a:off x="684360" y="1770120"/>
            <a:ext cx="7561080" cy="28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1258920" y="835200"/>
            <a:ext cx="792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G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losure 1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620720" y="14097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5"/>
          <p:cNvSpPr/>
          <p:nvPr/>
        </p:nvSpPr>
        <p:spPr>
          <a:xfrm>
            <a:off x="1406160" y="1843200"/>
            <a:ext cx="4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10: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6"/>
          <p:cNvSpPr/>
          <p:nvPr/>
        </p:nvSpPr>
        <p:spPr>
          <a:xfrm>
            <a:off x="1714680" y="835200"/>
            <a:ext cx="10080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IUN t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MI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7"/>
          <p:cNvSpPr/>
          <p:nvPr/>
        </p:nvSpPr>
        <p:spPr>
          <a:xfrm>
            <a:off x="2220840" y="14097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2001240" y="1843200"/>
            <a:ext cx="4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11: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0"/>
          <p:cNvSpPr/>
          <p:nvPr/>
        </p:nvSpPr>
        <p:spPr>
          <a:xfrm>
            <a:off x="6878160" y="1843200"/>
            <a:ext cx="4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06: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2"/>
          <p:cNvSpPr/>
          <p:nvPr/>
        </p:nvSpPr>
        <p:spPr>
          <a:xfrm>
            <a:off x="755640" y="1843200"/>
            <a:ext cx="633744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13"/>
          <p:cNvSpPr/>
          <p:nvPr/>
        </p:nvSpPr>
        <p:spPr>
          <a:xfrm>
            <a:off x="7093080" y="1843200"/>
            <a:ext cx="107928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4"/>
          <p:cNvSpPr/>
          <p:nvPr/>
        </p:nvSpPr>
        <p:spPr>
          <a:xfrm>
            <a:off x="2788560" y="1857240"/>
            <a:ext cx="4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12: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5"/>
          <p:cNvSpPr/>
          <p:nvPr/>
        </p:nvSpPr>
        <p:spPr>
          <a:xfrm>
            <a:off x="4215960" y="1843200"/>
            <a:ext cx="4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15: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6"/>
          <p:cNvSpPr/>
          <p:nvPr/>
        </p:nvSpPr>
        <p:spPr>
          <a:xfrm>
            <a:off x="612360" y="1843200"/>
            <a:ext cx="4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06: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7"/>
          <p:cNvSpPr/>
          <p:nvPr/>
        </p:nvSpPr>
        <p:spPr>
          <a:xfrm>
            <a:off x="684360" y="4722840"/>
            <a:ext cx="7561080" cy="288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8"/>
          <p:cNvSpPr/>
          <p:nvPr/>
        </p:nvSpPr>
        <p:spPr>
          <a:xfrm>
            <a:off x="1406160" y="4795920"/>
            <a:ext cx="4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10: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9"/>
          <p:cNvSpPr/>
          <p:nvPr/>
        </p:nvSpPr>
        <p:spPr>
          <a:xfrm>
            <a:off x="2269440" y="4795920"/>
            <a:ext cx="4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11: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20"/>
          <p:cNvSpPr/>
          <p:nvPr/>
        </p:nvSpPr>
        <p:spPr>
          <a:xfrm>
            <a:off x="6878160" y="4795920"/>
            <a:ext cx="4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06: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21"/>
          <p:cNvSpPr/>
          <p:nvPr/>
        </p:nvSpPr>
        <p:spPr>
          <a:xfrm>
            <a:off x="755640" y="4795920"/>
            <a:ext cx="633744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22"/>
          <p:cNvSpPr/>
          <p:nvPr/>
        </p:nvSpPr>
        <p:spPr>
          <a:xfrm>
            <a:off x="7093080" y="4795920"/>
            <a:ext cx="107928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23"/>
          <p:cNvSpPr/>
          <p:nvPr/>
        </p:nvSpPr>
        <p:spPr>
          <a:xfrm>
            <a:off x="3146040" y="4786200"/>
            <a:ext cx="4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12: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4"/>
          <p:cNvSpPr/>
          <p:nvPr/>
        </p:nvSpPr>
        <p:spPr>
          <a:xfrm>
            <a:off x="4495320" y="4795920"/>
            <a:ext cx="4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16: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25"/>
          <p:cNvSpPr/>
          <p:nvPr/>
        </p:nvSpPr>
        <p:spPr>
          <a:xfrm>
            <a:off x="3643200" y="507204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6"/>
          <p:cNvSpPr/>
          <p:nvPr/>
        </p:nvSpPr>
        <p:spPr>
          <a:xfrm>
            <a:off x="612360" y="4795920"/>
            <a:ext cx="4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06: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27"/>
          <p:cNvSpPr/>
          <p:nvPr/>
        </p:nvSpPr>
        <p:spPr>
          <a:xfrm>
            <a:off x="3643200" y="5143680"/>
            <a:ext cx="100800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Day Ahe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RCU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Ru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28"/>
          <p:cNvSpPr/>
          <p:nvPr/>
        </p:nvSpPr>
        <p:spPr>
          <a:xfrm>
            <a:off x="4358880" y="5715000"/>
            <a:ext cx="805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Day Ahe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RCUC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published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29"/>
          <p:cNvSpPr/>
          <p:nvPr/>
        </p:nvSpPr>
        <p:spPr>
          <a:xfrm flipV="1">
            <a:off x="4786200" y="50817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31"/>
          <p:cNvSpPr/>
          <p:nvPr/>
        </p:nvSpPr>
        <p:spPr>
          <a:xfrm>
            <a:off x="1692360" y="44355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33"/>
          <p:cNvSpPr/>
          <p:nvPr/>
        </p:nvSpPr>
        <p:spPr>
          <a:xfrm>
            <a:off x="6734160" y="44355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35"/>
          <p:cNvSpPr/>
          <p:nvPr/>
        </p:nvSpPr>
        <p:spPr>
          <a:xfrm>
            <a:off x="5999040" y="44355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41"/>
          <p:cNvSpPr/>
          <p:nvPr/>
        </p:nvSpPr>
        <p:spPr>
          <a:xfrm>
            <a:off x="2000160" y="6286680"/>
            <a:ext cx="70009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esent + Interconnector (only) gate opened again at 10.00-14.0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43"/>
          <p:cNvSpPr/>
          <p:nvPr/>
        </p:nvSpPr>
        <p:spPr>
          <a:xfrm>
            <a:off x="3565440" y="857160"/>
            <a:ext cx="863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G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losure 2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44"/>
          <p:cNvSpPr/>
          <p:nvPr/>
        </p:nvSpPr>
        <p:spPr>
          <a:xfrm>
            <a:off x="3994200" y="14097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46"/>
          <p:cNvSpPr/>
          <p:nvPr/>
        </p:nvSpPr>
        <p:spPr>
          <a:xfrm>
            <a:off x="4000680" y="857160"/>
            <a:ext cx="10080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IUN t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MI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47"/>
          <p:cNvSpPr/>
          <p:nvPr/>
        </p:nvSpPr>
        <p:spPr>
          <a:xfrm>
            <a:off x="4500720" y="14288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48"/>
          <p:cNvSpPr/>
          <p:nvPr/>
        </p:nvSpPr>
        <p:spPr>
          <a:xfrm>
            <a:off x="5146200" y="1857240"/>
            <a:ext cx="4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19: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49"/>
          <p:cNvSpPr/>
          <p:nvPr/>
        </p:nvSpPr>
        <p:spPr>
          <a:xfrm>
            <a:off x="4064040" y="2562120"/>
            <a:ext cx="10080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MI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MIUN t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EM &amp; S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50"/>
          <p:cNvSpPr/>
          <p:nvPr/>
        </p:nvSpPr>
        <p:spPr>
          <a:xfrm flipV="1">
            <a:off x="4567320" y="21301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51"/>
          <p:cNvSpPr/>
          <p:nvPr/>
        </p:nvSpPr>
        <p:spPr>
          <a:xfrm>
            <a:off x="4716000" y="1857240"/>
            <a:ext cx="4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18: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53"/>
          <p:cNvSpPr/>
          <p:nvPr/>
        </p:nvSpPr>
        <p:spPr>
          <a:xfrm>
            <a:off x="6307560" y="3714840"/>
            <a:ext cx="8053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ithin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RCUC ru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(UPDAT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D-1 data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55"/>
          <p:cNvSpPr/>
          <p:nvPr/>
        </p:nvSpPr>
        <p:spPr>
          <a:xfrm>
            <a:off x="5306400" y="4795920"/>
            <a:ext cx="4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19: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56"/>
          <p:cNvSpPr/>
          <p:nvPr/>
        </p:nvSpPr>
        <p:spPr>
          <a:xfrm>
            <a:off x="5784480" y="4795920"/>
            <a:ext cx="4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21: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61"/>
          <p:cNvSpPr/>
          <p:nvPr/>
        </p:nvSpPr>
        <p:spPr>
          <a:xfrm>
            <a:off x="6444720" y="4795920"/>
            <a:ext cx="4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04:3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66"/>
          <p:cNvSpPr/>
          <p:nvPr/>
        </p:nvSpPr>
        <p:spPr>
          <a:xfrm>
            <a:off x="186120" y="6237360"/>
            <a:ext cx="100512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67"/>
          <p:cNvSpPr/>
          <p:nvPr/>
        </p:nvSpPr>
        <p:spPr>
          <a:xfrm>
            <a:off x="1785960" y="2633760"/>
            <a:ext cx="10080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MI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MIUN t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EM &amp; S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68"/>
          <p:cNvSpPr/>
          <p:nvPr/>
        </p:nvSpPr>
        <p:spPr>
          <a:xfrm>
            <a:off x="7091640" y="2274840"/>
            <a:ext cx="1557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yle transfer fix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69"/>
          <p:cNvSpPr/>
          <p:nvPr/>
        </p:nvSpPr>
        <p:spPr>
          <a:xfrm>
            <a:off x="7089480" y="2922480"/>
            <a:ext cx="179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eration prices fix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70"/>
          <p:cNvSpPr/>
          <p:nvPr/>
        </p:nvSpPr>
        <p:spPr>
          <a:xfrm>
            <a:off x="1763640" y="3211560"/>
            <a:ext cx="5329440" cy="0"/>
          </a:xfrm>
          <a:prstGeom prst="line">
            <a:avLst/>
          </a:prstGeom>
          <a:ln w="19080">
            <a:solidFill>
              <a:srgbClr val="3399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71"/>
          <p:cNvSpPr/>
          <p:nvPr/>
        </p:nvSpPr>
        <p:spPr>
          <a:xfrm>
            <a:off x="4500720" y="2571840"/>
            <a:ext cx="2592360" cy="0"/>
          </a:xfrm>
          <a:prstGeom prst="line">
            <a:avLst/>
          </a:prstGeom>
          <a:ln w="19080">
            <a:solidFill>
              <a:srgbClr val="3399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72"/>
          <p:cNvSpPr/>
          <p:nvPr/>
        </p:nvSpPr>
        <p:spPr>
          <a:xfrm>
            <a:off x="7093080" y="3211560"/>
            <a:ext cx="1222200" cy="0"/>
          </a:xfrm>
          <a:prstGeom prst="line">
            <a:avLst/>
          </a:prstGeom>
          <a:ln w="28440">
            <a:solidFill>
              <a:srgbClr val="3399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73"/>
          <p:cNvSpPr/>
          <p:nvPr/>
        </p:nvSpPr>
        <p:spPr>
          <a:xfrm>
            <a:off x="7093080" y="2562120"/>
            <a:ext cx="1150920" cy="0"/>
          </a:xfrm>
          <a:prstGeom prst="line">
            <a:avLst/>
          </a:prstGeom>
          <a:ln w="28440">
            <a:solidFill>
              <a:srgbClr val="3399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74"/>
          <p:cNvSpPr/>
          <p:nvPr/>
        </p:nvSpPr>
        <p:spPr>
          <a:xfrm flipV="1">
            <a:off x="2357280" y="2214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79"/>
          <p:cNvSpPr/>
          <p:nvPr/>
        </p:nvSpPr>
        <p:spPr>
          <a:xfrm>
            <a:off x="1169640" y="3643200"/>
            <a:ext cx="9748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ithin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RCUC ru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(UPDATE D-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data GC2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80"/>
          <p:cNvSpPr/>
          <p:nvPr/>
        </p:nvSpPr>
        <p:spPr>
          <a:xfrm>
            <a:off x="5363280" y="3714840"/>
            <a:ext cx="106020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ithin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RCUC ru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(GAS Purch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D-2 data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81"/>
          <p:cNvSpPr/>
          <p:nvPr/>
        </p:nvSpPr>
        <p:spPr>
          <a:xfrm>
            <a:off x="755640" y="765000"/>
            <a:ext cx="6337440" cy="0"/>
          </a:xfrm>
          <a:prstGeom prst="line">
            <a:avLst/>
          </a:prstGeom>
          <a:ln w="28440">
            <a:solidFill>
              <a:srgbClr val="3333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82"/>
          <p:cNvSpPr/>
          <p:nvPr/>
        </p:nvSpPr>
        <p:spPr>
          <a:xfrm>
            <a:off x="7093080" y="765000"/>
            <a:ext cx="1079280" cy="0"/>
          </a:xfrm>
          <a:prstGeom prst="line">
            <a:avLst/>
          </a:prstGeom>
          <a:ln w="28440">
            <a:solidFill>
              <a:srgbClr val="3333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83"/>
          <p:cNvSpPr/>
          <p:nvPr/>
        </p:nvSpPr>
        <p:spPr>
          <a:xfrm>
            <a:off x="3494520" y="260280"/>
            <a:ext cx="5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D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84"/>
          <p:cNvSpPr/>
          <p:nvPr/>
        </p:nvSpPr>
        <p:spPr>
          <a:xfrm>
            <a:off x="7382160" y="2602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4"/>
          <p:cNvSpPr/>
          <p:nvPr/>
        </p:nvSpPr>
        <p:spPr>
          <a:xfrm>
            <a:off x="3715920" y="1857240"/>
            <a:ext cx="4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14: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4"/>
          <p:cNvSpPr/>
          <p:nvPr/>
        </p:nvSpPr>
        <p:spPr>
          <a:xfrm>
            <a:off x="3215880" y="1857240"/>
            <a:ext cx="4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13: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43"/>
          <p:cNvSpPr/>
          <p:nvPr/>
        </p:nvSpPr>
        <p:spPr>
          <a:xfrm>
            <a:off x="2928960" y="857160"/>
            <a:ext cx="863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Publication of Market Schedule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44"/>
          <p:cNvSpPr/>
          <p:nvPr/>
        </p:nvSpPr>
        <p:spPr>
          <a:xfrm>
            <a:off x="3357720" y="14097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25"/>
          <p:cNvSpPr/>
          <p:nvPr/>
        </p:nvSpPr>
        <p:spPr>
          <a:xfrm>
            <a:off x="4857840" y="5072040"/>
            <a:ext cx="7412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27"/>
          <p:cNvSpPr/>
          <p:nvPr/>
        </p:nvSpPr>
        <p:spPr>
          <a:xfrm>
            <a:off x="4778280" y="5154480"/>
            <a:ext cx="100800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Day Ahe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RCU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Run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28"/>
          <p:cNvSpPr/>
          <p:nvPr/>
        </p:nvSpPr>
        <p:spPr>
          <a:xfrm>
            <a:off x="5193720" y="5715000"/>
            <a:ext cx="805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Day Ahe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RCUC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published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29"/>
          <p:cNvSpPr/>
          <p:nvPr/>
        </p:nvSpPr>
        <p:spPr>
          <a:xfrm flipV="1">
            <a:off x="5643720" y="50817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43"/>
          <p:cNvSpPr/>
          <p:nvPr/>
        </p:nvSpPr>
        <p:spPr>
          <a:xfrm>
            <a:off x="6929280" y="857160"/>
            <a:ext cx="863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Arial"/>
              </a:rPr>
              <a:t>S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Arial"/>
              </a:rPr>
              <a:t>G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Arial"/>
              </a:rPr>
              <a:t>Closur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44"/>
          <p:cNvSpPr/>
          <p:nvPr/>
        </p:nvSpPr>
        <p:spPr>
          <a:xfrm>
            <a:off x="7429680" y="14097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70"/>
          <p:cNvSpPr/>
          <p:nvPr/>
        </p:nvSpPr>
        <p:spPr>
          <a:xfrm>
            <a:off x="7786800" y="1071720"/>
            <a:ext cx="13572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000000"/>
                </a:solidFill>
                <a:latin typeface="Arial"/>
              </a:rPr>
              <a:t>Recommendation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000000"/>
                </a:solidFill>
                <a:latin typeface="Arial"/>
              </a:rPr>
              <a:t>Investig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000000"/>
                </a:solidFill>
                <a:latin typeface="Arial"/>
              </a:rPr>
              <a:t>additional gate closure on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71"/>
          <p:cNvSpPr/>
          <p:nvPr/>
        </p:nvSpPr>
        <p:spPr>
          <a:xfrm>
            <a:off x="7000920" y="857160"/>
            <a:ext cx="1928880" cy="9288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64296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Option 1 Min Compliance (UUC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00040" y="1428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Implicit Sol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I/C users bid in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1 additional gate closure at 14:00 for I/C units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se of UUC to schedule fl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MIUNs from the first Ex Ante run protec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UIOLI auctioning option adop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8.00 – 19:00 Day ahead sched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ffects the constraints schedule as normal ru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oes not affect pr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loser to the dispatch sched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Min Compliance options similar to NEAI/PPB option but with a different gate closure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Recommend investigating additional gate closure on 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2"/>
          <p:cNvSpPr/>
          <p:nvPr/>
        </p:nvSpPr>
        <p:spPr>
          <a:xfrm>
            <a:off x="684360" y="1770120"/>
            <a:ext cx="7561080" cy="28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3"/>
          <p:cNvSpPr/>
          <p:nvPr/>
        </p:nvSpPr>
        <p:spPr>
          <a:xfrm>
            <a:off x="1258920" y="835200"/>
            <a:ext cx="792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osure 1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4"/>
          <p:cNvSpPr/>
          <p:nvPr/>
        </p:nvSpPr>
        <p:spPr>
          <a:xfrm>
            <a:off x="1620720" y="14097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1406160" y="1843200"/>
            <a:ext cx="4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: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1714680" y="835200"/>
            <a:ext cx="10080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UN t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7"/>
          <p:cNvSpPr/>
          <p:nvPr/>
        </p:nvSpPr>
        <p:spPr>
          <a:xfrm>
            <a:off x="2220840" y="14097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8"/>
          <p:cNvSpPr/>
          <p:nvPr/>
        </p:nvSpPr>
        <p:spPr>
          <a:xfrm>
            <a:off x="2001240" y="1843200"/>
            <a:ext cx="4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1: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0"/>
          <p:cNvSpPr/>
          <p:nvPr/>
        </p:nvSpPr>
        <p:spPr>
          <a:xfrm>
            <a:off x="6878160" y="1843200"/>
            <a:ext cx="4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6: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12"/>
          <p:cNvSpPr/>
          <p:nvPr/>
        </p:nvSpPr>
        <p:spPr>
          <a:xfrm>
            <a:off x="755640" y="1843200"/>
            <a:ext cx="633744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13"/>
          <p:cNvSpPr/>
          <p:nvPr/>
        </p:nvSpPr>
        <p:spPr>
          <a:xfrm>
            <a:off x="7093080" y="1843200"/>
            <a:ext cx="107928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14"/>
          <p:cNvSpPr/>
          <p:nvPr/>
        </p:nvSpPr>
        <p:spPr>
          <a:xfrm>
            <a:off x="2646000" y="1857240"/>
            <a:ext cx="4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: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15"/>
          <p:cNvSpPr/>
          <p:nvPr/>
        </p:nvSpPr>
        <p:spPr>
          <a:xfrm>
            <a:off x="4215960" y="1843200"/>
            <a:ext cx="4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5: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6"/>
          <p:cNvSpPr/>
          <p:nvPr/>
        </p:nvSpPr>
        <p:spPr>
          <a:xfrm>
            <a:off x="612360" y="1843200"/>
            <a:ext cx="4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6: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17"/>
          <p:cNvSpPr/>
          <p:nvPr/>
        </p:nvSpPr>
        <p:spPr>
          <a:xfrm>
            <a:off x="684360" y="4722840"/>
            <a:ext cx="7561080" cy="288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18"/>
          <p:cNvSpPr/>
          <p:nvPr/>
        </p:nvSpPr>
        <p:spPr>
          <a:xfrm>
            <a:off x="1406160" y="4795920"/>
            <a:ext cx="4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: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19"/>
          <p:cNvSpPr/>
          <p:nvPr/>
        </p:nvSpPr>
        <p:spPr>
          <a:xfrm>
            <a:off x="2269440" y="4795920"/>
            <a:ext cx="4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1: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20"/>
          <p:cNvSpPr/>
          <p:nvPr/>
        </p:nvSpPr>
        <p:spPr>
          <a:xfrm>
            <a:off x="6878160" y="4795920"/>
            <a:ext cx="4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6: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21"/>
          <p:cNvSpPr/>
          <p:nvPr/>
        </p:nvSpPr>
        <p:spPr>
          <a:xfrm>
            <a:off x="755640" y="4795920"/>
            <a:ext cx="633744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22"/>
          <p:cNvSpPr/>
          <p:nvPr/>
        </p:nvSpPr>
        <p:spPr>
          <a:xfrm>
            <a:off x="7093080" y="4795920"/>
            <a:ext cx="107928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23"/>
          <p:cNvSpPr/>
          <p:nvPr/>
        </p:nvSpPr>
        <p:spPr>
          <a:xfrm>
            <a:off x="3930120" y="4786200"/>
            <a:ext cx="4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4: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24"/>
          <p:cNvSpPr/>
          <p:nvPr/>
        </p:nvSpPr>
        <p:spPr>
          <a:xfrm>
            <a:off x="4573080" y="4795920"/>
            <a:ext cx="4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8: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25"/>
          <p:cNvSpPr/>
          <p:nvPr/>
        </p:nvSpPr>
        <p:spPr>
          <a:xfrm>
            <a:off x="4143240" y="5072040"/>
            <a:ext cx="7858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26"/>
          <p:cNvSpPr/>
          <p:nvPr/>
        </p:nvSpPr>
        <p:spPr>
          <a:xfrm>
            <a:off x="612360" y="4795920"/>
            <a:ext cx="4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6: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27"/>
          <p:cNvSpPr/>
          <p:nvPr/>
        </p:nvSpPr>
        <p:spPr>
          <a:xfrm>
            <a:off x="4064040" y="5143680"/>
            <a:ext cx="10080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Day Ahe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RCU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Run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MI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DIU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28"/>
          <p:cNvSpPr/>
          <p:nvPr/>
        </p:nvSpPr>
        <p:spPr>
          <a:xfrm>
            <a:off x="4907880" y="5357880"/>
            <a:ext cx="805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y Ahe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CUC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ublished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29"/>
          <p:cNvSpPr/>
          <p:nvPr/>
        </p:nvSpPr>
        <p:spPr>
          <a:xfrm flipV="1">
            <a:off x="4929120" y="50817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31"/>
          <p:cNvSpPr/>
          <p:nvPr/>
        </p:nvSpPr>
        <p:spPr>
          <a:xfrm>
            <a:off x="1692360" y="44355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33"/>
          <p:cNvSpPr/>
          <p:nvPr/>
        </p:nvSpPr>
        <p:spPr>
          <a:xfrm>
            <a:off x="6734160" y="44355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35"/>
          <p:cNvSpPr/>
          <p:nvPr/>
        </p:nvSpPr>
        <p:spPr>
          <a:xfrm>
            <a:off x="5797440" y="44355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41"/>
          <p:cNvSpPr/>
          <p:nvPr/>
        </p:nvSpPr>
        <p:spPr>
          <a:xfrm>
            <a:off x="1897200" y="6357960"/>
            <a:ext cx="70495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esent + Interconnector (only) gate opened again at 10.00 – 14:0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48"/>
          <p:cNvSpPr/>
          <p:nvPr/>
        </p:nvSpPr>
        <p:spPr>
          <a:xfrm>
            <a:off x="5287320" y="1857240"/>
            <a:ext cx="4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9: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51"/>
          <p:cNvSpPr/>
          <p:nvPr/>
        </p:nvSpPr>
        <p:spPr>
          <a:xfrm>
            <a:off x="4716000" y="1857240"/>
            <a:ext cx="4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8: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53"/>
          <p:cNvSpPr/>
          <p:nvPr/>
        </p:nvSpPr>
        <p:spPr>
          <a:xfrm>
            <a:off x="6307560" y="3714840"/>
            <a:ext cx="8053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ithin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CUC ru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UPDAT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-1 data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55"/>
          <p:cNvSpPr/>
          <p:nvPr/>
        </p:nvSpPr>
        <p:spPr>
          <a:xfrm>
            <a:off x="5074560" y="4795920"/>
            <a:ext cx="4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9: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56"/>
          <p:cNvSpPr/>
          <p:nvPr/>
        </p:nvSpPr>
        <p:spPr>
          <a:xfrm>
            <a:off x="5582880" y="4795920"/>
            <a:ext cx="4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1: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61"/>
          <p:cNvSpPr/>
          <p:nvPr/>
        </p:nvSpPr>
        <p:spPr>
          <a:xfrm>
            <a:off x="6444720" y="4795920"/>
            <a:ext cx="4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4:3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66"/>
          <p:cNvSpPr/>
          <p:nvPr/>
        </p:nvSpPr>
        <p:spPr>
          <a:xfrm>
            <a:off x="186120" y="6237360"/>
            <a:ext cx="100512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67"/>
          <p:cNvSpPr/>
          <p:nvPr/>
        </p:nvSpPr>
        <p:spPr>
          <a:xfrm>
            <a:off x="1785960" y="2633760"/>
            <a:ext cx="10080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UN t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M &amp; S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68"/>
          <p:cNvSpPr/>
          <p:nvPr/>
        </p:nvSpPr>
        <p:spPr>
          <a:xfrm>
            <a:off x="7091640" y="2274840"/>
            <a:ext cx="1557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yle transfer fix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69"/>
          <p:cNvSpPr/>
          <p:nvPr/>
        </p:nvSpPr>
        <p:spPr>
          <a:xfrm>
            <a:off x="7089480" y="2922480"/>
            <a:ext cx="179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tion prices fix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70"/>
          <p:cNvSpPr/>
          <p:nvPr/>
        </p:nvSpPr>
        <p:spPr>
          <a:xfrm>
            <a:off x="1763640" y="3211560"/>
            <a:ext cx="5329440" cy="0"/>
          </a:xfrm>
          <a:prstGeom prst="line">
            <a:avLst/>
          </a:prstGeom>
          <a:ln w="19080">
            <a:solidFill>
              <a:srgbClr val="3399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71"/>
          <p:cNvSpPr/>
          <p:nvPr/>
        </p:nvSpPr>
        <p:spPr>
          <a:xfrm>
            <a:off x="4929120" y="2571840"/>
            <a:ext cx="2214720" cy="0"/>
          </a:xfrm>
          <a:prstGeom prst="line">
            <a:avLst/>
          </a:prstGeom>
          <a:ln w="19080">
            <a:solidFill>
              <a:srgbClr val="3399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72"/>
          <p:cNvSpPr/>
          <p:nvPr/>
        </p:nvSpPr>
        <p:spPr>
          <a:xfrm>
            <a:off x="7093080" y="3211560"/>
            <a:ext cx="1222200" cy="0"/>
          </a:xfrm>
          <a:prstGeom prst="line">
            <a:avLst/>
          </a:prstGeom>
          <a:ln w="28440">
            <a:solidFill>
              <a:srgbClr val="3399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73"/>
          <p:cNvSpPr/>
          <p:nvPr/>
        </p:nvSpPr>
        <p:spPr>
          <a:xfrm>
            <a:off x="7093080" y="2562120"/>
            <a:ext cx="1150920" cy="0"/>
          </a:xfrm>
          <a:prstGeom prst="line">
            <a:avLst/>
          </a:prstGeom>
          <a:ln w="28440">
            <a:solidFill>
              <a:srgbClr val="3399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74"/>
          <p:cNvSpPr/>
          <p:nvPr/>
        </p:nvSpPr>
        <p:spPr>
          <a:xfrm flipV="1">
            <a:off x="2217600" y="22014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79"/>
          <p:cNvSpPr/>
          <p:nvPr/>
        </p:nvSpPr>
        <p:spPr>
          <a:xfrm>
            <a:off x="1169640" y="3643200"/>
            <a:ext cx="9748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ithin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CUC ru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UPDATE D-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GC2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80"/>
          <p:cNvSpPr/>
          <p:nvPr/>
        </p:nvSpPr>
        <p:spPr>
          <a:xfrm>
            <a:off x="5161680" y="3714840"/>
            <a:ext cx="106020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ithin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CUC ru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GAS Purch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-2 data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81"/>
          <p:cNvSpPr/>
          <p:nvPr/>
        </p:nvSpPr>
        <p:spPr>
          <a:xfrm>
            <a:off x="755640" y="765000"/>
            <a:ext cx="6337440" cy="0"/>
          </a:xfrm>
          <a:prstGeom prst="line">
            <a:avLst/>
          </a:prstGeom>
          <a:ln w="28440">
            <a:solidFill>
              <a:srgbClr val="3333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82"/>
          <p:cNvSpPr/>
          <p:nvPr/>
        </p:nvSpPr>
        <p:spPr>
          <a:xfrm>
            <a:off x="7093080" y="765000"/>
            <a:ext cx="1079280" cy="0"/>
          </a:xfrm>
          <a:prstGeom prst="line">
            <a:avLst/>
          </a:prstGeom>
          <a:ln w="28440">
            <a:solidFill>
              <a:srgbClr val="3333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83"/>
          <p:cNvSpPr/>
          <p:nvPr/>
        </p:nvSpPr>
        <p:spPr>
          <a:xfrm>
            <a:off x="3494520" y="260280"/>
            <a:ext cx="5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84"/>
          <p:cNvSpPr/>
          <p:nvPr/>
        </p:nvSpPr>
        <p:spPr>
          <a:xfrm>
            <a:off x="7382160" y="2602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14"/>
          <p:cNvSpPr/>
          <p:nvPr/>
        </p:nvSpPr>
        <p:spPr>
          <a:xfrm>
            <a:off x="3715920" y="1857240"/>
            <a:ext cx="4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4: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14"/>
          <p:cNvSpPr/>
          <p:nvPr/>
        </p:nvSpPr>
        <p:spPr>
          <a:xfrm>
            <a:off x="3215880" y="1857240"/>
            <a:ext cx="4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3: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6"/>
          <p:cNvSpPr/>
          <p:nvPr/>
        </p:nvSpPr>
        <p:spPr>
          <a:xfrm>
            <a:off x="3786120" y="4084560"/>
            <a:ext cx="10080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RCU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IUNs t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MI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43"/>
          <p:cNvSpPr/>
          <p:nvPr/>
        </p:nvSpPr>
        <p:spPr>
          <a:xfrm>
            <a:off x="2922480" y="857160"/>
            <a:ext cx="863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ublication of Market Schedule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44"/>
          <p:cNvSpPr/>
          <p:nvPr/>
        </p:nvSpPr>
        <p:spPr>
          <a:xfrm>
            <a:off x="3429000" y="14097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43"/>
          <p:cNvSpPr/>
          <p:nvPr/>
        </p:nvSpPr>
        <p:spPr>
          <a:xfrm>
            <a:off x="3714840" y="857160"/>
            <a:ext cx="863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G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losure 2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44"/>
          <p:cNvSpPr/>
          <p:nvPr/>
        </p:nvSpPr>
        <p:spPr>
          <a:xfrm>
            <a:off x="4071960" y="1353960"/>
            <a:ext cx="0" cy="36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23"/>
          <p:cNvSpPr/>
          <p:nvPr/>
        </p:nvSpPr>
        <p:spPr>
          <a:xfrm>
            <a:off x="3072960" y="4786200"/>
            <a:ext cx="4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12: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25"/>
          <p:cNvSpPr/>
          <p:nvPr/>
        </p:nvSpPr>
        <p:spPr>
          <a:xfrm>
            <a:off x="3143160" y="5072040"/>
            <a:ext cx="928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27"/>
          <p:cNvSpPr/>
          <p:nvPr/>
        </p:nvSpPr>
        <p:spPr>
          <a:xfrm>
            <a:off x="3214800" y="5143680"/>
            <a:ext cx="100800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Day Ahe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RCU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Ru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28"/>
          <p:cNvSpPr/>
          <p:nvPr/>
        </p:nvSpPr>
        <p:spPr>
          <a:xfrm>
            <a:off x="3358800" y="5715000"/>
            <a:ext cx="805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Day Ahe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RCUC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published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29"/>
          <p:cNvSpPr/>
          <p:nvPr/>
        </p:nvSpPr>
        <p:spPr>
          <a:xfrm flipV="1">
            <a:off x="4143240" y="51436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43"/>
          <p:cNvSpPr/>
          <p:nvPr/>
        </p:nvSpPr>
        <p:spPr>
          <a:xfrm>
            <a:off x="6929280" y="857160"/>
            <a:ext cx="863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Arial"/>
              </a:rPr>
              <a:t>S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Arial"/>
              </a:rPr>
              <a:t>G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Arial"/>
              </a:rPr>
              <a:t>Closur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44"/>
          <p:cNvSpPr/>
          <p:nvPr/>
        </p:nvSpPr>
        <p:spPr>
          <a:xfrm>
            <a:off x="7429680" y="14097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Box 66"/>
          <p:cNvSpPr/>
          <p:nvPr/>
        </p:nvSpPr>
        <p:spPr>
          <a:xfrm>
            <a:off x="7786800" y="1071720"/>
            <a:ext cx="13572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000000"/>
                </a:solidFill>
                <a:latin typeface="Arial"/>
              </a:rPr>
              <a:t>Recommendation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000000"/>
                </a:solidFill>
                <a:latin typeface="Arial"/>
              </a:rPr>
              <a:t>Investig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000000"/>
                </a:solidFill>
                <a:latin typeface="Arial"/>
              </a:rPr>
              <a:t>additional gate closure on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67"/>
          <p:cNvSpPr/>
          <p:nvPr/>
        </p:nvSpPr>
        <p:spPr>
          <a:xfrm>
            <a:off x="7000920" y="857160"/>
            <a:ext cx="1928880" cy="9288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49"/>
          <p:cNvSpPr/>
          <p:nvPr/>
        </p:nvSpPr>
        <p:spPr>
          <a:xfrm>
            <a:off x="3635280" y="2562120"/>
            <a:ext cx="10080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MI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MIUN t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EM and S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50"/>
          <p:cNvSpPr/>
          <p:nvPr/>
        </p:nvSpPr>
        <p:spPr>
          <a:xfrm flipV="1">
            <a:off x="4138560" y="21301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42920" y="642960"/>
            <a:ext cx="885816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Option 2 Min Compliance (RCUC Constraini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Implicit Sol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I/C users bid in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1 additional gate closure at 14:00 for I/C units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MIUNs from the first Ex Ante run protected and used in ex-post UUC ru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se of UUC to schedule actual fl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se of RCUC to constrain fl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UIOLI auctioning options adop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ffects the constraints payments more than previous option as greater difference between MIUNs and DIU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creased divergence between market and dispatch sched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Min Compliance options similar to NEAI/PPB option but with a different gate closure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Recommend investigating additional gate closure on 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00040" y="271476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East West Readiness Pro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64296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East West Readiness Pro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East West Interconnector (Consents, Construction, Commissioning) on track for delivery for Q3 20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East West Readiness Project established to ensu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Design, build and test of any new systems and changes to any existing systems occur in time for EW deliv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New procedures, codes, protocols, agreements, licences are in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Some of the workstream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Arial"/>
              </a:rPr>
              <a:t>Capacity allocation and auctioning and interfaces with market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Arial"/>
              </a:rPr>
              <a:t>SEM Chang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Arial"/>
              </a:rPr>
              <a:t>Ancillary Services Mode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Arial"/>
              </a:rPr>
              <a:t>System Operation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Arial"/>
              </a:rPr>
              <a:t>Legal &amp; Regulator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Arial"/>
              </a:rPr>
              <a:t>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Arial"/>
              </a:rPr>
              <a:t>Grid Cod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0" name=""/>
          <p:cNvGraphicFramePr/>
          <p:nvPr/>
        </p:nvGraphicFramePr>
        <p:xfrm>
          <a:off x="142920" y="1487520"/>
          <a:ext cx="8858160" cy="5100480"/>
        </p:xfrm>
        <a:graphic>
          <a:graphicData uri="http://schemas.openxmlformats.org/drawingml/2006/table">
            <a:tbl>
              <a:tblPr/>
              <a:tblGrid>
                <a:gridCol w="1571760"/>
                <a:gridCol w="357120"/>
                <a:gridCol w="357120"/>
                <a:gridCol w="357120"/>
                <a:gridCol w="357120"/>
                <a:gridCol w="357120"/>
                <a:gridCol w="357480"/>
                <a:gridCol w="285480"/>
                <a:gridCol w="357480"/>
                <a:gridCol w="571320"/>
                <a:gridCol w="642960"/>
                <a:gridCol w="500040"/>
                <a:gridCol w="571680"/>
                <a:gridCol w="571320"/>
                <a:gridCol w="571680"/>
                <a:gridCol w="571320"/>
                <a:gridCol w="500040"/>
              </a:tblGrid>
              <a:tr h="398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ask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08080"/>
                        </a:gs>
                        <a:gs pos="100000">
                          <a:srgbClr val="3b3b3b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y ‘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08080"/>
                        </a:gs>
                        <a:gs pos="100000">
                          <a:srgbClr val="3b3b3b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une ‘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08080"/>
                        </a:gs>
                        <a:gs pos="100000">
                          <a:srgbClr val="3b3b3b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uly ‘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08080"/>
                        </a:gs>
                        <a:gs pos="100000">
                          <a:srgbClr val="3b3b3b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ug ‘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08080"/>
                        </a:gs>
                        <a:gs pos="100000">
                          <a:srgbClr val="3b3b3b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p ‘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08080"/>
                        </a:gs>
                        <a:gs pos="100000">
                          <a:srgbClr val="3b3b3b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ct ’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08080"/>
                        </a:gs>
                        <a:gs pos="100000">
                          <a:srgbClr val="3b3b3b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 ‘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08080"/>
                        </a:gs>
                        <a:gs pos="100000">
                          <a:srgbClr val="3b3b3b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c ‘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08080"/>
                        </a:gs>
                        <a:gs pos="100000">
                          <a:srgbClr val="3b3b3b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n-Mar  ‘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08080"/>
                        </a:gs>
                        <a:gs pos="100000">
                          <a:srgbClr val="3b3b3b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r-Jun ‘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08080"/>
                        </a:gs>
                        <a:gs pos="100000">
                          <a:srgbClr val="3b3b3b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ul-Sep ’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08080"/>
                        </a:gs>
                        <a:gs pos="100000">
                          <a:srgbClr val="3b3b3b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ct-Dec ‘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08080"/>
                        </a:gs>
                        <a:gs pos="100000">
                          <a:srgbClr val="3b3b3b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n-Mar ‘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08080"/>
                        </a:gs>
                        <a:gs pos="100000">
                          <a:srgbClr val="3b3b3b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r-Jun ‘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08080"/>
                        </a:gs>
                        <a:gs pos="100000">
                          <a:srgbClr val="3b3b3b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ul-Sep ‘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08080"/>
                        </a:gs>
                        <a:gs pos="100000">
                          <a:srgbClr val="3b3b3b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ct-Dec ‘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08080"/>
                        </a:gs>
                        <a:gs pos="100000">
                          <a:srgbClr val="3b3b3b"/>
                        </a:gs>
                      </a:gsLst>
                      <a:lin ang="5400000"/>
                    </a:gradFill>
                  </a:tcPr>
                </a:tc>
              </a:tr>
              <a:tr h="236520">
                <a:tc>
                  <a:txBody>
                    <a:bodyPr lIns="90000" rIns="18000" tIns="18000" bIns="18000" anchor="ctr">
                      <a:noAutofit/>
                    </a:bodyPr>
                    <a:p>
                      <a:pPr marL="181080" indent="-181080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f3f3f"/>
                          </a:solidFill>
                          <a:latin typeface="Arial"/>
                        </a:rPr>
                        <a:t>Kick-of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236520">
                <a:tc>
                  <a:txBody>
                    <a:bodyPr lIns="90000" rIns="18000" tIns="18000" bIns="18000" anchor="ctr">
                      <a:noAutofit/>
                    </a:bodyPr>
                    <a:p>
                      <a:pPr marL="181080" indent="-181080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f3f3f"/>
                          </a:solidFill>
                          <a:latin typeface="Arial"/>
                        </a:rPr>
                        <a:t>Intra-day Trading mo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236520">
                <a:tc>
                  <a:txBody>
                    <a:bodyPr lIns="90000" rIns="18000" tIns="18000" bIns="18000" anchor="ctr">
                      <a:noAutofit/>
                    </a:bodyPr>
                    <a:p>
                      <a:pPr marL="177840" indent="-177840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f3f3f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1000" spc="-1" strike="noStrike">
                          <a:solidFill>
                            <a:srgbClr val="3f3f3f"/>
                          </a:solidFill>
                          <a:latin typeface="Arial"/>
                        </a:rPr>
                        <a:t>Working Group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236520">
                <a:tc>
                  <a:txBody>
                    <a:bodyPr lIns="90000" rIns="18000" tIns="18000" bIns="18000" anchor="ctr">
                      <a:noAutofit/>
                    </a:bodyPr>
                    <a:p>
                      <a:pPr marL="179280" indent="-179280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f3f3f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1000" spc="-1" strike="noStrike">
                          <a:solidFill>
                            <a:srgbClr val="3f3f3f"/>
                          </a:solidFill>
                          <a:latin typeface="Arial"/>
                        </a:rPr>
                        <a:t>Draft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236520">
                <a:tc>
                  <a:txBody>
                    <a:bodyPr lIns="90000" rIns="18000" tIns="18000" bIns="18000" anchor="ctr">
                      <a:noAutofit/>
                    </a:bodyPr>
                    <a:p>
                      <a:pPr marL="179280" indent="-179280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f3f3f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1000" spc="-1" strike="noStrike">
                          <a:solidFill>
                            <a:srgbClr val="3f3f3f"/>
                          </a:solidFill>
                          <a:latin typeface="Arial"/>
                        </a:rPr>
                        <a:t>Approv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236520">
                <a:tc>
                  <a:txBody>
                    <a:bodyPr lIns="90000" rIns="18000" tIns="18000" bIns="18000" anchor="ctr">
                      <a:noAutofit/>
                    </a:bodyPr>
                    <a:p>
                      <a:pPr marL="181080" indent="-181080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f3f3f"/>
                          </a:solidFill>
                          <a:latin typeface="Arial"/>
                        </a:rPr>
                        <a:t>SEMSystem Chang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236520">
                <a:tc>
                  <a:txBody>
                    <a:bodyPr lIns="90000" rIns="18000" tIns="18000" bIns="18000" anchor="ctr">
                      <a:noAutofit/>
                    </a:bodyPr>
                    <a:p>
                      <a:pPr marL="179280" indent="-179280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f3f3f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1000" spc="-1" strike="noStrike">
                          <a:solidFill>
                            <a:srgbClr val="3f3f3f"/>
                          </a:solidFill>
                          <a:latin typeface="Arial"/>
                        </a:rPr>
                        <a:t>ABB Build and Tes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236520">
                <a:tc>
                  <a:txBody>
                    <a:bodyPr lIns="90000" rIns="18000" tIns="18000" bIns="18000" anchor="ctr">
                      <a:noAutofit/>
                    </a:bodyPr>
                    <a:p>
                      <a:pPr marL="179280" indent="-179280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f3f3f"/>
                          </a:solidFill>
                          <a:latin typeface="Arial"/>
                        </a:rPr>
                        <a:t>Auction Platfo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236520">
                <a:tc>
                  <a:txBody>
                    <a:bodyPr lIns="90000" rIns="18000" tIns="18000" bIns="18000" anchor="ctr">
                      <a:noAutofit/>
                    </a:bodyPr>
                    <a:p>
                      <a:pPr marL="179280" indent="-179280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f3f3f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1000" spc="-1" strike="noStrike">
                          <a:solidFill>
                            <a:srgbClr val="3f3f3f"/>
                          </a:solidFill>
                          <a:latin typeface="Arial"/>
                        </a:rPr>
                        <a:t>PQQ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236520">
                <a:tc>
                  <a:txBody>
                    <a:bodyPr lIns="90000" rIns="18000" tIns="18000" bIns="18000" anchor="ctr">
                      <a:noAutofit/>
                    </a:bodyPr>
                    <a:p>
                      <a:pPr marL="181080" indent="-181080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f3f3f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1000" spc="-1" strike="noStrike">
                          <a:solidFill>
                            <a:srgbClr val="3f3f3f"/>
                          </a:solidFill>
                          <a:latin typeface="Arial"/>
                        </a:rPr>
                        <a:t>Tend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236520">
                <a:tc>
                  <a:txBody>
                    <a:bodyPr lIns="90000" rIns="18000" tIns="18000" bIns="18000" anchor="ctr">
                      <a:noAutofit/>
                    </a:bodyPr>
                    <a:p>
                      <a:pPr marL="181080" indent="-181080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f3f3f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1000" spc="-1" strike="noStrike">
                          <a:solidFill>
                            <a:srgbClr val="3f3f3f"/>
                          </a:solidFill>
                          <a:latin typeface="Arial"/>
                        </a:rPr>
                        <a:t>Contra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341280">
                <a:tc>
                  <a:txBody>
                    <a:bodyPr lIns="90000" rIns="18000" tIns="18000" bIns="18000" anchor="ctr">
                      <a:noAutofit/>
                    </a:bodyPr>
                    <a:p>
                      <a:pPr marL="181080" indent="-181080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f3f3f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1000" spc="-1" strike="noStrike">
                          <a:solidFill>
                            <a:srgbClr val="3f3f3f"/>
                          </a:solidFill>
                          <a:latin typeface="Arial"/>
                        </a:rPr>
                        <a:t>Design (including customer workshop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236520">
                <a:tc>
                  <a:txBody>
                    <a:bodyPr lIns="90000" rIns="18000" tIns="18000" bIns="18000" anchor="ctr">
                      <a:noAutofit/>
                    </a:bodyPr>
                    <a:p>
                      <a:pPr marL="181080" indent="-181080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f3f3f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1000" spc="-1" strike="noStrike">
                          <a:solidFill>
                            <a:srgbClr val="3f3f3f"/>
                          </a:solidFill>
                          <a:latin typeface="Arial"/>
                        </a:rPr>
                        <a:t>Build and Tes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236520">
                <a:tc>
                  <a:txBody>
                    <a:bodyPr lIns="90000" rIns="18000" tIns="18000" bIns="18000" anchor="ctr">
                      <a:noAutofit/>
                    </a:bodyPr>
                    <a:p>
                      <a:pPr marL="181080" indent="-181080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f3f3f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1000" spc="-1" strike="noStrike">
                          <a:solidFill>
                            <a:srgbClr val="3f3f3f"/>
                          </a:solidFill>
                          <a:latin typeface="Arial"/>
                        </a:rPr>
                        <a:t>Auction Tri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236880">
                <a:tc>
                  <a:txBody>
                    <a:bodyPr lIns="90000" rIns="18000" tIns="18000" bIns="18000" anchor="ctr">
                      <a:noAutofit/>
                    </a:bodyPr>
                    <a:p>
                      <a:pPr marL="181080" indent="-181080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f3f3f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1000" spc="-1" strike="noStrike">
                          <a:solidFill>
                            <a:srgbClr val="3f3f3f"/>
                          </a:solidFill>
                          <a:latin typeface="Arial"/>
                        </a:rPr>
                        <a:t>Cust reg, auctions et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236520">
                <a:tc>
                  <a:txBody>
                    <a:bodyPr lIns="90000" rIns="18000" tIns="18000" bIns="18000" anchor="ctr">
                      <a:noAutofit/>
                    </a:bodyPr>
                    <a:p>
                      <a:pPr marL="181080" indent="-181080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f3f3f"/>
                          </a:solidFill>
                          <a:latin typeface="Arial"/>
                        </a:rPr>
                        <a:t>SO System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340920">
                <a:tc>
                  <a:txBody>
                    <a:bodyPr lIns="90000" rIns="18000" tIns="18000" bIns="18000" anchor="ctr">
                      <a:noAutofit/>
                    </a:bodyPr>
                    <a:p>
                      <a:pPr marL="181080" indent="-181080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f3f3f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1000" spc="-1" strike="noStrike">
                          <a:solidFill>
                            <a:srgbClr val="3f3f3f"/>
                          </a:solidFill>
                          <a:latin typeface="Arial"/>
                        </a:rPr>
                        <a:t>EirGrid &amp; NG system design, build, tes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236520">
                <a:tc>
                  <a:txBody>
                    <a:bodyPr lIns="90000" rIns="18000" tIns="18000" bIns="18000" anchor="ctr">
                      <a:noAutofit/>
                    </a:bodyPr>
                    <a:p>
                      <a:pPr marL="181080" indent="-181080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f3f3f"/>
                          </a:solidFill>
                          <a:latin typeface="Arial"/>
                        </a:rPr>
                        <a:t>Oth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235080">
                <a:tc>
                  <a:txBody>
                    <a:bodyPr lIns="90000" rIns="18000" tIns="18000" bIns="18000" anchor="ctr">
                      <a:noAutofit/>
                    </a:bodyPr>
                    <a:p>
                      <a:pPr marL="181080" indent="-181080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f3f3f"/>
                          </a:solidFill>
                          <a:latin typeface="Arial"/>
                        </a:rPr>
                        <a:t>Commissioning, go-liv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</a:tr>
            </a:tbl>
          </a:graphicData>
        </a:graphic>
      </p:graphicFrame>
      <p:sp>
        <p:nvSpPr>
          <p:cNvPr id="241" name="Text Box 185"/>
          <p:cNvSpPr/>
          <p:nvPr/>
        </p:nvSpPr>
        <p:spPr>
          <a:xfrm>
            <a:off x="-46080" y="1000080"/>
            <a:ext cx="7804800" cy="48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72000" tIns="90000" bIns="90000" anchor="t">
            <a:spAutoFit/>
          </a:bodyPr>
          <a:p>
            <a:pPr marL="177840" indent="-177840">
              <a:spcBef>
                <a:spcPts val="499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000" spc="-1" strike="noStrike">
                <a:solidFill>
                  <a:srgbClr val="3f3f3f"/>
                </a:solidFill>
                <a:latin typeface="Arial"/>
              </a:rPr>
              <a:t>Projects dependent on outcome of intra-day trading modifica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187"/>
          <p:cNvSpPr/>
          <p:nvPr/>
        </p:nvSpPr>
        <p:spPr>
          <a:xfrm>
            <a:off x="3214800" y="6504120"/>
            <a:ext cx="1500120" cy="282600"/>
          </a:xfrm>
          <a:prstGeom prst="rect">
            <a:avLst/>
          </a:prstGeom>
          <a:gradFill rotWithShape="0">
            <a:gsLst>
              <a:gs pos="0">
                <a:srgbClr val="f8f8f8"/>
              </a:gs>
              <a:gs pos="100000">
                <a:srgbClr val="eaeaea"/>
              </a:gs>
            </a:gsLst>
            <a:lin ang="5400000"/>
          </a:gradFill>
          <a:ln w="12600">
            <a:solidFill>
              <a:srgbClr val="c0c0c0"/>
            </a:solidFill>
            <a:miter/>
          </a:ln>
          <a:effectLst>
            <a:outerShdw dist="17819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74600" indent="-17460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A Approval of M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188"/>
          <p:cNvSpPr/>
          <p:nvPr/>
        </p:nvSpPr>
        <p:spPr>
          <a:xfrm flipV="1">
            <a:off x="4500720" y="1928520"/>
            <a:ext cx="0" cy="4500360"/>
          </a:xfrm>
          <a:prstGeom prst="line">
            <a:avLst/>
          </a:prstGeom>
          <a:ln w="19080">
            <a:solidFill>
              <a:srgbClr val="c40505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191"/>
          <p:cNvSpPr/>
          <p:nvPr/>
        </p:nvSpPr>
        <p:spPr>
          <a:xfrm flipV="1">
            <a:off x="8501040" y="1916280"/>
            <a:ext cx="12600" cy="4512960"/>
          </a:xfrm>
          <a:prstGeom prst="line">
            <a:avLst/>
          </a:prstGeom>
          <a:ln w="19080">
            <a:solidFill>
              <a:srgbClr val="c40505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194"/>
          <p:cNvSpPr/>
          <p:nvPr/>
        </p:nvSpPr>
        <p:spPr>
          <a:xfrm>
            <a:off x="4500720" y="2786040"/>
            <a:ext cx="2473200" cy="47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72000" tIns="36000" bIns="36000" anchor="t">
            <a:spAutoFit/>
          </a:bodyPr>
          <a:p>
            <a:pPr marL="177840" indent="-177840" algn="ctr">
              <a:spcBef>
                <a:spcPts val="300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</a:rPr>
              <a:t>Dependency 1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ctr">
              <a:spcBef>
                <a:spcPts val="300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</a:rPr>
              <a:t>UUC/RCUC Chan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AutoShape 202"/>
          <p:cNvSpPr/>
          <p:nvPr/>
        </p:nvSpPr>
        <p:spPr>
          <a:xfrm>
            <a:off x="4357800" y="6429240"/>
            <a:ext cx="298440" cy="133560"/>
          </a:xfrm>
          <a:prstGeom prst="triangle">
            <a:avLst>
              <a:gd name="adj" fmla="val 50000"/>
            </a:avLst>
          </a:prstGeom>
          <a:solidFill>
            <a:srgbClr val="c4050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353"/>
          <p:cNvSpPr/>
          <p:nvPr/>
        </p:nvSpPr>
        <p:spPr>
          <a:xfrm flipV="1">
            <a:off x="6429240" y="1857240"/>
            <a:ext cx="0" cy="4572000"/>
          </a:xfrm>
          <a:prstGeom prst="line">
            <a:avLst/>
          </a:prstGeom>
          <a:ln w="19080">
            <a:solidFill>
              <a:srgbClr val="c40505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358"/>
          <p:cNvSpPr/>
          <p:nvPr/>
        </p:nvSpPr>
        <p:spPr>
          <a:xfrm>
            <a:off x="1714680" y="2357280"/>
            <a:ext cx="1785600" cy="179640"/>
          </a:xfrm>
          <a:prstGeom prst="rect">
            <a:avLst/>
          </a:prstGeom>
          <a:solidFill>
            <a:srgbClr val="0061b2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74600" indent="-174600"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359"/>
          <p:cNvSpPr/>
          <p:nvPr/>
        </p:nvSpPr>
        <p:spPr>
          <a:xfrm>
            <a:off x="3500280" y="2643120"/>
            <a:ext cx="642960" cy="179280"/>
          </a:xfrm>
          <a:prstGeom prst="rect">
            <a:avLst/>
          </a:prstGeom>
          <a:solidFill>
            <a:srgbClr val="0061b2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74600" indent="-174600"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362"/>
          <p:cNvSpPr/>
          <p:nvPr/>
        </p:nvSpPr>
        <p:spPr>
          <a:xfrm>
            <a:off x="4500720" y="3357720"/>
            <a:ext cx="1928520" cy="179280"/>
          </a:xfrm>
          <a:prstGeom prst="rect">
            <a:avLst/>
          </a:prstGeom>
          <a:solidFill>
            <a:srgbClr val="2a79d0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74600" indent="-174600"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366"/>
          <p:cNvSpPr/>
          <p:nvPr/>
        </p:nvSpPr>
        <p:spPr>
          <a:xfrm>
            <a:off x="1714680" y="3786120"/>
            <a:ext cx="500040" cy="179280"/>
          </a:xfrm>
          <a:prstGeom prst="rect">
            <a:avLst/>
          </a:prstGeom>
          <a:solidFill>
            <a:srgbClr val="9dc2eb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74600" indent="-174600"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409"/>
          <p:cNvSpPr/>
          <p:nvPr/>
        </p:nvSpPr>
        <p:spPr>
          <a:xfrm>
            <a:off x="5929200" y="6504120"/>
            <a:ext cx="1571760" cy="282600"/>
          </a:xfrm>
          <a:prstGeom prst="rect">
            <a:avLst/>
          </a:prstGeom>
          <a:gradFill rotWithShape="0">
            <a:gsLst>
              <a:gs pos="0">
                <a:srgbClr val="f8f8f8"/>
              </a:gs>
              <a:gs pos="100000">
                <a:srgbClr val="eaeaea"/>
              </a:gs>
            </a:gsLst>
            <a:lin ang="5400000"/>
          </a:gradFill>
          <a:ln w="12600">
            <a:solidFill>
              <a:srgbClr val="c0c0c0"/>
            </a:solidFill>
            <a:miter/>
          </a:ln>
          <a:effectLst>
            <a:outerShdw dist="17819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74600" indent="-17460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ctober 2011 Rel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85480"/>
            <a:ext cx="82296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Project 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359"/>
          <p:cNvSpPr/>
          <p:nvPr/>
        </p:nvSpPr>
        <p:spPr>
          <a:xfrm>
            <a:off x="4143240" y="2892600"/>
            <a:ext cx="357480" cy="179280"/>
          </a:xfrm>
          <a:prstGeom prst="rect">
            <a:avLst/>
          </a:prstGeom>
          <a:solidFill>
            <a:srgbClr val="0061b2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74600" indent="-174600"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AutoShape 360"/>
          <p:cNvSpPr/>
          <p:nvPr/>
        </p:nvSpPr>
        <p:spPr>
          <a:xfrm>
            <a:off x="6357960" y="3357720"/>
            <a:ext cx="179280" cy="179280"/>
          </a:xfrm>
          <a:prstGeom prst="diamond">
            <a:avLst/>
          </a:prstGeom>
          <a:solidFill>
            <a:srgbClr val="fea501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 marL="174600" indent="-174600"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AutoShape 360"/>
          <p:cNvSpPr/>
          <p:nvPr/>
        </p:nvSpPr>
        <p:spPr>
          <a:xfrm>
            <a:off x="4429080" y="2892600"/>
            <a:ext cx="179280" cy="179280"/>
          </a:xfrm>
          <a:prstGeom prst="diamond">
            <a:avLst/>
          </a:prstGeom>
          <a:solidFill>
            <a:srgbClr val="fea501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 marL="174600" indent="-174600"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AutoShape 203"/>
          <p:cNvSpPr/>
          <p:nvPr/>
        </p:nvSpPr>
        <p:spPr>
          <a:xfrm>
            <a:off x="6286680" y="6429240"/>
            <a:ext cx="298440" cy="133560"/>
          </a:xfrm>
          <a:prstGeom prst="triangle">
            <a:avLst>
              <a:gd name="adj" fmla="val 50000"/>
            </a:avLst>
          </a:prstGeom>
          <a:solidFill>
            <a:srgbClr val="c4050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366"/>
          <p:cNvSpPr/>
          <p:nvPr/>
        </p:nvSpPr>
        <p:spPr>
          <a:xfrm>
            <a:off x="2214720" y="4035600"/>
            <a:ext cx="928440" cy="179280"/>
          </a:xfrm>
          <a:prstGeom prst="rect">
            <a:avLst/>
          </a:prstGeom>
          <a:solidFill>
            <a:srgbClr val="9dc2eb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74600" indent="-174600"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366"/>
          <p:cNvSpPr/>
          <p:nvPr/>
        </p:nvSpPr>
        <p:spPr>
          <a:xfrm>
            <a:off x="3143160" y="4286160"/>
            <a:ext cx="714600" cy="214560"/>
          </a:xfrm>
          <a:prstGeom prst="rect">
            <a:avLst/>
          </a:prstGeom>
          <a:solidFill>
            <a:srgbClr val="9dc2eb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74600" indent="-174600"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366"/>
          <p:cNvSpPr/>
          <p:nvPr/>
        </p:nvSpPr>
        <p:spPr>
          <a:xfrm>
            <a:off x="3857760" y="4572000"/>
            <a:ext cx="857160" cy="214200"/>
          </a:xfrm>
          <a:prstGeom prst="rect">
            <a:avLst/>
          </a:prstGeom>
          <a:solidFill>
            <a:srgbClr val="9dc2eb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74600" indent="-174600"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366"/>
          <p:cNvSpPr/>
          <p:nvPr/>
        </p:nvSpPr>
        <p:spPr>
          <a:xfrm>
            <a:off x="5715000" y="5072040"/>
            <a:ext cx="571680" cy="214200"/>
          </a:xfrm>
          <a:prstGeom prst="rect">
            <a:avLst/>
          </a:prstGeom>
          <a:solidFill>
            <a:srgbClr val="9dc2eb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74600" indent="-174600"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369"/>
          <p:cNvSpPr/>
          <p:nvPr/>
        </p:nvSpPr>
        <p:spPr>
          <a:xfrm>
            <a:off x="4143240" y="5821200"/>
            <a:ext cx="3786480" cy="179640"/>
          </a:xfrm>
          <a:prstGeom prst="rect">
            <a:avLst/>
          </a:prstGeom>
          <a:solidFill>
            <a:srgbClr val="9dc2eb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74600" indent="-174600"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366"/>
          <p:cNvSpPr/>
          <p:nvPr/>
        </p:nvSpPr>
        <p:spPr>
          <a:xfrm>
            <a:off x="7929720" y="6357960"/>
            <a:ext cx="571320" cy="214200"/>
          </a:xfrm>
          <a:prstGeom prst="rect">
            <a:avLst/>
          </a:prstGeom>
          <a:solidFill>
            <a:srgbClr val="9dc2eb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74600" indent="-174600"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4" name="Straight Arrow Connector 42"/>
          <p:cNvCxnSpPr/>
          <p:nvPr/>
        </p:nvCxnSpPr>
        <p:spPr>
          <a:xfrm flipH="1">
            <a:off x="4214520" y="3071520"/>
            <a:ext cx="2160" cy="1572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65" name="Straight Arrow Connector 43"/>
          <p:cNvCxnSpPr/>
          <p:nvPr/>
        </p:nvCxnSpPr>
        <p:spPr>
          <a:xfrm flipH="1">
            <a:off x="4357080" y="3071880"/>
            <a:ext cx="1080" cy="2643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66" name="Text Box 194"/>
          <p:cNvSpPr/>
          <p:nvPr/>
        </p:nvSpPr>
        <p:spPr>
          <a:xfrm>
            <a:off x="4071960" y="4000680"/>
            <a:ext cx="2473200" cy="47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72000" tIns="36000" bIns="36000" anchor="t">
            <a:spAutoFit/>
          </a:bodyPr>
          <a:p>
            <a:pPr marL="177840" indent="-177840" algn="ctr">
              <a:spcBef>
                <a:spcPts val="300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</a:rPr>
              <a:t>Dependency 2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ctr">
              <a:spcBef>
                <a:spcPts val="300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</a:rPr>
              <a:t>Auction Platfo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194"/>
          <p:cNvSpPr/>
          <p:nvPr/>
        </p:nvSpPr>
        <p:spPr>
          <a:xfrm>
            <a:off x="4143240" y="5307120"/>
            <a:ext cx="2473560" cy="47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72000" tIns="36000" bIns="36000" anchor="t">
            <a:spAutoFit/>
          </a:bodyPr>
          <a:p>
            <a:pPr marL="177840" indent="-177840" algn="ctr">
              <a:spcBef>
                <a:spcPts val="300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</a:rPr>
              <a:t>Dependency 3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ctr">
              <a:spcBef>
                <a:spcPts val="300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</a:rPr>
              <a:t>SO Systems: NG &amp; EirGr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366"/>
          <p:cNvSpPr/>
          <p:nvPr/>
        </p:nvSpPr>
        <p:spPr>
          <a:xfrm>
            <a:off x="6429240" y="5286240"/>
            <a:ext cx="1500480" cy="214560"/>
          </a:xfrm>
          <a:prstGeom prst="rect">
            <a:avLst/>
          </a:prstGeom>
          <a:solidFill>
            <a:srgbClr val="9dc2eb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74600" indent="-174600"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AutoShape 203"/>
          <p:cNvSpPr/>
          <p:nvPr/>
        </p:nvSpPr>
        <p:spPr>
          <a:xfrm>
            <a:off x="8358120" y="6429240"/>
            <a:ext cx="298440" cy="133560"/>
          </a:xfrm>
          <a:prstGeom prst="triangle">
            <a:avLst>
              <a:gd name="adj" fmla="val 50000"/>
            </a:avLst>
          </a:prstGeom>
          <a:solidFill>
            <a:srgbClr val="c4050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366"/>
          <p:cNvSpPr/>
          <p:nvPr/>
        </p:nvSpPr>
        <p:spPr>
          <a:xfrm>
            <a:off x="4786200" y="4786200"/>
            <a:ext cx="857520" cy="214560"/>
          </a:xfrm>
          <a:prstGeom prst="rect">
            <a:avLst/>
          </a:prstGeom>
          <a:solidFill>
            <a:srgbClr val="9dc2eb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74600" indent="-174600"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190"/>
          <p:cNvSpPr/>
          <p:nvPr/>
        </p:nvSpPr>
        <p:spPr>
          <a:xfrm>
            <a:off x="7850160" y="6508800"/>
            <a:ext cx="1079640" cy="277920"/>
          </a:xfrm>
          <a:prstGeom prst="rect">
            <a:avLst/>
          </a:prstGeom>
          <a:gradFill rotWithShape="0">
            <a:gsLst>
              <a:gs pos="0">
                <a:srgbClr val="f8f8f8"/>
              </a:gs>
              <a:gs pos="100000">
                <a:srgbClr val="eaeaea"/>
              </a:gs>
            </a:gsLst>
            <a:lin ang="5400000"/>
          </a:gradFill>
          <a:ln w="12600">
            <a:solidFill>
              <a:srgbClr val="c0c0c0"/>
            </a:solidFill>
            <a:miter/>
          </a:ln>
          <a:effectLst>
            <a:outerShdw dist="17819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74600" indent="-17460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W L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6T08:52:01Z</dcterms:created>
  <dc:creator>mpreston</dc:creator>
  <dc:description/>
  <dc:language>en-US</dc:language>
  <cp:lastModifiedBy>Administrator</cp:lastModifiedBy>
  <dcterms:modified xsi:type="dcterms:W3CDTF">2010-06-17T10:17:32Z</dcterms:modified>
  <cp:revision>128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85918A57760A5C40B47190E6F5572F40</vt:lpwstr>
  </property>
</Properties>
</file>