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73B-F9F1-445A-957F-604DC83B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A20-2A32-4C92-95C1-58B26BF4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C43-08F1-4B5B-94B1-C5937D7A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035-E7CE-40B8-AD17-ABF189B5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172-4DB8-4091-9F57-5434C2E0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102-464E-4BB8-B5AD-CCB6C06E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FE4-9955-4180-818F-A1665D0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7D0-C896-4DC6-A525-EF08E477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A2-B006-4DE5-8535-502B7762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F3C-2010-4B2D-843E-7AA990B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3E0-872C-44B5-8832-351C383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581-056E-45D8-8F2A-DFE5C2D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CD27-3D23-40D5-B853-34652072E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Irishlogo"/>
          <p:cNvPicPr/>
          <p:nvPr/>
        </p:nvPicPr>
        <p:blipFill>
          <a:blip r:embed="rId2"/>
          <a:stretch/>
        </p:blipFill>
        <p:spPr>
          <a:xfrm>
            <a:off x="142920" y="14292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UtilityRegulator"/>
          <p:cNvPicPr/>
          <p:nvPr/>
        </p:nvPicPr>
        <p:blipFill>
          <a:blip r:embed="rId3"/>
          <a:stretch/>
        </p:blipFill>
        <p:spPr>
          <a:xfrm>
            <a:off x="5500800" y="357120"/>
            <a:ext cx="290484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tra Day Trading Working Group 3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ngestion Management Guidelines -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 CMG Provisions on Intra Da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gulation 714/2009 on Cross Border Exchanges in Electricit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1 of Reg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‘Regulation aims at setting fair rules for cross-border exchanges in electricity thus enhancing competition within the internal market in electricity, taking into account the particular characteristics of national and regional market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18.1 of Reg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uidelines on the management and allocation of available transmission capacity of interconnections between national systems are laid out in Annex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nex 1: Congestion Management Guideli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s 1.9: 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y January 2008, mechanisms for the intra-day congestion management of interconnector capacity shall be established in a coordinated way and under secure operational conditions, in order to maximise opportunities for trade and provide for cross- border balancin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4.3  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, inter alia, ‘intra day allocation of available transmission capacity for day D shall take place on days D-1 and D, after the issuing of the indicated or actual day-ahead production schedule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tra Day for S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consistent definition of Intra Day in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in ENTSO-E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l Report on Development and Implementation of a Coordinated Model for Regional and Inter-Regional Congestion Manag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’ (January 2009 - ETSO-EuroPEX study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‘after the closure of the day-ahead market and before real time balancing action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overall provisions of Congestion Management Guidelines – regional coordination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ra Day arrangements should be developed in the SEM in line with the SEMC Decision on Regional Integration and  based on the costs and benefits to the mark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5:11:11Z</dcterms:created>
  <dc:creator>pnewsome</dc:creator>
  <dc:description/>
  <dc:language>en-US</dc:language>
  <cp:lastModifiedBy>pnewsome</cp:lastModifiedBy>
  <dcterms:modified xsi:type="dcterms:W3CDTF">2010-06-14T17:03:13Z</dcterms:modified>
  <cp:revision>37</cp:revision>
  <dc:subject/>
  <dc:title>Slide 1</dc:title>
</cp:coreProperties>
</file>