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21E2-198A-417A-A476-F30E704A85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52B54-E4E2-4620-B077-4C31D294D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B5B23-3286-46E2-98FC-C7C3594C9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6FCA1-261C-477F-A746-72D02C559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F51EF-DE03-4071-AAB3-D566C4954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3DAAA-E535-45EE-8F28-D8F58D670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62CF-2819-4B0B-B1E4-3DC4B22F5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1999E-5871-4F36-BAC5-096892DF7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CFEF9-00E1-4A84-8213-8C17B070A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E8E2C-9623-4DEB-9B20-48F26718F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534D-83CA-4759-95BF-28251C07D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B3D9-2B83-4AEC-A333-9125B01D1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4AE08-92E4-4860-8432-056F47757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6237-0433-428D-BFDE-7AC675ADD56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wmf"/><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esentation of the results of the  SEM participants meeting to WG4</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2d - Transparenc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ice transparency provides a clear investment signal for both generation and supply si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e lack of a clear investment signal may, in turn, have a negative effect on security of supply in the longer te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3 - That the arrangements do not impose undue cost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t is important that the total costs of an option are understood, which go beyond the short term costs of installation of software and hardwa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 the long term the impacts on market price, both directly on SMP and indirectly through constraints and the distribution of the capacity pot need to be evaluated and understoo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ptions that prevent all generators from rebidding expose SEM generators to an unacceptable level of market price risk, as they will bid at DA prices, but then be rescheduled and have to trade out at WD p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4 - Consistency with the high level principles of the SEM</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e working group was set up with the mandate that a fundamental change to the SEM was not envisaged, however, what constitutes a “fundamental change” has still to be clearly defined.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e recommend that it be defined as a change to any of the high level principles of the S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gressing options from this working group</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reiterate, we are here to generate, develop and contribute to ideas to further the development of the SEM for the benefit of all stakehold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Working Group was set up to develop the specific TSC drafting for the intraday mo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hile there are no rules in the TSC in relation to Working Groups of the Modifications Committee, we expect all members of the Working Group have an equal voic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final drafting for the intraday mod should be agreed by all members of the Working Group.</a:t>
            </a:r>
            <a:r>
              <a:rPr b="0" lang="en-I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END</a:t>
            </a: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50920" y="2276640"/>
            <a:ext cx="2200320" cy="514080"/>
          </a:xfrm>
          <a:prstGeom prst="rect">
            <a:avLst/>
          </a:prstGeom>
          <a:ln w="0">
            <a:noFill/>
          </a:ln>
        </p:spPr>
      </p:pic>
      <p:pic>
        <p:nvPicPr>
          <p:cNvPr id="51" name="" descr=""/>
          <p:cNvPicPr/>
          <p:nvPr/>
        </p:nvPicPr>
        <p:blipFill>
          <a:blip r:embed="rId2"/>
          <a:stretch/>
        </p:blipFill>
        <p:spPr>
          <a:xfrm>
            <a:off x="468360" y="3284640"/>
            <a:ext cx="904680" cy="581040"/>
          </a:xfrm>
          <a:prstGeom prst="rect">
            <a:avLst/>
          </a:prstGeom>
          <a:ln w="0">
            <a:noFill/>
          </a:ln>
        </p:spPr>
      </p:pic>
      <p:pic>
        <p:nvPicPr>
          <p:cNvPr id="52" name="" descr=""/>
          <p:cNvPicPr/>
          <p:nvPr/>
        </p:nvPicPr>
        <p:blipFill>
          <a:blip r:embed="rId3"/>
          <a:stretch/>
        </p:blipFill>
        <p:spPr>
          <a:xfrm>
            <a:off x="324000" y="4437000"/>
            <a:ext cx="2085840" cy="1019160"/>
          </a:xfrm>
          <a:prstGeom prst="rect">
            <a:avLst/>
          </a:prstGeom>
          <a:ln w="0">
            <a:noFill/>
          </a:ln>
        </p:spPr>
      </p:pic>
      <p:pic>
        <p:nvPicPr>
          <p:cNvPr id="53" name="" descr=""/>
          <p:cNvPicPr/>
          <p:nvPr/>
        </p:nvPicPr>
        <p:blipFill>
          <a:blip r:embed="rId4"/>
          <a:stretch/>
        </p:blipFill>
        <p:spPr>
          <a:xfrm>
            <a:off x="6804000" y="2205000"/>
            <a:ext cx="1467000" cy="1152720"/>
          </a:xfrm>
          <a:prstGeom prst="rect">
            <a:avLst/>
          </a:prstGeom>
          <a:ln w="0">
            <a:noFill/>
          </a:ln>
        </p:spPr>
      </p:pic>
      <p:pic>
        <p:nvPicPr>
          <p:cNvPr id="54" name="" descr=""/>
          <p:cNvPicPr/>
          <p:nvPr/>
        </p:nvPicPr>
        <p:blipFill>
          <a:blip r:embed="rId5"/>
          <a:stretch/>
        </p:blipFill>
        <p:spPr>
          <a:xfrm>
            <a:off x="6443640" y="3716280"/>
            <a:ext cx="2562120" cy="609480"/>
          </a:xfrm>
          <a:prstGeom prst="rect">
            <a:avLst/>
          </a:prstGeom>
          <a:ln w="0">
            <a:noFill/>
          </a:ln>
        </p:spPr>
      </p:pic>
      <p:pic>
        <p:nvPicPr>
          <p:cNvPr id="55" name="" descr=""/>
          <p:cNvPicPr/>
          <p:nvPr/>
        </p:nvPicPr>
        <p:blipFill>
          <a:blip r:embed="rId6"/>
          <a:stretch/>
        </p:blipFill>
        <p:spPr>
          <a:xfrm>
            <a:off x="6659640" y="4581360"/>
            <a:ext cx="2095560" cy="723960"/>
          </a:xfrm>
          <a:prstGeom prst="rect">
            <a:avLst/>
          </a:prstGeom>
          <a:ln w="0">
            <a:noFill/>
          </a:ln>
        </p:spPr>
      </p:pic>
      <p:pic>
        <p:nvPicPr>
          <p:cNvPr id="56" name="" descr=""/>
          <p:cNvPicPr/>
          <p:nvPr/>
        </p:nvPicPr>
        <p:blipFill>
          <a:blip r:embed="rId7"/>
          <a:stretch/>
        </p:blipFill>
        <p:spPr>
          <a:xfrm>
            <a:off x="324000" y="5805360"/>
            <a:ext cx="2133360" cy="533520"/>
          </a:xfrm>
          <a:prstGeom prst="rect">
            <a:avLst/>
          </a:prstGeom>
          <a:ln w="0">
            <a:noFill/>
          </a:ln>
        </p:spPr>
      </p:pic>
      <p:pic>
        <p:nvPicPr>
          <p:cNvPr id="57" name="" descr=""/>
          <p:cNvPicPr/>
          <p:nvPr/>
        </p:nvPicPr>
        <p:blipFill>
          <a:blip r:embed="rId8"/>
          <a:stretch/>
        </p:blipFill>
        <p:spPr>
          <a:xfrm>
            <a:off x="6084720" y="5661000"/>
            <a:ext cx="2448000" cy="552600"/>
          </a:xfrm>
          <a:prstGeom prst="rect">
            <a:avLst/>
          </a:prstGeom>
          <a:ln w="0">
            <a:noFill/>
          </a:ln>
        </p:spPr>
      </p:pic>
      <p:pic>
        <p:nvPicPr>
          <p:cNvPr id="58" name="" descr=""/>
          <p:cNvPicPr/>
          <p:nvPr/>
        </p:nvPicPr>
        <p:blipFill>
          <a:blip r:embed="rId9"/>
          <a:stretch/>
        </p:blipFill>
        <p:spPr>
          <a:xfrm>
            <a:off x="3348000" y="1413000"/>
            <a:ext cx="1933560" cy="581040"/>
          </a:xfrm>
          <a:prstGeom prst="rect">
            <a:avLst/>
          </a:prstGeom>
          <a:ln w="0">
            <a:noFill/>
          </a:ln>
        </p:spPr>
      </p:pic>
      <p:pic>
        <p:nvPicPr>
          <p:cNvPr id="59" name="" descr=""/>
          <p:cNvPicPr/>
          <p:nvPr/>
        </p:nvPicPr>
        <p:blipFill>
          <a:blip r:embed="rId10"/>
          <a:stretch/>
        </p:blipFill>
        <p:spPr>
          <a:xfrm>
            <a:off x="3564000" y="5805360"/>
            <a:ext cx="1971720" cy="409680"/>
          </a:xfrm>
          <a:prstGeom prst="rect">
            <a:avLst/>
          </a:prstGeom>
          <a:ln w="0">
            <a:noFill/>
          </a:ln>
        </p:spPr>
      </p:pic>
      <p:pic>
        <p:nvPicPr>
          <p:cNvPr id="60" name="" descr=""/>
          <p:cNvPicPr/>
          <p:nvPr/>
        </p:nvPicPr>
        <p:blipFill>
          <a:blip r:embed="rId11"/>
          <a:stretch/>
        </p:blipFill>
        <p:spPr>
          <a:xfrm>
            <a:off x="2916360" y="2781360"/>
            <a:ext cx="3097080" cy="1698480"/>
          </a:xfrm>
          <a:prstGeom prst="rect">
            <a:avLst/>
          </a:prstGeom>
          <a:ln w="0">
            <a:noFill/>
          </a:ln>
        </p:spPr>
      </p:pic>
      <p:sp>
        <p:nvSpPr>
          <p:cNvPr id="61" name=""/>
          <p:cNvSpPr/>
          <p:nvPr/>
        </p:nvSpPr>
        <p:spPr>
          <a:xfrm>
            <a:off x="108000" y="274680"/>
            <a:ext cx="8856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Who are the SEM participants Group?</a:t>
            </a:r>
            <a:endParaRPr b="0" lang="en-US" sz="4000" spc="-1" strike="noStrike">
              <a:solidFill>
                <a:srgbClr val="000000"/>
              </a:solidFill>
              <a:latin typeface="Arial"/>
            </a:endParaRPr>
          </a:p>
        </p:txBody>
      </p:sp>
      <p:sp>
        <p:nvSpPr>
          <p:cNvPr id="62" name=""/>
          <p:cNvSpPr/>
          <p:nvPr/>
        </p:nvSpPr>
        <p:spPr>
          <a:xfrm>
            <a:off x="2704320" y="4437000"/>
            <a:ext cx="33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as organiser and secretariat</a:t>
            </a:r>
            <a:endParaRPr b="0" lang="en-US" sz="1800" spc="-1" strike="noStrike">
              <a:solidFill>
                <a:srgbClr val="000000"/>
              </a:solidFill>
              <a:latin typeface="Arial"/>
            </a:endParaRPr>
          </a:p>
        </p:txBody>
      </p:sp>
      <p:pic>
        <p:nvPicPr>
          <p:cNvPr id="63" name="" descr=""/>
          <p:cNvPicPr/>
          <p:nvPr/>
        </p:nvPicPr>
        <p:blipFill>
          <a:blip r:embed="rId12"/>
          <a:stretch/>
        </p:blipFill>
        <p:spPr>
          <a:xfrm>
            <a:off x="179280" y="1125360"/>
            <a:ext cx="2562480" cy="1009800"/>
          </a:xfrm>
          <a:prstGeom prst="rect">
            <a:avLst/>
          </a:prstGeom>
          <a:ln w="0">
            <a:noFill/>
          </a:ln>
        </p:spPr>
      </p:pic>
      <p:pic>
        <p:nvPicPr>
          <p:cNvPr id="64" name="" descr=""/>
          <p:cNvPicPr/>
          <p:nvPr/>
        </p:nvPicPr>
        <p:blipFill>
          <a:blip r:embed="rId13"/>
          <a:stretch/>
        </p:blipFill>
        <p:spPr>
          <a:xfrm>
            <a:off x="6300720" y="1176480"/>
            <a:ext cx="2158920" cy="92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We believe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e are here to generate, develop and contribute to ideas to further the development of the SEM for the benefit of all stakehol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e are not here to rubber stamp, or appear to give our approval to, ideas by our presence at working group meet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Our Concer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at the generator perspective is not being considered ful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at generators input is being largely ignor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threat of the imposition of a solution contradicts the established processes laid out in the TS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re is the need for clear separation between the roles of interconnector asset owner and SEM system operat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riteria for judging options were not agreed at the last meeting, instead they were to be evaluated by participants and agreed upon at WG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riteria to judge options b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e recommend that the criteria for judging options are as follows, and propose that they are adopted by the working group:</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liance with EU requirements</a:t>
            </a:r>
            <a:endParaRPr b="0" lang="en-US" sz="1800" spc="-1" strike="noStrike">
              <a:solidFill>
                <a:srgbClr val="000000"/>
              </a:solidFill>
              <a:latin typeface="Arial"/>
            </a:endParaRPr>
          </a:p>
          <a:p>
            <a:pPr lvl="1" marL="838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liance with the objectives of the TSC</a:t>
            </a:r>
            <a:endParaRPr b="0" lang="en-US" sz="1800" spc="-1" strike="noStrike">
              <a:solidFill>
                <a:srgbClr val="000000"/>
              </a:solidFill>
              <a:latin typeface="Arial"/>
            </a:endParaRPr>
          </a:p>
          <a:p>
            <a:pPr lvl="2" marL="1257480" indent="-343080">
              <a:lnSpc>
                <a:spcPct val="8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n-discrimination (1.3.6)</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fficiency, competition and customer interest with respect to price (1.3.2, 1.3.4, 1.3.7)</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curity of supply (1.3.7)</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ransparency (1.3.5)</a:t>
            </a:r>
            <a:endParaRPr b="0" lang="en-US" sz="1600" spc="-1" strike="noStrike">
              <a:solidFill>
                <a:srgbClr val="000000"/>
              </a:solidFill>
              <a:latin typeface="Arial"/>
            </a:endParaRPr>
          </a:p>
          <a:p>
            <a:pPr lvl="2" marL="125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at the arrangements do not impose undue costs</a:t>
            </a:r>
            <a:endParaRPr b="0" lang="en-US" sz="1800" spc="-1" strike="noStrike">
              <a:solidFill>
                <a:srgbClr val="000000"/>
              </a:solidFill>
              <a:latin typeface="Arial"/>
            </a:endParaRPr>
          </a:p>
          <a:p>
            <a:pPr lvl="1" marL="838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istency with the high level principles of the S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1 - Compliance with EU requirement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learly this is necessary, however, we are concerned about a lack of clarity from the RA’s as to what is or is not compliant, and wh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aim should be to adhere to the spirit and not simply the letter of the law</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UIOLI Vs UIOS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e believe that the choice of UIOLI or UIOSI should be addressed under compli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e would recommend UIOSI so as to provide a basis for the long term booking of capacity on interconnectors and to provide a driver for compliance with the requirement for secondary capacity mark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2a - Non-discriminat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eeting cross interconnector arrangements must not lead to a market that is discriminatory against plant in the SEM – this would fundamentally affect the decision as to where to build future plant, potentially compromising security of supp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principle of non-discrimination applies to the market as a whole and not just access to interconnecto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should be noted that the combined capacity of the two interconnectors is comparable to or greater than the portfolios of most incumbent generato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y option allowing interconnector users only to rebid is discriminat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2b - Efficiency, competition and customer interest with respect to pric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ny changes must not reduce efficiency or impede competition in the marke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ptions introducing constraint based pricing are inefficient and reduce price transparency thus deterring market entry on both generation and retail si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ny option that reduces the active number of participants in a market is clearly anti-competitive and contravenes the high level principles of the S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2c - Security of suppl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ll parties acknowledge the vital importance of security of supply</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impact of options on security of supply can sometimes seem rather opaque</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hen security of supply is used as an argument for or against options it needs to be clearly explained and justified</a:t>
            </a:r>
            <a:endParaRPr b="0" lang="en-US" sz="24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e are concerned about the effect on security of supply of discriminatory and non-transparent pricing o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9T08:27:05Z</dcterms:created>
  <dc:creator>burke_and</dc:creator>
  <dc:description/>
  <dc:language>en-US</dc:language>
  <cp:lastModifiedBy>Aisling O'Donnell</cp:lastModifiedBy>
  <dcterms:modified xsi:type="dcterms:W3CDTF">2010-08-05T14:38:28Z</dcterms:modified>
  <cp:revision>82</cp:revision>
  <dc:subject/>
  <dc:title>Presentation of the NEAI generators meeting to WG4</dc:title>
</cp:coreProperties>
</file>