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1AD8-A5B2-4629-B73E-E37FBDD1580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BF2-A5A2-4718-9F30-9FDC2C704C0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BE2-87BB-4D25-8C6C-CE7BE3470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88A-C3B1-4F70-B87B-B4DE45360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1DB-0CA1-4F92-8F5C-DFFBDF14A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214-EC22-4349-8024-D2DBF3507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and Participant Data Submission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Working Group 8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241200" y="1225440"/>
            <a:ext cx="873144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dification Mod_18_10 raised March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1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s 1 to 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25 Nov 2010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odifications Committee Meeting 32 – Modifications Committee recommended to approve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4 March 2011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EM Committee approve implementation of High Level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1 Feb 2011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odifications Committee Meeting 33 – SEMO to develop legal text based on High Level Desig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0 May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8 </a:t>
            </a: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29 June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9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3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06 September 2011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0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nctional Group 2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0 November 2011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orking Group 1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cap of design,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omments addressed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issues resolved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story of Mod_18_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41200" y="1225440"/>
            <a:ext cx="873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Working Group 8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view the draft rules for Functional Group 1 – Registration and Participant Submission produced by SEMO, ensuring that the resulting Modification Proposal aligns with the agreed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identify and address areas of change to the Code that are not identified by the draf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discuss and address drafting issues raised by SE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o recommend to the Modifications Committee whether legal drafting aligns with the High Lev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8 - Objectiv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41200" y="1225440"/>
            <a:ext cx="873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Working Group 8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ain English Document  FG1 (PED_FG1) describing Code changes in respect of IDT Registration and Participant Submi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gal Drafting covering all Code changes required for FG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orking Group Report to the Modifications 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s Of Reference of Working Group 8 - Deliver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41200" y="1225440"/>
            <a:ext cx="873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Members to review PED, legal drafting and slides in advance of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nts to be submitted before, during or after Working Group on comment spreadsheet provided through Secretari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 for submission of comments to be agreed during Working Grou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te draft changes are based on T&amp;SC V8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ior to Working Group 11, SEMO will provide details of the changes made as a result of comments received.  Changes will be summarised and presented at Working Group 1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85920" y="40968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osed Review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06:11Z</dcterms:created>
  <dc:creator/>
  <dc:description/>
  <dc:language>en-US</dc:language>
  <cp:lastModifiedBy/>
  <dcterms:modified xsi:type="dcterms:W3CDTF">2011-05-30T10:06:16Z</dcterms:modified>
  <cp:revision>1</cp:revision>
  <dc:subject/>
  <dc:title/>
</cp:coreProperties>
</file>