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0683-B3D8-470C-B949-BEAB69ECB04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F28B-50B7-4344-B340-F5848090CDC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558-EB5C-4EC1-891F-112F59CE0F0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96FC-786E-4548-B581-6A0633E4DAF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F00-4534-4156-8E16-47BF53D4BF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BADC-B550-431C-9070-4B593006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C466-779C-40C9-8BF0-F3CBAA16E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01C4-BE80-415A-9730-B1360B5C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9393-B3BA-4A39-BE3B-C219A04AF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810FC-F08B-4A3E-A156-644A1BEFB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13B3B-1E3D-44F3-8F28-03BC046FCA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190ED-D62F-462D-A8E6-C1B90B7693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D358-726A-4D51-94E0-7EB653B57C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14909-22CD-469D-A21A-A53BC9196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D2CB5-9961-43CF-96A9-22AE712B0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8607-A803-44D4-BFFE-E8BCFDF6E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7BEF-CFA8-4CDD-8F34-F6D4D693D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A559A-5488-4555-914B-5D5ABF9A27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F302-0656-4D09-8DB6-B7B724D99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0610-9323-444E-BC27-970658BD5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4187-4262-42FC-B307-74659FC717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30883-DBB1-4F91-85E7-19CD752ED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AC88-89AB-4806-958A-30A58B00C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3AB3-8FAD-4D57-B05A-1B2A32138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19CA-EDB1-47D7-861F-09F86F43A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1606-D029-46D6-898D-D6257FABE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5630-D696-45ED-B88D-01A9EE842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41F2-C3EA-4977-90AE-85178043B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0B96-ED81-4EAD-8995-421C274C3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D37-0323-4B1F-B6A3-6B01278D70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58C-448E-4DE7-B262-DA7D7767AC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3CF2-255C-4A60-9F2A-46497897E4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emand Side Units in S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287-5EC4-4351-9C45-589F3FE52A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“Trading Site” is a device for correctly netting Energy and Capacity Payments when there is both generation and load at the same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th generation &amp; load at the same site then the final settlement position will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nergy payments are based on the NE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pacity payments are based on the NE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traint payments and uninstructed imbalances are based on the GROSS generation while Imperfection Charge are on GROSS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ble Operators Charge on GROSS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Generator Units are registered by the Market Participant at that Trading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re can be only one Supplier Unit at a Trading 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0520" y="1224000"/>
            <a:ext cx="7935840" cy="852480"/>
            <a:chOff x="560520" y="1224000"/>
            <a:chExt cx="7935840" cy="852480"/>
          </a:xfrm>
        </p:grpSpPr>
        <p:sp>
          <p:nvSpPr>
            <p:cNvPr id="99" name=""/>
            <p:cNvSpPr/>
            <p:nvPr/>
          </p:nvSpPr>
          <p:spPr>
            <a:xfrm>
              <a:off x="560520" y="1224000"/>
              <a:ext cx="7935840" cy="85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200" y="1609560"/>
              <a:ext cx="208116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Generator Uni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0840" y="1620720"/>
              <a:ext cx="246384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etting Generato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8960" y="1622520"/>
              <a:ext cx="14853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upplie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8240" y="123336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T R A D I N G   S I T 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28F-B38A-4DB5-B43F-421109FE86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example on the next slide assumes this is registered to the registered participant for the Trading Site (i.e. A Trading Site Supplier Un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ternatively, it could be registered to another Participant (an Associated Supplier Unit) in which case the Netting Generator Unit has a zero quantity for the Trading Site particip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Netting Generator Unit is a virtual unit, registered by the SMO on behalf of the Market Participant at that Trading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7AA6-3AA5-42FF-A342-8D77A60C4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Meter Data and MSQ for the Netting Generator Unit is negative of the lesser of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he absolute value of the total metered values for the Generator Un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he absolute value of the total metered values for the Supplier Un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nergy and Capacity Payments are based on Generator Unit MSQs and the Netting Generator (which is a negative numb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nergy and Capacity Charges are based on Supplier Unit MSQs less Netting Generator Unit output (which is a negative numb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Other settlement terms are still settled on a gross ba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25320" y="1052640"/>
            <a:ext cx="7907400" cy="766800"/>
            <a:chOff x="625320" y="1052640"/>
            <a:chExt cx="7907400" cy="766800"/>
          </a:xfrm>
        </p:grpSpPr>
        <p:sp>
          <p:nvSpPr>
            <p:cNvPr id="111" name=""/>
            <p:cNvSpPr/>
            <p:nvPr/>
          </p:nvSpPr>
          <p:spPr>
            <a:xfrm>
              <a:off x="625320" y="1052640"/>
              <a:ext cx="7907400" cy="76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280" y="1399320"/>
              <a:ext cx="20736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Generator Uni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45560" y="1410840"/>
              <a:ext cx="246384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etting Generato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82880" y="1410840"/>
              <a:ext cx="14853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upplie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960" y="106092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T R A D I N G   S I T 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539640" y="4149720"/>
          <a:ext cx="8361360" cy="2603520"/>
        </p:xfrm>
        <a:graphic>
          <a:graphicData uri="http://schemas.openxmlformats.org/drawingml/2006/table">
            <a:tbl>
              <a:tblPr/>
              <a:tblGrid>
                <a:gridCol w="5368680"/>
                <a:gridCol w="1109880"/>
                <a:gridCol w="1039680"/>
                <a:gridCol w="8431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Unit MW (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Unit MW (B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ing Generator Unit MW (C = -Min(¦A¦,¦B¦)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Unit Energy/Capacity Payment MW (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ing Generator Unit Energy/Capacity Payment MW (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Energy/Capacity Payment MW (A+ 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Unit Energy/Capacity Charge MW (B – 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SU Sett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977760" y="1473120"/>
            <a:ext cx="7315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dministrator</cp:lastModifiedBy>
  <cp:lastPrinted>2002-07-25T14:31:52Z</cp:lastPrinted>
  <dcterms:modified xsi:type="dcterms:W3CDTF">2009-10-21T15:47:02Z</dcterms:modified>
  <cp:revision>757</cp:revision>
  <dc:subject/>
  <dc:title>Training Presentation BLG 190706</dc:title>
</cp:coreProperties>
</file>