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1E185A36-CD44-43CC-A6B0-D82D784165C8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0ECE364-04F8-4E41-9D61-E046D0EDACCD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097-7EC9-432F-8815-5D68B2E9424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582-EEDE-4AFD-919B-F48E7AF6804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E54A-C236-43FE-B3E1-3DE1A3D5D24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6D8-8BB3-4C94-825A-2680B515BCC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BC79-5E22-4BA0-8E8D-B3AAA1C7DD9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A51-B66F-4595-859F-6DCE2CA2F0E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94E-E192-43E8-97AE-755BC6CFA55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88C-FF63-40C7-884D-A500A5CA3CD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7BD-34B6-48D1-9AFB-146B2C0CDFF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022-C3A0-4ED7-BCF2-4CE576BFA0C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450-B11F-4E03-8337-D2CABAA815F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0A5-757F-4BAB-B202-B08B8AB86B2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F1C2-31EF-4D7C-981E-4144BD8591C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E147-390F-4E11-8870-61FA3BA5BA2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1D5-95DB-45F3-8FDD-A4EFF67DE7C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3A8-3947-43FD-B9D5-2AB8990DEC4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2E86-42D3-47B6-BF5E-887E076C0CB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0024-0180-43DD-8C6C-C3F4AB3DBB7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D73E-EF0A-4A67-96E7-6A18E923526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CA2B-D9A4-44E0-B07C-AB4618CE5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535E-8885-41B0-ADDF-07B33F2A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5A4B-D343-44CE-8299-B91557964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3E85-D852-41C2-AC63-01440B8F0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FAE-7BBA-4065-AC51-08BCF7E17A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FE2-7085-49C4-92B1-BBA6E5D9D4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B85-2208-474E-AD1F-B6A28C7A2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5B0-6B7E-4475-B32D-ED63242CCD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792-1235-4201-93A5-DBC8FE5AE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F3D-110E-40F2-A11D-DB136B6F7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80B-6402-4B46-898A-5E6A16DF9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4278-A0A7-4263-8527-B5FAA1D8D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EE6-C155-4A97-B615-CA121EDE8C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612-A792-4582-8AD8-2A0791FC6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0D8-7DFB-4015-80E8-A8722CEC92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FAD-CE7E-436A-91AA-CD2E450C54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279-2C43-488C-ABAD-159F1E1AD8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6D5-B7E6-4B41-B631-14C34D8AE8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28F-3A7F-4411-811B-F270F541CD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A566-ED7D-4BE2-BCFA-CA200313D8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A91C-DDBD-4D1C-BD5C-8BAC8C70FF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391-457A-43BD-B568-396ECE451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1B46-D28C-41CA-8638-1A74F3A157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9308-6F55-4225-8B6C-5353B203D8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DB30-22A6-4D5C-B495-32C3F50024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678A-3321-4319-81A0-E1C19AB0B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47E7-C586-4D4C-A671-CBFBDD140C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CA73-B110-4890-9CFD-097E3A7FCE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74A8-1B73-4C7F-B8C7-AB9C7E3237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CB6-0C29-471F-9775-E0311AAEB1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B3B7F-DD68-4D5F-B95C-AED8964E03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DDC64-0D24-49DB-8120-10148F30AB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96E1D-BF58-41AE-BA16-2D44C4C56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88F8-BD10-4FB1-B447-9DC0A067D2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031BE-2D4A-4288-BC0F-6D1B2075FE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778F8-3338-4F50-9569-B5EA14EC50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C4692-6067-42AF-8A9E-19CB5E8E22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86119-CE94-4AD9-903B-44F68FC40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D4031-D31B-47C5-8E2D-C9E461EBD5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B720D-4B73-45EA-A0D3-755802429F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DB79B-06C8-43C4-A687-9D91A789ED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BB411-3DD2-4ECB-A253-7E1C187546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63AF0-8F79-4E27-93FE-0E2F560417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4D137-FA8B-4CDC-B401-9929675A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49DB-14BF-4ED4-A6D2-801386DDFF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8E4F8-2965-490B-B4F8-2B0927B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D9741-1FB7-4AAE-81AA-A5DB7F59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D4C0F-D5BA-40B5-A170-59E6B5BB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4F94B-7543-4240-8BE5-BB3D797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5DFC8-199B-4089-91EE-5E7853A9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4C2B0-7093-40F4-AA92-852CD33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8CF1D-CC8F-450F-A3ED-1D022C7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659A9-C5F7-4BB5-BCDC-45A3F10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BA311-DEE3-499C-9E3A-834682E5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F3CA2-1ED3-4640-8BDE-49AAE077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4BEC-3864-4A2D-8FB7-A6279186A7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D04E5-C89E-4FE2-B2F0-553D77F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B324-5BB3-4E46-8555-B5B003623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9FA2-5EB3-4A8F-BD48-B2B287A26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79EE-3F66-467F-B78A-3465C9C1E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509C-57D7-4E2C-925F-ABB269479A4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BF0E-87CD-440A-9AE5-4408AB64A88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E71-6AA1-4201-96AE-5F84D3F127E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4A7-2158-45B9-AF01-9A4B52610F7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12BD-9047-49B3-A3DA-264D9612EE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8D9-BA81-434C-A412-50CE4BE7DA7B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56D-C080-4F4C-ADD0-FDA51463F44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26684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725-AFDC-4010-AB06-78ED9D8B16E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1440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example, Netting Quantity for TSSU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-45000" bIns="-450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00000" y="2408400"/>
                <a:ext cx="658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Qs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uh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Guh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P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v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835680" y="3265560"/>
            <a:ext cx="319320" cy="6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4160" y="406224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D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27720" y="443880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Aggr-E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75560" y="4917960"/>
            <a:ext cx="318960" cy="6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5240" y="56721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51240" y="3110040"/>
            <a:ext cx="319320" cy="43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19400" y="35877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NDQ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3280" y="392112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Aggr-E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9800" y="57927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4329000"/>
            <a:ext cx="88920" cy="43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06960" y="4732200"/>
            <a:ext cx="191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NDQ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30840" y="5065560"/>
            <a:ext cx="191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ntp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27720" y="60339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Me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81560" y="613404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Me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1280" y="5416560"/>
            <a:ext cx="88920" cy="43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27720" y="2424240"/>
            <a:ext cx="987480" cy="812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19320" y="2395440"/>
            <a:ext cx="3119400" cy="754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346280" y="5183280"/>
            <a:ext cx="274680" cy="56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97280" y="574848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610380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ntp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57320" y="2044800"/>
            <a:ext cx="5573880" cy="1407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087280" y="3263760"/>
            <a:ext cx="595080" cy="95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15880" y="426708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p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4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8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9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2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3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7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0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4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5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6799-4725-4698-9926-B2C56D43923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266840"/>
            <a:ext cx="914400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Settlement Point Type is associated with numerous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complete a full Settlement run can involve many pre-processing and aggregation job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1139760"/>
          <a:ext cx="914400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0" y="1139760"/>
                    <a:ext cx="9144000" cy="5718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– Trading Payments &amp; Cha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726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– Capacity Payments &amp; Cha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1A36-C7F4-4DB9-AF73-22F506E81B7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Settlement Point Type is associated with numerous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complete a full Settlement run can involve many pre-processing and aggregation job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new Settlement Point Type would need to be configured for all relevant existing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so new calculations as set out in the mod would need to be configur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CD9-0D14-4A30-9577-293E8E99BD6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configuration include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tandar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sociate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Generation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Demand Side Unit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B9F-DF6E-4326-AFE5-90C0880300B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66840"/>
            <a:ext cx="914400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w configuration would need to includ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tandar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n-Interval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sociate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Generation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Demand Side Unit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e – if there is a need to explicitly define an Interval Supplier Unit, this will increase the scope of the chang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DBB5-5235-4B64-AD5D-F9008EB7B1B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 – if option 2.34A from Mod is selected, problem grows considerabl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agraph 2.61 required only one Supplier Unit on a Trading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gebra in section 4 consistent with one Supplier Unit per Trading Site relationship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2.34A requires new T&amp;SC rules on Trading Site netting as current Trading Site model will not wor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Settlement system would be significa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s there benefit? Is there any Trading Site with Non-Interval metering for its Deman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37A-8A05-41BF-B8AA-F895567BDA3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redit Risk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266840"/>
            <a:ext cx="9144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redit Risk system from same vendors as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sess impact of additional Settlement Point Type on Credi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 in Fixed Credit Cover Requirement on Participants –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provide FCCR by Supplier Uni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ecast Demand values for New/Adjusted Participants would need to be adjusted by a forecast correction fact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DBE-7F89-4F89-AC9A-6C0B5B7A38E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1"/>
          <p:cNvSpPr/>
          <p:nvPr/>
        </p:nvSpPr>
        <p:spPr>
          <a:xfrm>
            <a:off x="1736640" y="5454720"/>
            <a:ext cx="1979640" cy="900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8"/>
          <p:cNvSpPr/>
          <p:nvPr/>
        </p:nvSpPr>
        <p:spPr>
          <a:xfrm>
            <a:off x="297000" y="1719360"/>
            <a:ext cx="1979640" cy="34192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1"/>
          <p:cNvSpPr/>
          <p:nvPr/>
        </p:nvSpPr>
        <p:spPr>
          <a:xfrm>
            <a:off x="423720" y="1835280"/>
            <a:ext cx="1711440" cy="49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 Market Systems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533760" y="2708280"/>
            <a:ext cx="2343240" cy="674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554280" y="2887560"/>
            <a:ext cx="2305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rket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551640" y="3109320"/>
            <a:ext cx="2343240" cy="10792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Physical Mar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581280" y="3968640"/>
            <a:ext cx="2343240" cy="674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603600" y="4130640"/>
            <a:ext cx="2305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rket Set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58800" y="1924200"/>
            <a:ext cx="12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425520" y="2465280"/>
            <a:ext cx="1709640" cy="657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695160" y="252576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System Opera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916280" y="5589720"/>
            <a:ext cx="1618920" cy="647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2070000" y="5732640"/>
            <a:ext cx="1287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423720" y="3274920"/>
            <a:ext cx="1711440" cy="76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66640" y="3336840"/>
            <a:ext cx="144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Interconn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Administra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5"/>
          <p:cNvSpPr/>
          <p:nvPr/>
        </p:nvSpPr>
        <p:spPr>
          <a:xfrm>
            <a:off x="423720" y="4159080"/>
            <a:ext cx="1711440" cy="85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92280" y="4275000"/>
            <a:ext cx="117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Meter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Provi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849840" y="1536840"/>
            <a:ext cx="4410000" cy="1033200"/>
          </a:xfrm>
          <a:custGeom>
            <a:avLst/>
            <a:gdLst>
              <a:gd name="textAreaLeft" fmla="*/ 771480 w 4410000"/>
              <a:gd name="textAreaRight" fmla="*/ 3197160 w 4410000"/>
              <a:gd name="textAreaTop" fmla="*/ 138240 h 1033200"/>
              <a:gd name="textAreaBottom" fmla="*/ 894960 h 103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64"/>
          <p:cNvSpPr/>
          <p:nvPr/>
        </p:nvSpPr>
        <p:spPr>
          <a:xfrm rot="10800000">
            <a:off x="3446280" y="4777920"/>
            <a:ext cx="4546440" cy="1484280"/>
          </a:xfrm>
          <a:custGeom>
            <a:avLst/>
            <a:gdLst>
              <a:gd name="textAreaLeft" fmla="*/ 795600 w 4546440"/>
              <a:gd name="textAreaRight" fmla="*/ 3296160 w 4546440"/>
              <a:gd name="textAreaTop" fmla="*/ 198720 h 1484280"/>
              <a:gd name="textAreaBottom" fmla="*/ 128556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9"/>
          <p:cNvSpPr/>
          <p:nvPr/>
        </p:nvSpPr>
        <p:spPr>
          <a:xfrm>
            <a:off x="2322360" y="2798640"/>
            <a:ext cx="989280" cy="540000"/>
          </a:xfrm>
          <a:prstGeom prst="leftRightArrow">
            <a:avLst>
              <a:gd name="adj1" fmla="val 50000"/>
              <a:gd name="adj2" fmla="val 3647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70"/>
          <p:cNvSpPr/>
          <p:nvPr/>
        </p:nvSpPr>
        <p:spPr>
          <a:xfrm rot="5400000">
            <a:off x="4459680" y="3291840"/>
            <a:ext cx="538200" cy="765000"/>
          </a:xfrm>
          <a:prstGeom prst="leftRightArrow">
            <a:avLst>
              <a:gd name="adj1" fmla="val 50213"/>
              <a:gd name="adj2" fmla="val 34625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3"/>
          <p:cNvSpPr/>
          <p:nvPr/>
        </p:nvSpPr>
        <p:spPr>
          <a:xfrm rot="10800000">
            <a:off x="2411280" y="3877920"/>
            <a:ext cx="1035360" cy="153036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156 -0.23676 E">
                                      <p:cBhvr>
                                        <p:cTn id="5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156 -0.23676 E">
                                      <p:cBhvr>
                                        <p:cTn id="5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6FD-64F1-4093-BC8F-BA372CBB9A2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allocation option without a separation of Interval/Non Interval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registration changes in SEM systems or for Participan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Master File Import in SEM system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interface fil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Trading Site model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impact of change for Meter Data Provid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change in Settlement system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change in Credit Risk systems and rul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2A5F-3190-4FA9-ADFF-7A8ACFC8B04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 -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66840"/>
            <a:ext cx="9144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of including Non-Interval metered demand separately in SEM presents most difficult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of application of factor on existing Settlement Point Types still presents substantial body of wor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sess value of Residual Error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certain if it is correct to allocate on the basis of the mod if other factors could be impacting on the volume? (e.g. DLF and TLF errors, Theft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8EB-AE8D-4CC2-8B21-EF78D47803A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 -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66840"/>
            <a:ext cx="9144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uring SEM development, decision that wholesale market did not require Non-Interval Demand to be separated (implemented through SIMDRACS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MO support implementation of Global Aggreg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convinced that the Metering requirement of the SEM need to change to achieve a Global Aggregation solutio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8EA-E165-4E87-868D-39E4AD67511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 Market Systems - Impa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2" idx="1"/>
            <a:endCxn id="251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52" idx="3"/>
            <a:endCxn id="250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51" idx="3"/>
            <a:endCxn id="250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6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FFC8-8461-4499-ABCC-FED122431F6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egistratio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1"/>
            <a:endCxn id="262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5" name=""/>
          <p:cNvCxnSpPr>
            <a:stCxn id="263" idx="3"/>
            <a:endCxn id="261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62" idx="3"/>
            <a:endCxn id="261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BA4-4DCC-4E11-9D7F-60E8304968B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gistration Chang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anage through changes to Registration Data;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impact on MSP softwar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required to Masterfile Import – transfer from Registration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Market Participant Interface require Market Test environm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registration processes in SEM and Retail Market to ensure integrity of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81E-19E7-4C0F-92F4-C2AC75722F0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ter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7" idx="1"/>
            <a:endCxn id="276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9" name=""/>
          <p:cNvCxnSpPr>
            <a:stCxn id="277" idx="3"/>
            <a:endCxn id="275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0" name=""/>
          <p:cNvCxnSpPr>
            <a:stCxn id="276" idx="3"/>
            <a:endCxn id="275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1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7B8-81F2-4FF7-AEE4-FFFEC2B185A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ter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are additional to Registration chang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ing change in Metering Interface will impact on TSO file submiss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SO do not provide metering for Non-Interval Supplier Uni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ossibly redundant change with high cost and no benef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commend Metering Interface is not considered under this mo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F32D-5986-49F6-A23D-381EE6EEB6F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91" idx="1"/>
            <a:endCxn id="290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93" name=""/>
          <p:cNvCxnSpPr>
            <a:stCxn id="291" idx="3"/>
            <a:endCxn id="289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94" name=""/>
          <p:cNvCxnSpPr>
            <a:stCxn id="290" idx="3"/>
            <a:endCxn id="289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4AC-C70C-45AA-9970-DAE9E1CCD8C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ignificant changes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ttlement system is “off the shelf” configurable calculation engin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s off “Settlement Point Type” and “Products”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duct = calcul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ttlement Point Type = SEM unit typ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lculations are completed in processing jobs called “segments”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Emma Kelly</dc:creator>
  <dc:description/>
  <cp:keywords>Rev o</cp:keywords>
  <dc:language>en-US</dc:language>
  <cp:lastModifiedBy>Aisling O'Donnell</cp:lastModifiedBy>
  <cp:lastPrinted>2002-07-25T14:31:52Z</cp:lastPrinted>
  <dcterms:modified xsi:type="dcterms:W3CDTF">2009-11-18T17:33:02Z</dcterms:modified>
  <cp:revision>613</cp:revision>
  <dc:subject>Training Session - Module 1</dc:subject>
  <dc:title>All Island Market for Electricity</dc:title>
</cp:coreProperties>
</file>