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 " initials=" 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9-11-18T11:59:22.317000000" idx="1">
    <p:pos x="4947" y="3388"/>
    <p:text>Do we need to mention that GB correction could be applied to both HH and NHH, it's just that HH has a 0 weighting ton the basis that NHH is deemed to be the primary source of the variance(is my understanding correct?)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90A-1581-4A17-881C-A3CBE232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58F-050C-4D95-A698-FD546E27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CB3-5924-4143-98C9-3F60A3BF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ECD-F5CB-4342-8E97-8AF027F5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675E2-5C1D-4BBA-8B41-961E303FA9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DA9FC-D6A6-47C4-BCD2-4F79BD1611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52900-CAE7-46DF-B0A0-0B90C0B186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8DDEF-4246-48E7-8821-4132D02385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ACCE0-94EA-461B-9A0E-603F1F942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610F7-A29C-4D02-A2FF-3B12E475C8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0A340-7AA7-4638-9D82-EDF86B3E1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33A-01DE-4527-BA9B-6D8FC08B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E3B7-2BB0-4B02-8B5F-0B0F44FADE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7A4A-88C6-4C38-8C6B-A3C683ACD8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0C118-D866-46BA-ADA7-31263A069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3E12C-BC85-4C02-8237-E4B3C1526C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BA092-0CE1-4DD2-BEC7-5734321976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B9E5A-F2B6-4D88-84F2-3F93561E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9453A-480C-4D64-8F2F-55248FC8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C24DD-FDC6-4208-9EC7-9198E6FB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A3E38-6874-41FE-AAA2-9F013A0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24EBB-E68A-4983-84B0-0A753DC0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FC1-D99C-42B6-BE21-807CD5A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DC750-C45C-4138-BE75-39D4047C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9744E-D283-4A0A-9238-B5066CEF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7947A-88DC-48BE-A479-4A5D2FBF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3456A-15A2-4758-8B72-8F96632C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2F310-43C8-46A3-8046-F9CA3FBD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A64B5-B87F-4710-BC27-F69C7E0C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1C16C-7111-4172-9099-7BD0D08C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EB54A-0374-4B2A-B0F8-AA8437A2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D21B0-6BB0-4BA7-BA57-B0F10D69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A9918-5CE0-48E5-A01C-EC30F35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C6B-F503-4366-93A3-7C79269D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21D3D-92D8-475A-AB71-5725D15C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B86A9-658C-4806-9340-BFFFFA23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A77ED-C6A0-429C-8ED1-AA70A72B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ACEF9-66E8-49EC-90B7-6890EDE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F1FE4-BD2E-4AA3-9606-5881877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2A375-EB22-4A74-90B6-393F8CB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D5230-B985-416D-901C-BF31E43B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40F8D-DEC7-4CC1-A1CD-8FD49319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B4E4A-2894-4880-8FFA-91643970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5AEBC-01F3-408F-A7B8-83D3E947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F0F-E487-4EDA-9CF0-2269AA53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23499-D054-485B-8EC8-57DCADC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DDBB4-4F3F-47E1-9AC1-2C14B1A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60CD8-97AC-4335-A004-8F240F92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E5F37-4004-447A-B77C-876CA23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7671C-7FCB-487D-8883-2C7515AE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CEF9A-35A7-499C-A647-753F2850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78B6B-756F-404A-8F9D-40AC8127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65718-4B44-47BE-B54A-4917143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37EDE-BAE2-4EA1-8000-5CEF61E7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A21D8-7FAB-4293-9F3D-C6391673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7C6-CE54-430B-A133-AE7F9599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C37F0-145D-474D-B9C3-39EFD696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C70F1-88ED-44FF-8F65-1D7C0331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95C6D-11E6-43FC-8871-76784093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66574-E183-4EDB-8312-98A62240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27412-B273-4BE9-8791-60CBC35B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547B4-9D90-43A5-87CB-3D814064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BC3B1-3FCF-45B3-916C-D3406D9D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25583-8B84-479A-842D-36E1C50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77D6A-B1E1-42E4-A5B1-D2272DE0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BDB50-4284-4B7E-AF4A-8E69444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EDD-4F82-4088-83D9-C11A8061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C5C97-1ECE-432C-8AE9-5AD5221E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8D9C7-7F81-41A9-BE23-60A3E0E8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F6463-4610-4D35-9CC6-C522AAD9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F0493-F9D4-4B3A-B25A-60F7FF7C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55572-95C6-40ED-9369-EB98999A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4D14F-FD55-471D-A431-77831B2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683B1-3C97-4F4C-8111-37CCC083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CFDB6-CDDF-4811-B76A-C2A46DDF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57F38-9FF5-458D-8768-00D0F68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89EA4-E967-405C-A3B2-975C21DC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D25-DEF6-484F-8251-57A3DB0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5B00E-5C73-4A36-8A23-3F852CB1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3CDE5-62D2-4E93-8702-5CF96A5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E6286-A14F-4558-B8D0-86D0241B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5A227-AEB5-48E3-B363-1EEA68A4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87684-DF34-40E0-BC7D-9DD6877F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EEFEF-DBA1-4875-B6D1-1374A21EDC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27A69D-F1DF-41DD-9072-900E01F56AA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1D8937-0412-4FCB-A36C-231B4ADC7C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A6B721-12B1-43DA-999B-FA05A55CFA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CC1102-E922-412A-ACF3-C6B345E7A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BBF-B98B-43BD-91F5-9982067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AB3114-C7A4-44B7-9024-A4491C2626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4D4336-4F12-4D98-898C-FFDA97EAE5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80CE2-8D33-4EAD-8BF5-4D3E0CF624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6324EF-16D9-4BF4-8220-17BD47FACB6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92D9C8-8E2C-419B-A2D6-A401579A95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34CD1C-A810-46FF-A1C4-F90DADC9827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CE0BC5-95DB-463E-B10E-4907CF61B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4DA0-5DC3-491E-9519-709A4527D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ll marks horizontal copy.jpg"/>
          <p:cNvPicPr/>
          <p:nvPr/>
        </p:nvPicPr>
        <p:blipFill>
          <a:blip r:embed="rId3"/>
          <a:stretch/>
        </p:blipFill>
        <p:spPr>
          <a:xfrm>
            <a:off x="142920" y="6161040"/>
            <a:ext cx="2971800" cy="554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Gemserv Logo Green.jpg"/>
          <p:cNvPicPr/>
          <p:nvPr/>
        </p:nvPicPr>
        <p:blipFill>
          <a:blip r:embed="rId4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9861-75E6-4369-8CD6-A30509CDD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Gemserv Logo Green.jpg"/>
          <p:cNvPicPr/>
          <p:nvPr/>
        </p:nvPicPr>
        <p:blipFill>
          <a:blip r:embed="rId2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pic>
        <p:nvPicPr>
          <p:cNvPr id="84" name="Group 20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343080" cy="6896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7F3-97F5-49A7-80D7-94AB07BD2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Gemserv Logo Green.jpg"/>
          <p:cNvPicPr/>
          <p:nvPr/>
        </p:nvPicPr>
        <p:blipFill>
          <a:blip r:embed="rId3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21FA-5E05-4139-B637-4FF7C58DB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Group 6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343080" cy="6896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Gemserv Logo Green.jpg"/>
          <p:cNvPicPr/>
          <p:nvPr/>
        </p:nvPicPr>
        <p:blipFill>
          <a:blip r:embed="rId3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768-F86B-4767-90A4-BAABEE9DC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Gemserv Logo Green.jpg"/>
          <p:cNvPicPr/>
          <p:nvPr/>
        </p:nvPicPr>
        <p:blipFill>
          <a:blip r:embed="rId2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pic>
        <p:nvPicPr>
          <p:cNvPr id="212" name="Group 7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343080" cy="6896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0BCD-3CB8-4856-B2FA-F3B5362C7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Group 6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343080" cy="6896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Gemserv Logo Green.jpg"/>
          <p:cNvPicPr/>
          <p:nvPr/>
        </p:nvPicPr>
        <p:blipFill>
          <a:blip r:embed="rId3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ABA8-2F3C-4F15-B6FF-FF5C4423C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Gemserv Logo Green.jpg"/>
          <p:cNvPicPr/>
          <p:nvPr/>
        </p:nvPicPr>
        <p:blipFill>
          <a:blip r:embed="rId3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9ABA-BBA8-4180-AA34-435F4AC7C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1467000"/>
            <a:ext cx="48765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sentation to the Global Aggregation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514600" y="4800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</a:rPr>
              <a:t>Malcolm Row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Arial"/>
              </a:rPr>
              <a:t>19</a:t>
            </a:r>
            <a:r>
              <a:rPr b="0" lang="en-GB" sz="20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898989"/>
                </a:solidFill>
                <a:latin typeface="Arial"/>
              </a:rPr>
              <a:t>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ADRs by Day Type and Settlemen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074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Definition of Annual Demand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ADR is (annual GSP Group Take minus annual HH consumption) / (total annual profiled NHH consumption) or equivalentl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37373"/>
                </a:solidFill>
                <a:latin typeface="Arial"/>
              </a:rPr>
              <a:t>annual corrected / annual uncorrected consumption, which equates t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37373"/>
                </a:solidFill>
                <a:latin typeface="Arial"/>
              </a:rPr>
              <a:t>average annual GGC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ADRs based on latest Settlement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501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Distribution of Half-Hour </a:t>
            </a:r>
            <a:br>
              <a:rPr sz="3200"/>
            </a:b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Correction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% of Non Interval Energy Settled </a:t>
            </a:r>
            <a:br>
              <a:rPr sz="3200"/>
            </a:b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on AUFs at M+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358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Transmission losses (%) based on first reconciliation r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7929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Outlin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Generic requirements for any competitive mar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NIE Enduring Solution Proj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Experience from an adjacent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Generic requirements for any </a:t>
            </a:r>
            <a:br>
              <a:rPr sz="3200"/>
            </a:b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competitive utility</a:t>
            </a:r>
            <a:r>
              <a:rPr b="0" lang="en-GB" sz="32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No unreasonable </a:t>
            </a:r>
            <a:r>
              <a:rPr b="0" lang="en-GB" sz="2600" spc="-1" strike="noStrike">
                <a:solidFill>
                  <a:srgbClr val="7f7f7f"/>
                </a:solidFill>
                <a:latin typeface="Arial"/>
              </a:rPr>
              <a:t>barriers to entry or ex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Central market processes should be efficient, economical </a:t>
            </a:r>
            <a:r>
              <a:rPr b="0" lang="en-GB" sz="2600" spc="-1" strike="noStrike">
                <a:solidFill>
                  <a:srgbClr val="7f7f7f"/>
                </a:solidFill>
                <a:latin typeface="Arial"/>
              </a:rPr>
              <a:t>and fully transparent to the mar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Arial"/>
              </a:rPr>
              <a:t>Appropriate 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Arial"/>
              </a:rPr>
              <a:t>Appropriate market and performance assurance to provide market conf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A level playing field for all particip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NIE’s Enduring Solutio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680" y="15001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NIAUR has asked NIE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37373"/>
                </a:solidFill>
                <a:latin typeface="Arial"/>
              </a:rPr>
              <a:t>include the capability to support Global Aggregation in their MDP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37373"/>
                </a:solidFill>
                <a:latin typeface="Arial"/>
              </a:rPr>
              <a:t>systems should be available ASAP (end of 2011/early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37373"/>
                </a:solidFill>
                <a:latin typeface="Arial"/>
              </a:rPr>
              <a:t>ensure that systems are not be dependent on SEMO Global Aggregation being introduced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37373"/>
                </a:solidFill>
                <a:latin typeface="Arial"/>
              </a:rPr>
              <a:t>Ensure that systems operate on the basis of PES aggregation only, in any interim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Jurisdictional Settlement Period </a:t>
            </a:r>
            <a:br>
              <a:rPr sz="3200"/>
            </a:b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Residual Meter Volu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71680" y="164268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Meter inaccuracies (CoP and Certifi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UMS supplied estimation 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Use of annual Transmission L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Use of annual Distribution NW  L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Less than 100% of MPs being reconciled using actual meter re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Profiling err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Energy Settlement by Differenc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3"/>
          <p:cNvSpPr/>
          <p:nvPr/>
        </p:nvSpPr>
        <p:spPr>
          <a:xfrm>
            <a:off x="2770200" y="1647720"/>
            <a:ext cx="3483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4"/>
          <p:cNvSpPr/>
          <p:nvPr/>
        </p:nvSpPr>
        <p:spPr>
          <a:xfrm>
            <a:off x="2398680" y="2720880"/>
            <a:ext cx="3483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lowchart: Or 5"/>
          <p:cNvSpPr/>
          <p:nvPr/>
        </p:nvSpPr>
        <p:spPr>
          <a:xfrm>
            <a:off x="906480" y="5838840"/>
            <a:ext cx="484200" cy="401760"/>
          </a:xfrm>
          <a:prstGeom prst="flowChar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lowchart: Process 6"/>
          <p:cNvSpPr/>
          <p:nvPr/>
        </p:nvSpPr>
        <p:spPr>
          <a:xfrm>
            <a:off x="550800" y="3400560"/>
            <a:ext cx="1197000" cy="550800"/>
          </a:xfrm>
          <a:prstGeom prst="flowChartProcess">
            <a:avLst/>
          </a:prstGeom>
          <a:solidFill>
            <a:srgbClr val="86a64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a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576000" y="626256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NHH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(STS on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8"/>
          <p:cNvCxnSpPr>
            <a:stCxn id="351" idx="0"/>
            <a:endCxn id="355" idx="2"/>
          </p:cNvCxnSpPr>
          <p:nvPr/>
        </p:nvCxnSpPr>
        <p:spPr>
          <a:xfrm flipV="1">
            <a:off x="1146600" y="5316120"/>
            <a:ext cx="2520" cy="52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6" name="Straight Arrow Connector 9"/>
          <p:cNvCxnSpPr>
            <a:stCxn id="355" idx="0"/>
            <a:endCxn id="352" idx="2"/>
          </p:cNvCxnSpPr>
          <p:nvPr/>
        </p:nvCxnSpPr>
        <p:spPr>
          <a:xfrm flipV="1">
            <a:off x="1146600" y="3952440"/>
            <a:ext cx="2520" cy="81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TextBox 14"/>
          <p:cNvSpPr/>
          <p:nvPr/>
        </p:nvSpPr>
        <p:spPr>
          <a:xfrm>
            <a:off x="681840" y="5491080"/>
            <a:ext cx="933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528480" y="4143240"/>
            <a:ext cx="1241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AUFs and EU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2390760" y="2714760"/>
            <a:ext cx="1022400" cy="103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Profiled Demand for NHH custom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Elbow Connector 13"/>
          <p:cNvCxnSpPr>
            <a:stCxn id="352" idx="3"/>
            <a:endCxn id="359" idx="1"/>
          </p:cNvCxnSpPr>
          <p:nvPr/>
        </p:nvCxnSpPr>
        <p:spPr>
          <a:xfrm flipV="1">
            <a:off x="1747800" y="3231360"/>
            <a:ext cx="643320" cy="4453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1" name="Straight Connector 14"/>
          <p:cNvSpPr/>
          <p:nvPr/>
        </p:nvSpPr>
        <p:spPr>
          <a:xfrm flipH="1" flipV="1">
            <a:off x="-360" y="4879440"/>
            <a:ext cx="876780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7597800" y="1322280"/>
            <a:ext cx="1263600" cy="3571920"/>
          </a:xfrm>
          <a:prstGeom prst="rect">
            <a:avLst/>
          </a:prstGeom>
          <a:solidFill>
            <a:srgbClr val="00009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Generator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6541920" y="1327320"/>
            <a:ext cx="1032120" cy="309240"/>
          </a:xfrm>
          <a:prstGeom prst="rect">
            <a:avLst/>
          </a:prstGeom>
          <a:solidFill>
            <a:srgbClr val="00009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</a:rPr>
              <a:t>Tran Los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5264280" y="1623960"/>
            <a:ext cx="1265040" cy="3270240"/>
          </a:xfrm>
          <a:prstGeom prst="rect">
            <a:avLst/>
          </a:prstGeom>
          <a:solidFill>
            <a:srgbClr val="00b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Units delivered to BSP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Each Jurisdi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2376360" y="3759120"/>
            <a:ext cx="1028880" cy="1068480"/>
          </a:xfrm>
          <a:prstGeom prst="rect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HHM metered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lowchart: Process 20"/>
          <p:cNvSpPr/>
          <p:nvPr/>
        </p:nvSpPr>
        <p:spPr>
          <a:xfrm>
            <a:off x="550800" y="4765680"/>
            <a:ext cx="1197000" cy="5508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Meter data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lowchart: Or 21"/>
          <p:cNvSpPr/>
          <p:nvPr/>
        </p:nvSpPr>
        <p:spPr>
          <a:xfrm>
            <a:off x="906480" y="1347840"/>
            <a:ext cx="484200" cy="401760"/>
          </a:xfrm>
          <a:prstGeom prst="flowChartOr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lowchart: Process 22"/>
          <p:cNvSpPr/>
          <p:nvPr/>
        </p:nvSpPr>
        <p:spPr>
          <a:xfrm>
            <a:off x="550800" y="2386080"/>
            <a:ext cx="1197000" cy="550800"/>
          </a:xfrm>
          <a:prstGeom prst="flowChartProcess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Meter data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632160" y="10717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H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24"/>
          <p:cNvCxnSpPr>
            <a:stCxn id="366" idx="4"/>
          </p:cNvCxnSpPr>
          <p:nvPr/>
        </p:nvCxnSpPr>
        <p:spPr>
          <a:xfrm flipH="1">
            <a:off x="1146960" y="1749600"/>
            <a:ext cx="2520" cy="637200"/>
          </a:xfrm>
          <a:prstGeom prst="straightConnector1">
            <a:avLst/>
          </a:prstGeom>
          <a:ln w="9360">
            <a:solidFill>
              <a:srgbClr val="376092"/>
            </a:solidFill>
            <a:miter/>
            <a:tailEnd len="med" type="arrow" w="med"/>
          </a:ln>
        </p:spPr>
      </p:cxnSp>
      <p:cxnSp>
        <p:nvCxnSpPr>
          <p:cNvPr id="370" name="Straight Arrow Connector 25"/>
          <p:cNvCxnSpPr/>
          <p:nvPr/>
        </p:nvCxnSpPr>
        <p:spPr>
          <a:xfrm flipH="1">
            <a:off x="1146960" y="2936880"/>
            <a:ext cx="2520" cy="465840"/>
          </a:xfrm>
          <a:prstGeom prst="straightConnector1">
            <a:avLst/>
          </a:prstGeom>
          <a:ln w="9360">
            <a:solidFill>
              <a:srgbClr val="376092"/>
            </a:solidFill>
            <a:miter/>
            <a:tailEnd len="med" type="arrow" w="med"/>
          </a:ln>
        </p:spPr>
      </p:cxnSp>
      <p:sp>
        <p:nvSpPr>
          <p:cNvPr id="371" name="TextBox 14"/>
          <p:cNvSpPr/>
          <p:nvPr/>
        </p:nvSpPr>
        <p:spPr>
          <a:xfrm>
            <a:off x="688320" y="1928880"/>
            <a:ext cx="933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Elbow Connector 27"/>
          <p:cNvCxnSpPr>
            <a:endCxn id="352" idx="1"/>
          </p:cNvCxnSpPr>
          <p:nvPr/>
        </p:nvCxnSpPr>
        <p:spPr>
          <a:xfrm>
            <a:off x="175680" y="3247560"/>
            <a:ext cx="37548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3" name="Elbow Connector 28"/>
          <p:cNvCxnSpPr>
            <a:endCxn id="352" idx="1"/>
          </p:cNvCxnSpPr>
          <p:nvPr/>
        </p:nvCxnSpPr>
        <p:spPr>
          <a:xfrm flipV="1">
            <a:off x="171360" y="3675960"/>
            <a:ext cx="380160" cy="44028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4" name="Elbow Connector 29"/>
          <p:cNvCxnSpPr>
            <a:stCxn id="352" idx="3"/>
            <a:endCxn id="365" idx="1"/>
          </p:cNvCxnSpPr>
          <p:nvPr/>
        </p:nvCxnSpPr>
        <p:spPr>
          <a:xfrm>
            <a:off x="1747800" y="3676320"/>
            <a:ext cx="629280" cy="618120"/>
          </a:xfrm>
          <a:prstGeom prst="bentConnector3">
            <a:avLst>
              <a:gd name="adj1" fmla="val 4997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Rectangle 30"/>
          <p:cNvSpPr/>
          <p:nvPr/>
        </p:nvSpPr>
        <p:spPr>
          <a:xfrm>
            <a:off x="3805200" y="1649520"/>
            <a:ext cx="1030320" cy="1079280"/>
          </a:xfrm>
          <a:prstGeom prst="rect">
            <a:avLst/>
          </a:prstGeom>
          <a:solidFill>
            <a:srgbClr val="c00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8"/>
          <p:cNvSpPr/>
          <p:nvPr/>
        </p:nvSpPr>
        <p:spPr>
          <a:xfrm>
            <a:off x="4745160" y="5000760"/>
            <a:ext cx="43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Residual volume assigned to NIEES /ESBN using Error Supplier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9"/>
          <p:cNvSpPr/>
          <p:nvPr/>
        </p:nvSpPr>
        <p:spPr>
          <a:xfrm>
            <a:off x="1857240" y="5857920"/>
            <a:ext cx="56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Metered or profiled volumes are uplifted in DA to reflect distribution line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hape 33"/>
          <p:cNvCxnSpPr>
            <a:stCxn id="376" idx="1"/>
            <a:endCxn id="375" idx="2"/>
          </p:cNvCxnSpPr>
          <p:nvPr/>
        </p:nvCxnSpPr>
        <p:spPr>
          <a:xfrm rot="10800000">
            <a:off x="4320360" y="2728080"/>
            <a:ext cx="424800" cy="25963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79" name="Elbow Connector 38"/>
          <p:cNvCxnSpPr>
            <a:stCxn id="359" idx="3"/>
          </p:cNvCxnSpPr>
          <p:nvPr/>
        </p:nvCxnSpPr>
        <p:spPr>
          <a:xfrm>
            <a:off x="3413160" y="3232080"/>
            <a:ext cx="364320" cy="26974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Energy Settlement - Glob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43"/>
          <p:cNvSpPr/>
          <p:nvPr/>
        </p:nvSpPr>
        <p:spPr>
          <a:xfrm>
            <a:off x="3359160" y="1279440"/>
            <a:ext cx="298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75"/>
          <p:cNvSpPr/>
          <p:nvPr/>
        </p:nvSpPr>
        <p:spPr>
          <a:xfrm>
            <a:off x="3349800" y="1549440"/>
            <a:ext cx="291960" cy="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lowchart: Or 5"/>
          <p:cNvSpPr/>
          <p:nvPr/>
        </p:nvSpPr>
        <p:spPr>
          <a:xfrm>
            <a:off x="735120" y="5627520"/>
            <a:ext cx="484200" cy="401760"/>
          </a:xfrm>
          <a:prstGeom prst="flowChar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lowchart: Process 6"/>
          <p:cNvSpPr/>
          <p:nvPr/>
        </p:nvSpPr>
        <p:spPr>
          <a:xfrm>
            <a:off x="379440" y="3189240"/>
            <a:ext cx="1197000" cy="550800"/>
          </a:xfrm>
          <a:prstGeom prst="flowChartProcess">
            <a:avLst/>
          </a:prstGeom>
          <a:solidFill>
            <a:srgbClr val="86a64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a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traight Arrow Connector 7"/>
          <p:cNvCxnSpPr>
            <a:stCxn id="383" idx="0"/>
            <a:endCxn id="386" idx="2"/>
          </p:cNvCxnSpPr>
          <p:nvPr/>
        </p:nvCxnSpPr>
        <p:spPr>
          <a:xfrm flipV="1">
            <a:off x="976320" y="5105160"/>
            <a:ext cx="2160" cy="52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7" name="Straight Arrow Connector 8"/>
          <p:cNvCxnSpPr>
            <a:stCxn id="386" idx="0"/>
            <a:endCxn id="384" idx="2"/>
          </p:cNvCxnSpPr>
          <p:nvPr/>
        </p:nvCxnSpPr>
        <p:spPr>
          <a:xfrm flipV="1">
            <a:off x="976320" y="3741120"/>
            <a:ext cx="2160" cy="81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TextBox 14"/>
          <p:cNvSpPr/>
          <p:nvPr/>
        </p:nvSpPr>
        <p:spPr>
          <a:xfrm>
            <a:off x="510480" y="5240160"/>
            <a:ext cx="933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357120" y="3857760"/>
            <a:ext cx="1241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AUFs and EU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2333520" y="1373040"/>
            <a:ext cx="1022400" cy="16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Profiled Demand for NHH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</a:rPr>
              <a:t>Include DN LLF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Elbow Connector 19"/>
          <p:cNvCxnSpPr>
            <a:stCxn id="384" idx="3"/>
            <a:endCxn id="390" idx="1"/>
          </p:cNvCxnSpPr>
          <p:nvPr/>
        </p:nvCxnSpPr>
        <p:spPr>
          <a:xfrm flipV="1">
            <a:off x="1588680" y="2180520"/>
            <a:ext cx="732600" cy="1284840"/>
          </a:xfrm>
          <a:prstGeom prst="bentConnector3">
            <a:avLst>
              <a:gd name="adj1" fmla="val 49852"/>
            </a:avLst>
          </a:prstGeom>
          <a:ln w="9360">
            <a:solidFill>
              <a:srgbClr val="ed8700"/>
            </a:solidFill>
            <a:miter/>
            <a:tailEnd len="med" type="arrow" w="med"/>
          </a:ln>
        </p:spPr>
      </p:cxnSp>
      <p:sp>
        <p:nvSpPr>
          <p:cNvPr id="392" name="Straight Connector 13"/>
          <p:cNvSpPr/>
          <p:nvPr/>
        </p:nvSpPr>
        <p:spPr>
          <a:xfrm flipH="1" flipV="1">
            <a:off x="604440" y="4893840"/>
            <a:ext cx="876780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7426440" y="1111320"/>
            <a:ext cx="1263600" cy="3571920"/>
          </a:xfrm>
          <a:prstGeom prst="rect">
            <a:avLst/>
          </a:prstGeom>
          <a:solidFill>
            <a:srgbClr val="00009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Generator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2332080" y="3011400"/>
            <a:ext cx="1028520" cy="1635120"/>
          </a:xfrm>
          <a:prstGeom prst="rect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HHM metered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</a:rPr>
              <a:t>Include DN LLF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lowchart: Process 17"/>
          <p:cNvSpPr/>
          <p:nvPr/>
        </p:nvSpPr>
        <p:spPr>
          <a:xfrm>
            <a:off x="379440" y="4554360"/>
            <a:ext cx="1197000" cy="551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Meter data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owchart: Or 18"/>
          <p:cNvSpPr/>
          <p:nvPr/>
        </p:nvSpPr>
        <p:spPr>
          <a:xfrm>
            <a:off x="735120" y="1320840"/>
            <a:ext cx="484200" cy="401760"/>
          </a:xfrm>
          <a:prstGeom prst="flowChartOr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Process 19"/>
          <p:cNvSpPr/>
          <p:nvPr/>
        </p:nvSpPr>
        <p:spPr>
          <a:xfrm>
            <a:off x="379440" y="2174760"/>
            <a:ext cx="1197000" cy="550800"/>
          </a:xfrm>
          <a:prstGeom prst="flowChartProcess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Meter data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460800" y="10447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H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Straight Arrow Connector 21"/>
          <p:cNvCxnSpPr/>
          <p:nvPr/>
        </p:nvCxnSpPr>
        <p:spPr>
          <a:xfrm flipH="1">
            <a:off x="975960" y="1722600"/>
            <a:ext cx="2160" cy="452880"/>
          </a:xfrm>
          <a:prstGeom prst="straightConnector1">
            <a:avLst/>
          </a:prstGeom>
          <a:ln w="9360">
            <a:solidFill>
              <a:srgbClr val="376092"/>
            </a:solidFill>
            <a:miter/>
            <a:tailEnd len="med" type="arrow" w="med"/>
          </a:ln>
        </p:spPr>
      </p:cxnSp>
      <p:cxnSp>
        <p:nvCxnSpPr>
          <p:cNvPr id="399" name="Straight Arrow Connector 22"/>
          <p:cNvCxnSpPr/>
          <p:nvPr/>
        </p:nvCxnSpPr>
        <p:spPr>
          <a:xfrm flipH="1">
            <a:off x="975960" y="2725200"/>
            <a:ext cx="2160" cy="466200"/>
          </a:xfrm>
          <a:prstGeom prst="straightConnector1">
            <a:avLst/>
          </a:prstGeom>
          <a:ln w="9360">
            <a:solidFill>
              <a:srgbClr val="376092"/>
            </a:solidFill>
            <a:miter/>
            <a:tailEnd len="med" type="arrow" w="med"/>
          </a:ln>
        </p:spPr>
      </p:cxnSp>
      <p:sp>
        <p:nvSpPr>
          <p:cNvPr id="400" name="TextBox 14"/>
          <p:cNvSpPr/>
          <p:nvPr/>
        </p:nvSpPr>
        <p:spPr>
          <a:xfrm>
            <a:off x="564480" y="1774800"/>
            <a:ext cx="933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Elbow Connector 24"/>
          <p:cNvCxnSpPr>
            <a:endCxn id="384" idx="1"/>
          </p:cNvCxnSpPr>
          <p:nvPr/>
        </p:nvCxnSpPr>
        <p:spPr>
          <a:xfrm>
            <a:off x="4320" y="3036960"/>
            <a:ext cx="375480" cy="4291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2" name="Elbow Connector 25"/>
          <p:cNvCxnSpPr>
            <a:endCxn id="384" idx="1"/>
          </p:cNvCxnSpPr>
          <p:nvPr/>
        </p:nvCxnSpPr>
        <p:spPr>
          <a:xfrm flipV="1">
            <a:off x="0" y="3465000"/>
            <a:ext cx="380160" cy="4406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3" name="Elbow Connector 26"/>
          <p:cNvCxnSpPr>
            <a:stCxn id="384" idx="3"/>
            <a:endCxn id="394" idx="1"/>
          </p:cNvCxnSpPr>
          <p:nvPr/>
        </p:nvCxnSpPr>
        <p:spPr>
          <a:xfrm>
            <a:off x="1576080" y="3465360"/>
            <a:ext cx="756360" cy="3643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4" name="TextBox 68"/>
          <p:cNvSpPr/>
          <p:nvPr/>
        </p:nvSpPr>
        <p:spPr>
          <a:xfrm>
            <a:off x="4500720" y="4786200"/>
            <a:ext cx="439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Variance is ‘smeared’ across Suppliers, method to be determined through SEMO (</a:t>
            </a: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n GB applied to NHH volum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Shape 73"/>
          <p:cNvCxnSpPr>
            <a:endCxn id="406" idx="2"/>
          </p:cNvCxnSpPr>
          <p:nvPr/>
        </p:nvCxnSpPr>
        <p:spPr>
          <a:xfrm rot="10800000">
            <a:off x="4403160" y="1590120"/>
            <a:ext cx="86400" cy="3639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407" name="TextBox 69"/>
          <p:cNvSpPr/>
          <p:nvPr/>
        </p:nvSpPr>
        <p:spPr>
          <a:xfrm>
            <a:off x="1428840" y="5857920"/>
            <a:ext cx="56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Metered or profiled volumes are uplifted in DA to reflect distribution line losses (reports show both v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Elbow Connector 38"/>
          <p:cNvCxnSpPr>
            <a:stCxn id="390" idx="3"/>
          </p:cNvCxnSpPr>
          <p:nvPr/>
        </p:nvCxnSpPr>
        <p:spPr>
          <a:xfrm>
            <a:off x="3355920" y="2179440"/>
            <a:ext cx="288000" cy="36788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409" name="Line 39"/>
          <p:cNvSpPr/>
          <p:nvPr/>
        </p:nvSpPr>
        <p:spPr>
          <a:xfrm flipH="1">
            <a:off x="3714480" y="1214280"/>
            <a:ext cx="11160" cy="36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2"/>
          <p:cNvSpPr/>
          <p:nvPr/>
        </p:nvSpPr>
        <p:spPr>
          <a:xfrm>
            <a:off x="2333520" y="1285920"/>
            <a:ext cx="102240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74"/>
          <p:cNvSpPr/>
          <p:nvPr/>
        </p:nvSpPr>
        <p:spPr>
          <a:xfrm>
            <a:off x="2151000" y="1417680"/>
            <a:ext cx="2944800" cy="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4"/>
          <p:cNvSpPr/>
          <p:nvPr/>
        </p:nvSpPr>
        <p:spPr>
          <a:xfrm>
            <a:off x="3887640" y="1285920"/>
            <a:ext cx="1030320" cy="30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5"/>
          <p:cNvSpPr/>
          <p:nvPr/>
        </p:nvSpPr>
        <p:spPr>
          <a:xfrm>
            <a:off x="6370560" y="1116000"/>
            <a:ext cx="1032120" cy="309600"/>
          </a:xfrm>
          <a:prstGeom prst="rect">
            <a:avLst/>
          </a:prstGeom>
          <a:solidFill>
            <a:srgbClr val="00009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</a:rPr>
              <a:t>Tran  Los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5092560" y="1413000"/>
            <a:ext cx="1265400" cy="3270240"/>
          </a:xfrm>
          <a:prstGeom prst="rect">
            <a:avLst/>
          </a:prstGeom>
          <a:solidFill>
            <a:srgbClr val="00b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Units delivered to BSP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Each Jurisdi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GB allocation of the residual meter volumes (M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MDP (Supplier Hub) supplier volume allocation processes similar to Ire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Residual MVs allocated by SEMO equivalent (SVA Agent) by smearing across deemed metered volume (only Non-Interval met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System can prorate smearing between Interval (HH)  and Non-Interval (NHH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Information from ELEXON’s </a:t>
            </a:r>
            <a:br>
              <a:rPr sz="3200"/>
            </a:b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operational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The following information has been provided by ELEXON who have agreed it can be used for the purpose of this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5:58:32Z</dcterms:created>
  <dc:creator>Malcolm</dc:creator>
  <dc:description/>
  <dc:language>en-US</dc:language>
  <cp:lastModifiedBy>Aisling O'Donnell</cp:lastModifiedBy>
  <dcterms:modified xsi:type="dcterms:W3CDTF">2009-11-18T17:27:32Z</dcterms:modified>
  <cp:revision>33</cp:revision>
  <dc:subject/>
  <dc:title>Slide 1</dc:title>
</cp:coreProperties>
</file>