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29F8-D200-425A-B9B0-C36ED3889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7891-E8CE-488D-879B-52086E6B3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7AF9-6465-4EE5-9D75-74479311F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D119-A562-4B79-AF5D-443465B0F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2349D-4D02-4BF6-9456-0EC6922D7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FE3B0-A8F7-479C-B91A-4CD960A83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54162-16D6-406D-8D73-9107341A9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AC8D0-948F-4085-8ADA-B3085AF95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C7EBB-B917-442E-98F8-4D9F08F8E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A1D94-2A20-4153-A220-9644BAA4D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A4C5C-AD5F-4332-BF31-717D20A2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40ED-0524-4634-8B3F-E17190388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6A47F-294B-41E8-AE38-ACDA4EE9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C3411-93B7-4B92-A4CA-2127C693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1AE36-DD86-4529-8E5B-5769F2791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349E2-8094-4EA1-9BD6-90F1F9B3D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11E15-E4C9-4711-8C87-1749AE858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248D-66A7-41AA-9937-6F4397FE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7D29-DE85-4953-A1E6-6F14E2788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8371-F9B9-4930-8157-0BD310217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80C3-4A54-4D2D-BCB4-1E8A3AC2E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D4F7-4786-4545-8F81-1F2BEF4B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5AD0-2775-4AA9-8CBD-77E16BC9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4800-C2FD-4AE3-BB24-20453D39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e70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e70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e70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e70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e70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e70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56CB3-8337-4A91-AE3F-35758F95D1E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7020000" y="6237360"/>
          <a:ext cx="1944720" cy="45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20000" y="6237360"/>
                    <a:ext cx="194472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7FF16-AF03-4FE6-BBCF-761F537FB6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5950080"/>
            <a:ext cx="9144000" cy="885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Global Aggregation</a:t>
            </a:r>
            <a:br>
              <a:rPr sz="4400"/>
            </a:b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Mod 34_09</a:t>
            </a:r>
            <a:br>
              <a:rPr sz="4400"/>
            </a:br>
            <a:br>
              <a:rPr sz="4400"/>
            </a:b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James Long</a:t>
            </a:r>
            <a:br>
              <a:rPr sz="4000"/>
            </a:b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MR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2421000"/>
            <a:ext cx="6400800" cy="32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Global Aggreg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ESBN support the implementation of Global Aggre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he Market Operator (SEMO) should continue to maintain and calculate dif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his is a system issue with commercial implica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MRSO can provide the data to allow this to ha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Overview – Aggregation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MRSO are a Meter Data Provider providing aggregated data to the Market Operator to allow settlement of the Wholesale Electricity Mark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Aggregate QH and NQH data for all sites registered to all Suppliers except ESB Customer Sup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6,000 Q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463,000 NQ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Aggregate a small number of MPRNs registered to ESB Customer Supply’s AS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Aggregation - Tim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300" spc="-1" strike="noStrike">
                <a:solidFill>
                  <a:srgbClr val="000000"/>
                </a:solidFill>
                <a:latin typeface="Arial"/>
              </a:rPr>
              <a:t>Indicative Data on Day +1 by 14.00hr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300" spc="-1" strike="noStrike">
                <a:solidFill>
                  <a:srgbClr val="000000"/>
                </a:solidFill>
                <a:latin typeface="Arial"/>
              </a:rPr>
              <a:t>Initial Data on Day +4 by 17.00hrs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300" spc="-1" strike="noStrike">
                <a:solidFill>
                  <a:srgbClr val="000000"/>
                </a:solidFill>
                <a:latin typeface="Arial"/>
              </a:rPr>
              <a:t>Month +4 for re-settlement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300" spc="-1" strike="noStrike">
                <a:solidFill>
                  <a:srgbClr val="000000"/>
                </a:solidFill>
                <a:latin typeface="Arial"/>
              </a:rPr>
              <a:t>Month +13 for re-settlement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590 Message – Aggregated message sent to SEM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216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Provides the QH &amp; NQH aggregated consumption data for MPRNs registered to each Supplier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De-Minimus Export values registered to the Supplier Unit netted off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Provided in 30 minute interv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Volumes are measured in MW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The values supplied are Loss Adjus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Supplier/Generator Aggregated Mess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591 NQH Consumption – values are in kWh and 15 minute intervals. Messages show Non Loss-Adjusted and  Loss-Adjusted Fac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595 QH Consumption – values are in kWh and 15 minute intervals. Messages show Non Loss-Adjusted and  Loss-Adjusted Fac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594 Participan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598 Non-Participan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596 Supplier Copy of 5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597 Generator Copy of 5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Mod 34_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42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plitting of Non-Interval and Interval Supplier Units – significant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Extra validation required for Registration Market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A need to change/amend existing Supplier Unit Identifi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Possible impact on 590 settlement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Other impacted areas – Meter Works, DUoS Bi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More Supplier Units would affect the performance and run times of Aggreg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Approx 12-18 months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With current Work Programme –  delivery approx. Q1/ 201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Alternative O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569080" cy="42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Move all meter points registered to ESBCS into the Aggregation process using existing Supplier Un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MRSO aggregate all registered MPRNs for all Suppl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ESBCS receive all relevant aggregated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SEMO in a position to calculate the differences and allocate as agreed between all market participa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Involves minimal change to our existing softwar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Poses less risk on exceeding aggregation timelines in accordance with Agreed Procedure 16 and SLA (C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Delivery time would be less than current Mod Option – Approx 7months work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Networks Market Opening designed to provide global aggregation from the outset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Exploit this functionality for quicker implementation and least cost on DUoS user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Experience can inform any focussed amendments that subsequently are justified based on the data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10:45:53Z</dcterms:created>
  <dc:creator>long_j</dc:creator>
  <dc:description/>
  <dc:language>en-US</dc:language>
  <cp:lastModifiedBy>Aisling O'Donnell</cp:lastModifiedBy>
  <dcterms:modified xsi:type="dcterms:W3CDTF">2009-11-18T17:33:58Z</dcterms:modified>
  <cp:revision>32</cp:revision>
  <dc:subject/>
  <dc:title>Global Aggregation</dc:title>
</cp:coreProperties>
</file>