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3D5C-3C44-4681-9E78-E3D5D73B6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74C7-DA1E-4FA2-B143-D1D7923C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5EE5-9DFD-44FC-9719-72534669F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3F5D-A464-47E1-A6D2-A2F30A00A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09AA-53AF-4571-BF67-8F87239E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239D-95B9-4E20-BA1B-FE398A3B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37D6-4C5E-40DF-A0DE-1CA26FF0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860E-26C5-4AF2-BB94-302522B6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8B6E-F4C2-43C0-9E90-FB716A2C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7B1F-2ED0-44C6-931C-6D7769EF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BE24-30B6-422D-981A-7A19123D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E9D0-C92B-42F9-BC60-CA3CF304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F051-BC33-45DB-8FA5-A4CD1E229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llislandmarket.com/modifications_committee/modification_proposals/image.aspx?id=30fde873-75c6-403c-b68b-f406b1ddf4f4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Global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lternative implem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ESB Customer Su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Existing Mod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od 34_09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roposed at meeting to initiate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gister different QH and NQH supp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Option to register differently in NI &amp; R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alculate residual on half-hourly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cale suppliers’ volumes for sett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Pros and Cons of 34_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reats similar suppliers identically, no Error Supp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lexible implementation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mplex and 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settlements for M+13 and long-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Not predictable for tariff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lternative 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ove existing Error Suppliers to regular aggregated Supp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sidual errors to be held by non-competing party to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No adjustment within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nnual residual put into following year’s losses or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reats similar suppliers identically, no Error Supp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redictable loss factors for tariff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No additional prior year adju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imp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Discussion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ow does Global aggregation hand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+4, M+13, ad-hoc and long-term consumption adju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QH &amp; NQ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NI &amp; R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llocation of res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Non-standard metering- legacy, micro-g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2:02:33Z</dcterms:created>
  <dc:creator>Lowe_J</dc:creator>
  <dc:description/>
  <dc:language>en-US</dc:language>
  <cp:lastModifiedBy>Aisling O'Donnell</cp:lastModifiedBy>
  <dcterms:modified xsi:type="dcterms:W3CDTF">2009-11-19T12:44:48Z</dcterms:modified>
  <cp:revision>2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127881263</vt:r8>
  </property>
  <property fmtid="{D5CDD505-2E9C-101B-9397-08002B2CF9AE}" pid="3" name="_AuthorEmail">
    <vt:lpwstr>Stephen.Walsh@esb.ie</vt:lpwstr>
  </property>
  <property fmtid="{D5CDD505-2E9C-101B-9397-08002B2CF9AE}" pid="4" name="_AuthorEmailDisplayName">
    <vt:lpwstr>Walsh. Stephen (Customer Supply)</vt:lpwstr>
  </property>
  <property fmtid="{D5CDD505-2E9C-101B-9397-08002B2CF9AE}" pid="5" name="_EmailSubject">
    <vt:lpwstr>Global Aggregation Workshop 1 v2.ppt</vt:lpwstr>
  </property>
  <property fmtid="{D5CDD505-2E9C-101B-9397-08002B2CF9AE}" pid="6" name="_ReviewingToolsShownOnce">
    <vt:lpwstr/>
  </property>
</Properties>
</file>