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698-4E72-411B-9C10-78EB9F90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FF3-115B-4090-9F3E-96AE0A7C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6A4-2594-4630-9455-209F90ED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C41-9358-4FB8-95A7-6ABB0907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CDC-AA85-4873-9AF1-267E1C67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663-7A00-4CFA-8040-E642D11A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6EC-465D-4316-AA7D-18053BC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E41-CBF9-4536-93C7-907E6E0B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9D-8BA3-4E27-863D-33C2BC45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BDE-73D4-49A8-A855-274B174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DFA-6B54-4ECF-90C1-64F3E24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32D-88BA-4131-862E-2D309B4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ED4-81B4-4A20-80CC-08EB18FFD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gnitude of Global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 Custom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ction to provide estimate of magnitude of Global Aggrega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gree methodology with 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alculate factors in similar fashion to ELEX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ws potential new risk for Suppliers if within-year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d monthly bills and load pro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mpared profiled bills to SEM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atio = 1+ [  (SEMO - Profiled) / RoI Pool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otted the outputs in similar format to the ELEXON charts to enable compari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nualised scaling factor or deman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stribution of HH scal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SB Annual Demand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240" y="1413000"/>
            <a:ext cx="6648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XON Annual Demand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7610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SB Half-hourly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575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XON Half-hourly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58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th data sets comparable but ELEXON more 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lights new risk of within-year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02:33Z</dcterms:created>
  <dc:creator>Lowe_J</dc:creator>
  <dc:description/>
  <dc:language>en-US</dc:language>
  <cp:lastModifiedBy>Aisling O'Donnell</cp:lastModifiedBy>
  <dcterms:modified xsi:type="dcterms:W3CDTF">2010-02-23T10:15:13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8674369</vt:r8>
  </property>
  <property fmtid="{D5CDD505-2E9C-101B-9397-08002B2CF9AE}" pid="3" name="_AuthorEmail">
    <vt:lpwstr>Stephen.Walsh@esb.ie</vt:lpwstr>
  </property>
  <property fmtid="{D5CDD505-2E9C-101B-9397-08002B2CF9AE}" pid="4" name="_AuthorEmailDisplayName">
    <vt:lpwstr>Walsh. Stephen (Customer Supply)</vt:lpwstr>
  </property>
  <property fmtid="{D5CDD505-2E9C-101B-9397-08002B2CF9AE}" pid="5" name="_EmailSubject">
    <vt:lpwstr>Global Aggregation Workshop 2 v2.ppt</vt:lpwstr>
  </property>
  <property fmtid="{D5CDD505-2E9C-101B-9397-08002B2CF9AE}" pid="6" name="_ReviewingToolsShownOnce">
    <vt:lpwstr/>
  </property>
</Properties>
</file>