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F016C02C-5363-4E5F-99AB-0B67672FB49B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DEA0E22C-69CD-4FFF-B6C2-A374019DC008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entury Gothic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2FAA-E495-4D8D-B016-51E77D183EE3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7FDF-634C-473E-88C8-6644ECEEBB02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7FB2-4CBF-40D7-9B57-5B571AF5642E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C4D4-95C6-48BA-BF55-E3E5986B85F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E8CE-26FC-49B9-AE1B-B9119C8667A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30C9-FE69-46D5-B686-E9DC5034AF0E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7FD4-1368-4169-8988-481F275C0023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8719-CB87-4738-8C87-91572365A43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B31A-92F9-460A-B049-81F4BE0ABABD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72D8-BC0D-407F-BAED-526984455A9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FE4A-28FE-4916-8FC9-A1B7A512BAA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C4BF-8789-4794-BDD4-0084E47D691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174C-F4AA-45FD-A560-1C504668D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89AD-501B-4E67-93CE-416D44962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8359-801B-4B76-AE43-20CF6CC29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1BCD-B660-4337-A6B4-2779C9135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2BB-22FF-4DF0-8687-1174BA372E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289-39F8-47D6-8F8B-26B7231191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9D3-9BD3-414F-A408-5B455E83BF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46E-9825-4ECD-A007-1460E55E5F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114-DD6E-48A4-BA77-AE1A70BEE8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124-3EFA-4A4E-AECE-3AFD146B9E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D94-11D0-4FB1-9169-95E29F3C07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AD07-C2DB-4B11-8A96-B27219D21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8E1-A341-488A-8077-B61AA8FCAA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E8B-DCBF-4CAC-A268-E39ECAAC2B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88E-C7EB-4E5B-A5FC-F278A20575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AA6-0D37-437E-B85D-BEA8A51C03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626-1051-4A26-AE66-888EE490F8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E8AE-CA22-4D7F-846D-C52EF94AAE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F19D-B105-4490-AE90-B9E6F35C3E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8E05-EF02-4B51-9766-D380E49F50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0636-D50A-4F4F-8034-9F4A88611C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8643-AEAF-45CA-AD7F-6A8A3BF3A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FF17-9665-445A-BB29-B71821E94F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F1B8-283A-4133-810A-19C8727B78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5554-C94B-4727-B82A-ACB677FFBE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7C86-AB55-4144-9F81-68D31B0735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0B22-38AB-4537-B70A-0C1CC76D0C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1489-4A64-471D-906E-6133ABD3C6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2D98-9985-4C44-90B4-34D9EECE39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1E8E-D193-4071-9980-2EEF2E736B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66EB1-023F-4E57-A1D3-4010A5A817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BD1A9-7207-4C49-9D31-5A1756CEF9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5F638-0478-422B-8B52-8FFD06387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6E08-A96D-4B1E-8402-3FB607B264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8DD0F-EBF6-4392-9EA5-42684639F1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FC4CA-C45F-4A98-B3C2-FF667741CF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BD050-5231-4B44-8FB7-EE88E47630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822B4-8974-4A3A-805F-5B2DA18447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69BE6-42DA-4459-A1FD-933D85AE24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BE8F0-9D5C-477F-8176-47AD73B2FA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F7134-56E3-4A05-843E-62C3793231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C26B4-F0A1-4771-AF59-7AE0518D14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8376E-D984-420E-BCE0-4DEC7A83FA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37F5D-F8C6-4688-89CF-63D50AE6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8F1C-0591-462E-A39D-463F2E911C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3772D-49A3-41D2-8A07-934D3E88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25065-D555-432D-ADE6-2F7E504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A1D23-A6AE-4379-8E66-F4366843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985B1-4297-41CF-B499-C01E5910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B353D-B96B-4869-BFC7-7E9A735E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08ACA-C424-4856-996A-14DBC708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BEBCE-BF86-47E5-9BD8-7A92C8B9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D5D79-24AD-43DE-AD2C-8F12C0C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88A80-9A47-41AD-AC69-03E4170F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F7B12-BE2E-4770-8E23-B40366AE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1905-61E1-4494-A7CC-7B79B868A22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3B855-8EA5-4AA0-8650-54C1DA2E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E660-C902-4D3D-9C1D-24C1B5A82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8113-2947-4ECD-A69E-113F2A7FB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7BE0-B519-4DEC-AE1B-039B139F9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C3CC-65F7-4226-8088-77A54E66E210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C2A6-B50D-4F84-B035-382E00A8C90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17D3-0E1C-4B2A-AADF-A501429CBAB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3454-2DB1-4276-B254-9808B2DBFA6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85B7-629D-461D-9136-10B471B35C0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0F38-243B-414C-88DC-97C046ACDD7B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Global Aggregation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February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351A-9ACC-4116-8F1F-978704D8CA3A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0" y="1266840"/>
            <a:ext cx="914400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D – “Detailed Smearing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ion changes not radically different from Option 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requirement for factor per Supplier of Interval/Non-Interval propor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registration, Supplier Units will have an Interval/Non-Interval fl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A3E2-2E54-4815-B6C9-07797FA4A4B2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0" y="1266840"/>
            <a:ext cx="914400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D – “Detailed Smearing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dated registration data transferred between syste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tlement will apply calculations based on fl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registration, Supplier Units will have an Interval/Non-Interval fl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additional Settlement Poi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23A3-AEC4-4B26-8689-29141AEFE77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egistration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931000" y="1727280"/>
            <a:ext cx="2514600" cy="182880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711360" y="1727280"/>
            <a:ext cx="2692080" cy="182880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3378240" y="4470480"/>
            <a:ext cx="2832120" cy="182880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eter Data xml f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AutoShape 7"/>
          <p:cNvCxnSpPr>
            <a:stCxn id="258" idx="1"/>
            <a:endCxn id="257" idx="2"/>
          </p:cNvCxnSpPr>
          <p:nvPr/>
        </p:nvCxnSpPr>
        <p:spPr>
          <a:xfrm rot="10800000">
            <a:off x="2057400" y="3564720"/>
            <a:ext cx="131148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0" name="AutoShape 8"/>
          <p:cNvCxnSpPr>
            <a:stCxn id="258" idx="3"/>
            <a:endCxn id="256" idx="2"/>
          </p:cNvCxnSpPr>
          <p:nvPr/>
        </p:nvCxnSpPr>
        <p:spPr>
          <a:xfrm flipV="1">
            <a:off x="6219720" y="3565080"/>
            <a:ext cx="96912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1" name="AutoShape 9"/>
          <p:cNvCxnSpPr>
            <a:stCxn id="257" idx="3"/>
            <a:endCxn id="256" idx="1"/>
          </p:cNvCxnSpPr>
          <p:nvPr/>
        </p:nvCxnSpPr>
        <p:spPr>
          <a:xfrm>
            <a:off x="3412800" y="2641320"/>
            <a:ext cx="25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2" name="Text Box 10"/>
          <p:cNvSpPr/>
          <p:nvPr/>
        </p:nvSpPr>
        <p:spPr>
          <a:xfrm>
            <a:off x="279360" y="4584600"/>
            <a:ext cx="1930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ter data validated on submission against registration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7061040" y="4800600"/>
            <a:ext cx="1930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Validated data loaded into Settlement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746520" y="1828800"/>
            <a:ext cx="1930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Registration Data transferred to Settlement system using Master File Im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3E32-F9BA-46F1-A619-D86F5020DF6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Registration Chang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0" y="1266840"/>
            <a:ext cx="9144000" cy="47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anage through changes to Registration Data;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flag to signal if Supplier Unit is Interval/Non-Interval;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impact on MSP softwar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required to Masterfile Import </a:t>
            </a:r>
            <a:r>
              <a:rPr b="0" lang="en-US" sz="1900" spc="-1" strike="noStrike">
                <a:solidFill>
                  <a:srgbClr val="000000"/>
                </a:solidFill>
                <a:latin typeface="Helvetica Neue"/>
                <a:ea typeface="Arial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transfer from Registration to Settlement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to Market Participant Interface require Market Test environmen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to registration processes in SEM and Retail Market to ensure integrity of data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94ED-DEFB-4370-84A7-53359CA80B3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266840"/>
            <a:ext cx="9144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at last Working Group to explore options with RA consultants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shop took plac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c 2009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shop covered all op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 options paper discussed four option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9FB-F91A-4756-A6E6-999EDE81627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266840"/>
            <a:ext cx="91440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options were -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A – “Simplest”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B – “Simple 1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C – “Simple 2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D – “Detailed Smearing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F46C-7C3B-454D-A495-3B934F825CD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0" y="1266840"/>
            <a:ext cx="9144000" cy="48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A – “Simplest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ing ESB CS proposal that SEMO take ESU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O cannot participant (2.118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-register Error Supplier Unit in C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U volume falls to Balancing Cos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vered through SEMO price contro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6401-0AC0-4D29-911A-530175F4662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1266840"/>
            <a:ext cx="914400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B – “Simple 1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nual Factor per Supplier of Interval/Non-Interval propor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nual Parameter of proportion of residual to be recovered from Non-Interval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to determine single “smear” factor for C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8F05-F89B-416B-97FE-96CAAC86635A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1266840"/>
            <a:ext cx="91440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B – “Simple 1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-dating current Error Supplier Unit da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product for Residual Volume at market lev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“smear” factor to be loaded manuall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processing segments for new calcula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4654-FF1F-4F5B-8DF8-4F11FE562C11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1266840"/>
            <a:ext cx="914400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C – “Simple 2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namic Factor per Supplier of Interval/Non-Interval propor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dated with new regist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nual Parameter of proportion of residual to be recovered from Non-Interval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EE41-A3F2-44A0-AEAB-107E44A352D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1266840"/>
            <a:ext cx="91440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C – “Simple 2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e as with Option 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ra processing for two data elem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imports for the two new pieces of da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4878-49C5-4EAF-9402-73FCB10BD77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1266840"/>
            <a:ext cx="914400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D – “Detailed Smear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 as propos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tlement calculations review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Supplier Units be separated into Interval Supplier Units and Non-Interval Supplier Unit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Emma Kelly</dc:creator>
  <dc:description/>
  <cp:keywords>Rev o</cp:keywords>
  <dc:language>en-US</dc:language>
  <cp:lastModifiedBy>osullivan_bre</cp:lastModifiedBy>
  <cp:lastPrinted>2002-07-25T14:31:52Z</cp:lastPrinted>
  <dcterms:modified xsi:type="dcterms:W3CDTF">2010-02-22T15:02:41Z</dcterms:modified>
  <cp:revision>626</cp:revision>
  <dc:subject>Training Session - Module 1</dc:subject>
  <dc:title>All Island Market for Electricity</dc:title>
</cp:coreProperties>
</file>