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63CC-CA91-4158-813C-2F7D7DB9A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22320" y="151920"/>
            <a:ext cx="5865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36720" y="1535040"/>
            <a:ext cx="769752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36720" y="3944160"/>
            <a:ext cx="769752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FFD3-9260-4F1E-B10C-13610B4FE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22320" y="151920"/>
            <a:ext cx="5865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36720" y="1535040"/>
            <a:ext cx="375624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81240" y="1535040"/>
            <a:ext cx="375624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36720" y="3944160"/>
            <a:ext cx="375624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81240" y="3944160"/>
            <a:ext cx="375624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AEAB-DBBC-47EE-B1AF-B17CC3C13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22320" y="151920"/>
            <a:ext cx="5865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36720" y="1535040"/>
            <a:ext cx="247824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39160" y="1535040"/>
            <a:ext cx="247824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41960" y="1535040"/>
            <a:ext cx="247824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36720" y="3944160"/>
            <a:ext cx="247824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39160" y="3944160"/>
            <a:ext cx="247824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41960" y="3944160"/>
            <a:ext cx="247824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7EEE-5A8A-4239-A290-1FD412523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1B0C9-CD7D-435B-B8D6-07936C4E6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22320" y="151920"/>
            <a:ext cx="5865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36720" y="1535040"/>
            <a:ext cx="7697520" cy="461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930BB-BF93-4CB3-83F1-590AD791A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22320" y="151920"/>
            <a:ext cx="5865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36720" y="1535040"/>
            <a:ext cx="769752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02EEE-5E86-4896-95AD-D4352A0D9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22320" y="151920"/>
            <a:ext cx="5865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36720" y="1535040"/>
            <a:ext cx="375624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81240" y="1535040"/>
            <a:ext cx="375624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26C9E-670E-4C01-9BAC-A8E05D384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22320" y="151920"/>
            <a:ext cx="5865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54E4C-6D71-47E2-9CE8-E826D806F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22320" y="151920"/>
            <a:ext cx="5865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93344-817A-4DC8-924D-C6B722A12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22320" y="151920"/>
            <a:ext cx="5865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36720" y="1535040"/>
            <a:ext cx="375624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81240" y="1535040"/>
            <a:ext cx="375624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36720" y="3944160"/>
            <a:ext cx="375624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D26DD-A026-4CAC-9227-FA1042689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22320" y="151920"/>
            <a:ext cx="5865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36720" y="1535040"/>
            <a:ext cx="7697520" cy="461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A4FA-C79F-4C2A-AE9B-6649B8A29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22320" y="151920"/>
            <a:ext cx="5865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36720" y="1535040"/>
            <a:ext cx="375624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81240" y="1535040"/>
            <a:ext cx="375624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881240" y="3944160"/>
            <a:ext cx="375624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4B032-F6E8-47F5-9630-6D88FEA45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22320" y="151920"/>
            <a:ext cx="5865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36720" y="1535040"/>
            <a:ext cx="375624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81240" y="1535040"/>
            <a:ext cx="375624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36720" y="3944160"/>
            <a:ext cx="769752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44D80-D95A-477A-A94D-F035EB19E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22320" y="151920"/>
            <a:ext cx="5865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36720" y="1535040"/>
            <a:ext cx="769752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36720" y="3944160"/>
            <a:ext cx="769752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12B17-DBBD-49FF-AF94-DA769DDED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22320" y="151920"/>
            <a:ext cx="5865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36720" y="1535040"/>
            <a:ext cx="375624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881240" y="1535040"/>
            <a:ext cx="375624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36720" y="3944160"/>
            <a:ext cx="375624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881240" y="3944160"/>
            <a:ext cx="375624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2EDFE-1C7B-4F46-B2CC-F62E7BECF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22320" y="151920"/>
            <a:ext cx="5865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36720" y="1535040"/>
            <a:ext cx="247824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539160" y="1535040"/>
            <a:ext cx="247824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41960" y="1535040"/>
            <a:ext cx="247824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36720" y="3944160"/>
            <a:ext cx="247824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539160" y="3944160"/>
            <a:ext cx="247824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41960" y="3944160"/>
            <a:ext cx="247824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454A5-2956-4341-96C1-AA8AA8CC9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22320" y="151920"/>
            <a:ext cx="5865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36720" y="1535040"/>
            <a:ext cx="769752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E455-6E7F-4410-BABB-81C6C401B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22320" y="151920"/>
            <a:ext cx="5865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36720" y="1535040"/>
            <a:ext cx="375624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81240" y="1535040"/>
            <a:ext cx="375624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17DC-86BF-405E-BE16-EF8CFD9BC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22320" y="151920"/>
            <a:ext cx="5865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243C-43D3-4AD5-B961-85915E7B7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22320" y="151920"/>
            <a:ext cx="5865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5405-44A5-48C5-ADEE-DE1C2E807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22320" y="151920"/>
            <a:ext cx="5865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36720" y="1535040"/>
            <a:ext cx="375624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81240" y="1535040"/>
            <a:ext cx="375624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36720" y="3944160"/>
            <a:ext cx="375624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3462-319B-4776-9524-9DF309229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22320" y="151920"/>
            <a:ext cx="5865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36720" y="1535040"/>
            <a:ext cx="375624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81240" y="1535040"/>
            <a:ext cx="375624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81240" y="3944160"/>
            <a:ext cx="375624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3089-6767-47C8-B56E-1CCC10069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22320" y="151920"/>
            <a:ext cx="5865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36720" y="1535040"/>
            <a:ext cx="375624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81240" y="1535040"/>
            <a:ext cx="375624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36720" y="3944160"/>
            <a:ext cx="769752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F997-038F-45D0-BEE8-1ADFCDAF1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22320" y="151920"/>
            <a:ext cx="5865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rebuchet MS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36720" y="1535040"/>
            <a:ext cx="769752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rebuchet MS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rebuchet MS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rebuchet MS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rebuchet MS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rebuchet MS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rebuchet MS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38D4E-C40F-46AC-A49E-FC0ACA551268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6888240" y="187200"/>
            <a:ext cx="2031840" cy="693720"/>
          </a:xfrm>
          <a:prstGeom prst="rect">
            <a:avLst/>
          </a:prstGeom>
          <a:ln w="0">
            <a:noFill/>
          </a:ln>
        </p:spPr>
      </p:pic>
      <p:grpSp>
        <p:nvGrpSpPr>
          <p:cNvPr id="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8" name=""/>
            <p:cNvSpPr/>
            <p:nvPr/>
          </p:nvSpPr>
          <p:spPr>
            <a:xfrm>
              <a:off x="0" y="0"/>
              <a:ext cx="638280" cy="6858000"/>
            </a:xfrm>
            <a:prstGeom prst="rect">
              <a:avLst/>
            </a:prstGeom>
            <a:solidFill>
              <a:srgbClr val="0065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6316560"/>
              <a:ext cx="9144000" cy="541440"/>
            </a:xfrm>
            <a:prstGeom prst="rect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6329520"/>
              <a:ext cx="638280" cy="5284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6950880" y="6435720"/>
            <a:ext cx="196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www.nieenergy.co.u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820EC-771D-4512-A1B5-94BCDDB476E2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title"/>
          </p:nvPr>
        </p:nvSpPr>
        <p:spPr>
          <a:xfrm>
            <a:off x="788760" y="174600"/>
            <a:ext cx="6018120" cy="19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rebuchet MS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Trebuchet MS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3" name=""/>
            <p:cNvSpPr/>
            <p:nvPr/>
          </p:nvSpPr>
          <p:spPr>
            <a:xfrm>
              <a:off x="0" y="0"/>
              <a:ext cx="638280" cy="6858000"/>
            </a:xfrm>
            <a:prstGeom prst="rect">
              <a:avLst/>
            </a:pr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6316560"/>
              <a:ext cx="9144000" cy="541440"/>
            </a:xfrm>
            <a:prstGeom prst="rect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6329520"/>
              <a:ext cx="638280" cy="52848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6888240" y="187200"/>
            <a:ext cx="2031840" cy="6937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537240" y="6335640"/>
            <a:ext cx="196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www.nieenergy.co.u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936720" y="1535040"/>
            <a:ext cx="769752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rebuchet MS"/>
              </a:rPr>
              <a:t>Global Aggregation </a:t>
            </a:r>
            <a:endParaRPr b="0" lang="en-US" sz="4400" spc="-1" strike="noStrike">
              <a:solidFill>
                <a:srgbClr val="003366"/>
              </a:solidFill>
              <a:latin typeface="Trebuchet MS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rebuchet MS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rebuchet MS"/>
              </a:rPr>
              <a:t>Magnitude of the Error</a:t>
            </a:r>
            <a:endParaRPr b="0" lang="en-US" sz="4400" spc="-1" strike="noStrike">
              <a:solidFill>
                <a:srgbClr val="003366"/>
              </a:solidFill>
              <a:latin typeface="Trebuchet MS"/>
            </a:endParaRPr>
          </a:p>
        </p:txBody>
      </p:sp>
    </p:spTree>
  </p:cSld>
  <p:transition spd="med"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22320" y="151920"/>
            <a:ext cx="5865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rebuchet MS"/>
              </a:rPr>
              <a:t>Methodology</a:t>
            </a:r>
            <a:endParaRPr b="1" lang="en-US" sz="36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36720" y="1535040"/>
            <a:ext cx="769752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Trebuchet MS"/>
              </a:rPr>
              <a:t>Calculate the NIEES sales per tariff</a:t>
            </a: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Trebuchet MS"/>
              </a:rPr>
              <a:t>Profile to derive a HH shape</a:t>
            </a: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Trebuchet MS"/>
              </a:rPr>
              <a:t>Apply published DLAFs to bring to trading point</a:t>
            </a: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Trebuchet MS"/>
              </a:rPr>
              <a:t>Calculate NIEES volumes from pool at trading point</a:t>
            </a: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Trebuchet MS"/>
              </a:rPr>
              <a:t>Determine Jurisdictional results using both data sets</a:t>
            </a: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Trebuchet MS"/>
              </a:rPr>
              <a:t>Compare the difference and plot to allow comparison with the Elexon data</a:t>
            </a: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</p:txBody>
      </p:sp>
    </p:spTree>
  </p:cSld>
  <p:transition spd="med">
    <p:strips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22320" y="151920"/>
            <a:ext cx="5865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rebuchet MS"/>
              </a:rPr>
              <a:t>Caveats</a:t>
            </a:r>
            <a:endParaRPr b="1" lang="en-US" sz="36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36720" y="1535040"/>
            <a:ext cx="769752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Trebuchet MS"/>
              </a:rPr>
              <a:t>Sales based upon apportionment method</a:t>
            </a: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rebuchet MS"/>
              </a:rPr>
              <a:t>Legacy Billing System</a:t>
            </a:r>
            <a:endParaRPr b="0" lang="en-US" sz="2400" spc="-1" strike="noStrike">
              <a:solidFill>
                <a:srgbClr val="003366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rebuchet MS"/>
              </a:rPr>
              <a:t>3 month billing cycle</a:t>
            </a:r>
            <a:endParaRPr b="0" lang="en-US" sz="2400" spc="-1" strike="noStrike">
              <a:solidFill>
                <a:srgbClr val="003366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Trebuchet MS"/>
              </a:rPr>
              <a:t>Application of current DLAFs</a:t>
            </a: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Trebuchet MS"/>
              </a:rPr>
              <a:t>Application of 6 Profiles</a:t>
            </a: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Trebuchet MS"/>
              </a:rPr>
              <a:t>Based on best available market data from Jan 08 – Oct 09</a:t>
            </a: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</p:txBody>
      </p:sp>
    </p:spTree>
  </p:cSld>
  <p:transition spd="med"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22320" y="151920"/>
            <a:ext cx="5865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66"/>
                </a:solidFill>
                <a:latin typeface="Trebuchet MS"/>
              </a:rPr>
              <a:t>HH Correction – Gemserv (Elexon)</a:t>
            </a:r>
            <a:endParaRPr b="1" lang="en-US" sz="36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36720" y="1535040"/>
            <a:ext cx="769752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939960" y="1504800"/>
            <a:ext cx="7657920" cy="46483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22320" y="151920"/>
            <a:ext cx="5865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rebuchet MS"/>
              </a:rPr>
              <a:t>HH Correction – NI Jurisdiction Calculation</a:t>
            </a:r>
            <a:endParaRPr b="1" lang="en-US" sz="3600" spc="-1" strike="noStrike">
              <a:solidFill>
                <a:srgbClr val="003366"/>
              </a:solidFill>
              <a:latin typeface="Trebuchet MS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950760" y="1658880"/>
            <a:ext cx="7667640" cy="43639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22320" y="151920"/>
            <a:ext cx="5865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66"/>
                </a:solidFill>
                <a:latin typeface="Trebuchet MS"/>
              </a:rPr>
              <a:t>Distribution – Gemserv (Elexon)</a:t>
            </a:r>
            <a:endParaRPr b="1" lang="en-US" sz="36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36720" y="1535040"/>
            <a:ext cx="769752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939960" y="1498680"/>
            <a:ext cx="7721280" cy="46353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22320" y="151920"/>
            <a:ext cx="5865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rebuchet MS"/>
              </a:rPr>
              <a:t>Distribution – NI Jurisdiction Calculation</a:t>
            </a:r>
            <a:endParaRPr b="1" lang="en-US" sz="3600" spc="-1" strike="noStrike">
              <a:solidFill>
                <a:srgbClr val="003366"/>
              </a:solidFill>
              <a:latin typeface="Trebuchet MS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001880" y="1465200"/>
            <a:ext cx="7137360" cy="44816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22320" y="151920"/>
            <a:ext cx="5865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rebuchet MS"/>
              </a:rPr>
              <a:t>Conclusions</a:t>
            </a:r>
            <a:endParaRPr b="1" lang="en-US" sz="36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36720" y="1535040"/>
            <a:ext cx="769752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rebuchet MS"/>
              </a:rPr>
              <a:t>Information is an indication of magnitude using available sources</a:t>
            </a: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rebuchet MS"/>
              </a:rPr>
              <a:t>Results are broadly in line with GB information </a:t>
            </a: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rebuchet MS"/>
              </a:rPr>
              <a:t>Average correction factor over the analysis period slightly below 1</a:t>
            </a: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</p:txBody>
      </p:sp>
    </p:spTree>
  </p:cSld>
  <p:transition spd="med"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12:41:54Z</dcterms:created>
  <dc:creator>NIEplc</dc:creator>
  <dc:description/>
  <dc:language>en-US</dc:language>
  <cp:lastModifiedBy>itwjr</cp:lastModifiedBy>
  <dcterms:modified xsi:type="dcterms:W3CDTF">2010-02-22T14:39:22Z</dcterms:modified>
  <cp:revision>178</cp:revision>
  <dc:subject/>
  <dc:title>PowerPoint Presentation</dc:title>
</cp:coreProperties>
</file>