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693-AD5C-4C68-A280-C17F91EC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9B8-F45A-4C79-98E8-314A743F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3CA-68F1-4674-B99B-DF3FE4AE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38B-1347-4E87-B4C4-DEAA05CE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7ADB-AD4A-43B7-9D32-4DF9BB93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455D-39DB-4648-801E-441CBFE8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C6FF-06C8-48B6-A826-6EE3D075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55AF-7EFD-4FC3-A90D-F9B94E08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5018-4E30-4652-A8FE-58AD60ED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E896-49F3-4CC2-A099-0BACFC84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8448-FF3F-4866-B83A-04A58894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4A3-BF1B-467C-AE8D-EF03E62C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D4FC-DCC1-464E-B960-949C82F3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415D-0867-4EB8-BFC9-B56E962F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6B40-AEFB-417E-AF61-BB8C7D46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2B7C-565B-42A5-950E-B536465D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93A7-0461-4BF0-8A8E-25001B2D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141-A769-495A-840C-BD0BDE59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F1D-FDF4-4F67-9B1E-6CEB52E7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EE8-C4CF-4023-B7CE-9FBE3E7C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28A-3D12-43DD-9DE9-DDE2D0A1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FE9-FB37-4F17-95C5-B4DF22AA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154-065E-44A7-B315-BF2D68F0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DBC-1AF8-495F-BC63-EC755B61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19DF-E5D3-4248-A0F1-82929CF2CA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020000" y="6237360"/>
          <a:ext cx="1944720" cy="45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20000" y="6237360"/>
                    <a:ext cx="19447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4D40-3706-4604-86F5-0396BE022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88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66214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Global Aggregation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Mod 34_09</a:t>
            </a:r>
            <a:br>
              <a:rPr sz="4000"/>
            </a:b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High Level Impact Assessment</a:t>
            </a:r>
            <a:br>
              <a:rPr sz="3600"/>
            </a:b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SBN Meter Data Provider </a:t>
            </a: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ileen O Connor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erformance of SAP I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tail of Options could impact Estimated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imelines for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PES will increase installations included in Data Aggregation from approx. half a million to approx 2.3 mill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needs to be done to confirm the performance implications and if there are any additional cos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s would need to run extensive performance testing specifically for Global Aggreg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114480"/>
          <a:ext cx="909648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480"/>
                    <a:ext cx="90964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144000" cy="128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1123920"/>
          <a:ext cx="9144000" cy="4791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3920"/>
                    <a:ext cx="914400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190440"/>
          <a:ext cx="9144000" cy="158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440"/>
                    <a:ext cx="914400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0" y="1562040"/>
          <a:ext cx="9144000" cy="3191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62040"/>
                    <a:ext cx="914400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0"/>
          <a:ext cx="9144000" cy="141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0" y="1200240"/>
          <a:ext cx="9144000" cy="5657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00240"/>
                    <a:ext cx="91440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155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1343160"/>
          <a:ext cx="9144000" cy="5810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43160"/>
                    <a:ext cx="9144000" cy="58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4000" cy="148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1268280"/>
          <a:ext cx="9144000" cy="4999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68280"/>
                    <a:ext cx="914400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ummary – ESBN M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052640"/>
          <a:ext cx="8229600" cy="4565520"/>
        </p:xfrm>
        <a:graphic>
          <a:graphicData uri="http://schemas.openxmlformats.org/drawingml/2006/table">
            <a:tbl>
              <a:tblPr/>
              <a:tblGrid>
                <a:gridCol w="1942920"/>
                <a:gridCol w="2808360"/>
                <a:gridCol w="347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 Work Eff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Wee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Wee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Wee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Weeks 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Weeks (Al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Wee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441360" cy="463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19280" y="2565360"/>
            <a:ext cx="441360" cy="463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619280" y="5084640"/>
            <a:ext cx="4413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0:45:53Z</dcterms:created>
  <dc:creator>long_j</dc:creator>
  <dc:description/>
  <dc:language>en-US</dc:language>
  <cp:lastModifiedBy>oconnor_ai</cp:lastModifiedBy>
  <dcterms:modified xsi:type="dcterms:W3CDTF">2010-02-22T12:56:09Z</dcterms:modified>
  <cp:revision>64</cp:revision>
  <dc:subject/>
  <dc:title>Global Aggregation</dc:title>
</cp:coreProperties>
</file>