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9DF-5EAD-480B-89DD-EE0D97A8036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8CF-8004-4771-A349-6D8251BF167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F59-A0C9-40E0-A5C0-8C9FFD3DF84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SEMO would need 3 years verified Supplier data on actual error to reduce cash flow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61AB-A2B7-411D-A77A-8699D259F22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2E3-4836-4CF7-8121-89D6FE8FC7F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F92E-B8A1-47FE-9D6C-EDB617189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7971-A10E-4A7D-838C-CDD6F67F8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6D37-F752-4A39-8CFF-7E5C61AD4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EEB5-24F6-4C6C-A463-C48B923A1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F4EF-70D2-49B3-A489-1413C60A69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7174-8868-40FE-A3A5-7711826B05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FFD82-6C9E-4D96-8A79-D0220FF6E6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07918-8FD6-4FD5-A1B5-4D37741623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0499B-2017-4947-BEBE-CE394079D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8B881-EBF4-42B6-883A-3C0A1A775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9805F-172C-4C34-95A7-14F046A6E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501A-EDEC-4A0D-8A65-7D60E70AF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8C19-05E1-4BAB-9413-C652B89CD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5A1B5-FA10-47B2-9407-03411A4F1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25EEA-A63B-44DA-909A-8078D0B0D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331B3-0116-4F82-85A6-A01BA59E4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63777-BC56-49DC-B4E9-6BB251EE0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BEDF-59B9-4E68-A54F-6AB9888ED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B3C7-DE26-40D7-858D-9C6EDD21D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7DB8-0B89-4946-BABA-7C772F914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948A-43E7-4745-96C7-CA9E46675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628F-E6F1-452D-864D-CA5218698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B34C-6BED-44B0-8314-AA5A5F30D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8860-AD1D-4369-A5ED-8BAB896AF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A258-D4AF-42BB-BAD9-7B1C89397F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EE0-9E83-470C-9BC6-ED1FE17331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DD6-0D41-419D-AFAD-F3828E19B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34_09 </a:t>
            </a:r>
            <a:br>
              <a:rPr sz="2000"/>
            </a:br>
            <a:r>
              <a:rPr b="1" lang="en-IE" sz="2000" spc="-1" strike="noStrike" u="sng">
                <a:solidFill>
                  <a:srgbClr val="000000"/>
                </a:solidFill>
                <a:uFillTx/>
                <a:latin typeface="Arial"/>
              </a:rPr>
              <a:t>High Level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Assessment of 4 O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BEA-822E-43DE-8DFC-826E9F3D5C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our Options exam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A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B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C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UAL FACTOR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D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AILED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rror Supplier Unit no longer assigned to a Participant in S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SU volumes cost recovery from Suppliers throug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o system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orecast ESU volumes cost as part of Pric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nage cash flow (forecast ESU vs. 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B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umption: Algorithm for smear will be similar to Currency Cost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configuration for ESU to be end-d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wo new import sour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ssing segments after Currency Cost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edium: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37k – €55.5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DUAL FACTOR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imilar to Option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umption: Algorithm for smear will be similar to Currency Cost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configuration for ESU to be end-d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ur new import sour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ssing segments after Currency Cost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dium: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37k – €55.5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DETAILED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imilar Settlement system changes to Optio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w interface from Settlement to MI to import Interval/Non-Interval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ddition of Interval/Non-Interval flag to Supplier Unit Registration scre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pdate of MPR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pdate of DB routines to populate new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: Medium: €74k - €83.2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444-FE63-47B7-9A88-5B0ECB9BC2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A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 systems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B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edium: (€37k – €55.5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C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UAL FACTOR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edium: (€37k - €55.5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D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TAILED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dium: (€74k - €83.25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Important: These costs are indicative only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will require a Full Impact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3-05T14:30:32Z</dcterms:modified>
  <cp:revision>793</cp:revision>
  <dc:subject/>
  <dc:title>Training Presentation BLG 190706</dc:title>
</cp:coreProperties>
</file>