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png" ContentType="image/png"/>
  <Override PartName="/ppt/media/image4.jpeg" ContentType="image/jpeg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8.jpeg" ContentType="image/jpeg"/>
  <Override PartName="/ppt/media/image9.wmf" ContentType="image/x-wmf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12"/>
          </p:nvPr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  <a:defRPr b="0" i="1" lang="en-GB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Century Gothic"/>
              </a:rPr>
              <a:t>07/16/9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sldImg"/>
          </p:nvPr>
        </p:nvSpPr>
        <p:spPr>
          <a:xfrm>
            <a:off x="918720" y="746280"/>
            <a:ext cx="4961160" cy="37209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906480" y="4714920"/>
            <a:ext cx="4984560" cy="44654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ftr" idx="13"/>
          </p:nvPr>
        </p:nvSpPr>
        <p:spPr>
          <a:xfrm>
            <a:off x="0" y="9429840"/>
            <a:ext cx="3860640" cy="49680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  <a:defRPr b="0" lang="en-US" sz="1100" spc="-1" strike="noStrike">
                <a:solidFill>
                  <a:srgbClr val="000000"/>
                </a:solidFill>
                <a:latin typeface="Century Gothic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</a:t>
            </a:r>
            <a:r>
              <a:rPr b="0" lang="en-IE" sz="9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© aime</a:t>
            </a:r>
            <a:r>
              <a:rPr b="0" lang="en-GB" sz="9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2006</a:t>
            </a:r>
            <a:r>
              <a:rPr b="0" lang="en-GB" sz="11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GB" sz="11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onfidenti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 type="sldNum" idx="14"/>
          </p:nvPr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  <a:defRPr b="0" i="1" lang="en-GB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fld id="{FC2F5741-EF0B-4143-8E90-F0B7FC516540}" type="slidenum">
              <a:rPr b="0" i="1" lang="en-GB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6"/>
          <p:cNvSpPr/>
          <p:nvPr/>
        </p:nvSpPr>
        <p:spPr>
          <a:xfrm>
            <a:off x="0" y="9429840"/>
            <a:ext cx="38606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</a:t>
            </a:r>
            <a:r>
              <a:rPr b="0" lang="en-IE" sz="9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© aime</a:t>
            </a:r>
            <a:r>
              <a:rPr b="0" lang="en-GB" sz="9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2006</a:t>
            </a:r>
            <a:r>
              <a:rPr b="0" lang="en-GB" sz="11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GB" sz="11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onfidential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fld id="{AE010604-2510-44A0-B271-7C0B89AA2EA3}" type="slidenum">
              <a:rPr b="0" i="1" lang="en-GB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06480" y="4714920"/>
            <a:ext cx="4984560" cy="44654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000000"/>
                </a:solidFill>
                <a:latin typeface="Century Gothic"/>
              </a:rPr>
              <a:t>LEAVE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6"/>
          <p:cNvSpPr/>
          <p:nvPr/>
        </p:nvSpPr>
        <p:spPr>
          <a:xfrm>
            <a:off x="0" y="9429840"/>
            <a:ext cx="38606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</a:t>
            </a:r>
            <a:r>
              <a:rPr b="0" lang="en-IE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© AIME</a:t>
            </a:r>
            <a:r>
              <a:rPr b="0" lang="en-GB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2006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onfidenti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80DD3-EC39-4A0E-93AA-6E281BD258B7}" type="slidenum">
              <a:rPr b="0" i="1" lang="en-GB" sz="10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6"/>
          <p:cNvSpPr/>
          <p:nvPr/>
        </p:nvSpPr>
        <p:spPr>
          <a:xfrm>
            <a:off x="0" y="9429840"/>
            <a:ext cx="38606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</a:t>
            </a:r>
            <a:r>
              <a:rPr b="0" lang="en-IE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© AIME</a:t>
            </a:r>
            <a:r>
              <a:rPr b="0" lang="en-GB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2006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onfidenti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87127-F1FC-41A8-AA38-76A76B1F3D66}" type="slidenum">
              <a:rPr b="0" i="1" lang="en-GB" sz="10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06480" y="4714920"/>
            <a:ext cx="498456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6"/>
          <p:cNvSpPr/>
          <p:nvPr/>
        </p:nvSpPr>
        <p:spPr>
          <a:xfrm>
            <a:off x="0" y="9429840"/>
            <a:ext cx="38606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</a:t>
            </a:r>
            <a:r>
              <a:rPr b="0" lang="en-IE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© AIME</a:t>
            </a:r>
            <a:r>
              <a:rPr b="0" lang="en-GB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2006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onfidenti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CFF9C-2EB6-4659-B112-24BC59EA1FA1}" type="slidenum">
              <a:rPr b="0" i="1" lang="en-GB" sz="10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06480" y="4714920"/>
            <a:ext cx="498456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6"/>
          <p:cNvSpPr/>
          <p:nvPr/>
        </p:nvSpPr>
        <p:spPr>
          <a:xfrm>
            <a:off x="0" y="9429840"/>
            <a:ext cx="38606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</a:t>
            </a:r>
            <a:r>
              <a:rPr b="0" lang="en-IE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© AIME</a:t>
            </a:r>
            <a:r>
              <a:rPr b="0" lang="en-GB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2006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onfidenti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EE7C8-DDBD-43C6-BF78-4CCB15453697}" type="slidenum">
              <a:rPr b="0" i="1" lang="en-GB" sz="10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906480" y="4714920"/>
            <a:ext cx="498456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6"/>
          <p:cNvSpPr/>
          <p:nvPr/>
        </p:nvSpPr>
        <p:spPr>
          <a:xfrm>
            <a:off x="0" y="9429840"/>
            <a:ext cx="38606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</a:t>
            </a:r>
            <a:r>
              <a:rPr b="0" lang="en-IE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© AIME</a:t>
            </a:r>
            <a:r>
              <a:rPr b="0" lang="en-GB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2006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onfidenti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3A346-F0CB-4E67-8849-3DEAB3C6F7CB}" type="slidenum">
              <a:rPr b="0" i="1" lang="en-GB" sz="10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06480" y="4714920"/>
            <a:ext cx="498456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6"/>
          <p:cNvSpPr/>
          <p:nvPr/>
        </p:nvSpPr>
        <p:spPr>
          <a:xfrm>
            <a:off x="0" y="9429840"/>
            <a:ext cx="38606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</a:t>
            </a:r>
            <a:r>
              <a:rPr b="0" lang="en-IE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© AIME</a:t>
            </a:r>
            <a:r>
              <a:rPr b="0" lang="en-GB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2006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onfidenti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F0B33-602C-44E9-97A8-A00A587787A1}" type="slidenum">
              <a:rPr b="0" i="1" lang="en-GB" sz="10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06480" y="4714920"/>
            <a:ext cx="498456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6"/>
          <p:cNvSpPr/>
          <p:nvPr/>
        </p:nvSpPr>
        <p:spPr>
          <a:xfrm>
            <a:off x="0" y="9429840"/>
            <a:ext cx="38606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</a:t>
            </a:r>
            <a:r>
              <a:rPr b="0" lang="en-IE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© AIME</a:t>
            </a:r>
            <a:r>
              <a:rPr b="0" lang="en-GB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2006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onfidenti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3BCA9-E0D0-4E98-A28C-D62CD751D980}" type="slidenum">
              <a:rPr b="0" i="1" lang="en-GB" sz="10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06480" y="4714920"/>
            <a:ext cx="498456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6"/>
          <p:cNvSpPr/>
          <p:nvPr/>
        </p:nvSpPr>
        <p:spPr>
          <a:xfrm>
            <a:off x="0" y="9429840"/>
            <a:ext cx="38606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</a:t>
            </a:r>
            <a:r>
              <a:rPr b="0" lang="en-IE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© AIME</a:t>
            </a:r>
            <a:r>
              <a:rPr b="0" lang="en-GB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2006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onfidenti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D389F-2C86-4844-803C-B7C367F4C70E}" type="slidenum">
              <a:rPr b="0" i="1" lang="en-GB" sz="10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06480" y="4714920"/>
            <a:ext cx="498456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6"/>
          <p:cNvSpPr/>
          <p:nvPr/>
        </p:nvSpPr>
        <p:spPr>
          <a:xfrm>
            <a:off x="0" y="9429840"/>
            <a:ext cx="38606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</a:t>
            </a:r>
            <a:r>
              <a:rPr b="0" lang="en-IE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© AIME</a:t>
            </a:r>
            <a:r>
              <a:rPr b="0" lang="en-GB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2006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onfidenti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DA8E4-2720-4665-9677-1E099D8F1892}" type="slidenum">
              <a:rPr b="0" i="1" lang="en-GB" sz="10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6"/>
          <p:cNvSpPr/>
          <p:nvPr/>
        </p:nvSpPr>
        <p:spPr>
          <a:xfrm>
            <a:off x="0" y="9429840"/>
            <a:ext cx="38606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</a:t>
            </a:r>
            <a:r>
              <a:rPr b="0" lang="en-IE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© AIME</a:t>
            </a:r>
            <a:r>
              <a:rPr b="0" lang="en-GB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2006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onfidenti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09A3A-5227-4216-9F11-FE1FEC3D3B80}" type="slidenum">
              <a:rPr b="0" i="1" lang="en-GB" sz="10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6"/>
          <p:cNvSpPr/>
          <p:nvPr/>
        </p:nvSpPr>
        <p:spPr>
          <a:xfrm>
            <a:off x="0" y="9429840"/>
            <a:ext cx="38606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</a:t>
            </a:r>
            <a:r>
              <a:rPr b="0" lang="en-IE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© AIME</a:t>
            </a:r>
            <a:r>
              <a:rPr b="0" lang="en-GB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2006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onfidenti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C30EF-DAD2-4426-977E-729E1260B0B9}" type="slidenum">
              <a:rPr b="0" i="1" lang="en-GB" sz="10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06480" y="4714920"/>
            <a:ext cx="4984560" cy="44654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entury Gothic"/>
              </a:rPr>
              <a:t>Mention previous attempts to deal with Global Aggregation in the individual jurisdictions – MOIP in ROI, SIMDRACS in SEM, and FEMO in NI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6"/>
          <p:cNvSpPr/>
          <p:nvPr/>
        </p:nvSpPr>
        <p:spPr>
          <a:xfrm>
            <a:off x="0" y="9429840"/>
            <a:ext cx="38606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</a:t>
            </a:r>
            <a:r>
              <a:rPr b="0" lang="en-IE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© AIME</a:t>
            </a:r>
            <a:r>
              <a:rPr b="0" lang="en-GB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2006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onfidenti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29B1E-70FF-4C32-A4C0-FA0299E3EF49}" type="slidenum">
              <a:rPr b="0" i="1" lang="en-GB" sz="10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906480" y="4714920"/>
            <a:ext cx="498456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6"/>
          <p:cNvSpPr/>
          <p:nvPr/>
        </p:nvSpPr>
        <p:spPr>
          <a:xfrm>
            <a:off x="0" y="9429840"/>
            <a:ext cx="38606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</a:t>
            </a:r>
            <a:r>
              <a:rPr b="0" lang="en-IE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© AIME</a:t>
            </a:r>
            <a:r>
              <a:rPr b="0" lang="en-GB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2006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onfidenti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34616-07B7-4E87-BC06-BB7F00BFAD9D}" type="slidenum">
              <a:rPr b="0" i="1" lang="en-GB" sz="10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906480" y="4714920"/>
            <a:ext cx="498456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6"/>
          <p:cNvSpPr/>
          <p:nvPr/>
        </p:nvSpPr>
        <p:spPr>
          <a:xfrm>
            <a:off x="0" y="9429840"/>
            <a:ext cx="38606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</a:t>
            </a:r>
            <a:r>
              <a:rPr b="0" lang="en-IE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© AIME</a:t>
            </a:r>
            <a:r>
              <a:rPr b="0" lang="en-GB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2006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onfidenti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6FAF9-82CE-4BFF-82A8-217E21F3024F}" type="slidenum">
              <a:rPr b="0" i="1" lang="en-GB" sz="10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06480" y="4714920"/>
            <a:ext cx="498456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6"/>
          <p:cNvSpPr/>
          <p:nvPr/>
        </p:nvSpPr>
        <p:spPr>
          <a:xfrm>
            <a:off x="0" y="9429840"/>
            <a:ext cx="38606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</a:t>
            </a:r>
            <a:r>
              <a:rPr b="0" lang="en-IE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© AIME</a:t>
            </a:r>
            <a:r>
              <a:rPr b="0" lang="en-GB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2006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onfidenti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B3247-020E-46E3-A988-80C838E44F62}" type="slidenum">
              <a:rPr b="0" i="1" lang="en-GB" sz="10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6"/>
          <p:cNvSpPr/>
          <p:nvPr/>
        </p:nvSpPr>
        <p:spPr>
          <a:xfrm>
            <a:off x="0" y="9429840"/>
            <a:ext cx="38606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</a:t>
            </a:r>
            <a:r>
              <a:rPr b="0" lang="en-IE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© AIME</a:t>
            </a:r>
            <a:r>
              <a:rPr b="0" lang="en-GB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2006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onfidenti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BA76A-4B0A-4F22-B2F0-19B737F74704}" type="slidenum">
              <a:rPr b="0" i="1" lang="en-GB" sz="10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906480" y="4714920"/>
            <a:ext cx="498456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6"/>
          <p:cNvSpPr/>
          <p:nvPr/>
        </p:nvSpPr>
        <p:spPr>
          <a:xfrm>
            <a:off x="0" y="9429840"/>
            <a:ext cx="38606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</a:t>
            </a:r>
            <a:r>
              <a:rPr b="0" lang="en-IE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© AIME</a:t>
            </a:r>
            <a:r>
              <a:rPr b="0" lang="en-GB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2006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onfidenti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78ED6-B6F1-426E-93AA-6417AAB109EF}" type="slidenum">
              <a:rPr b="0" i="1" lang="en-GB" sz="10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06480" y="4714920"/>
            <a:ext cx="498456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6"/>
          <p:cNvSpPr/>
          <p:nvPr/>
        </p:nvSpPr>
        <p:spPr>
          <a:xfrm>
            <a:off x="0" y="9429840"/>
            <a:ext cx="38606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</a:t>
            </a:r>
            <a:r>
              <a:rPr b="0" lang="en-IE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© AIME</a:t>
            </a:r>
            <a:r>
              <a:rPr b="0" lang="en-GB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2006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onfidenti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CF1BB-47EB-459D-AA88-2B04A911511C}" type="slidenum">
              <a:rPr b="0" i="1" lang="en-GB" sz="10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06480" y="4714920"/>
            <a:ext cx="498456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6"/>
          <p:cNvSpPr/>
          <p:nvPr/>
        </p:nvSpPr>
        <p:spPr>
          <a:xfrm>
            <a:off x="0" y="9429840"/>
            <a:ext cx="38606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</a:t>
            </a:r>
            <a:r>
              <a:rPr b="0" lang="en-IE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© AIME</a:t>
            </a:r>
            <a:r>
              <a:rPr b="0" lang="en-GB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2006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onfidenti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68E25-0141-4C9E-871A-CDED9CD5D9C1}" type="slidenum">
              <a:rPr b="0" i="1" lang="en-GB" sz="10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06480" y="4714920"/>
            <a:ext cx="498456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6"/>
          <p:cNvSpPr/>
          <p:nvPr/>
        </p:nvSpPr>
        <p:spPr>
          <a:xfrm>
            <a:off x="0" y="9429840"/>
            <a:ext cx="38606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</a:t>
            </a:r>
            <a:r>
              <a:rPr b="0" lang="en-IE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© AIME</a:t>
            </a:r>
            <a:r>
              <a:rPr b="0" lang="en-GB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2006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onfidenti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5D0A9-DEE6-4BAA-9492-10F5187A6917}" type="slidenum">
              <a:rPr b="0" i="1" lang="en-GB" sz="10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6"/>
          <p:cNvSpPr/>
          <p:nvPr/>
        </p:nvSpPr>
        <p:spPr>
          <a:xfrm>
            <a:off x="0" y="9429840"/>
            <a:ext cx="38606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</a:t>
            </a:r>
            <a:r>
              <a:rPr b="0" lang="en-IE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© AIME</a:t>
            </a:r>
            <a:r>
              <a:rPr b="0" lang="en-GB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2006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onfidenti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693F5-FF01-4554-99DF-2AB0B63728CB}" type="slidenum">
              <a:rPr b="0" i="1" lang="en-GB" sz="10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6"/>
          <p:cNvSpPr/>
          <p:nvPr/>
        </p:nvSpPr>
        <p:spPr>
          <a:xfrm>
            <a:off x="0" y="9429840"/>
            <a:ext cx="38606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</a:t>
            </a:r>
            <a:r>
              <a:rPr b="0" lang="en-IE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© AIME</a:t>
            </a:r>
            <a:r>
              <a:rPr b="0" lang="en-GB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2006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onfidenti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B1D10-008A-4BAC-AE31-9EF637BA4E6F}" type="slidenum">
              <a:rPr b="0" i="1" lang="en-GB" sz="10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6"/>
          <p:cNvSpPr/>
          <p:nvPr/>
        </p:nvSpPr>
        <p:spPr>
          <a:xfrm>
            <a:off x="0" y="9429840"/>
            <a:ext cx="38606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</a:t>
            </a:r>
            <a:r>
              <a:rPr b="0" lang="en-IE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© AIME</a:t>
            </a:r>
            <a:r>
              <a:rPr b="0" lang="en-GB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2006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onfidenti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6D4E7-2BF1-4044-8582-56E04DE1802C}" type="slidenum">
              <a:rPr b="0" i="1" lang="en-GB" sz="10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06480" y="4714920"/>
            <a:ext cx="4984560" cy="44654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entury Gothic"/>
              </a:rPr>
              <a:t>On driver for change, refer to the very informative slides provided by Stephen Walsh and William Steele at the last working group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6"/>
          <p:cNvSpPr/>
          <p:nvPr/>
        </p:nvSpPr>
        <p:spPr>
          <a:xfrm>
            <a:off x="0" y="9429840"/>
            <a:ext cx="38606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</a:t>
            </a:r>
            <a:r>
              <a:rPr b="0" lang="en-IE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© AIME</a:t>
            </a:r>
            <a:r>
              <a:rPr b="0" lang="en-GB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2006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onfidenti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A0C69-9BA6-4F8B-BAAA-B2FCBC414336}" type="slidenum">
              <a:rPr b="0" i="1" lang="en-GB" sz="10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6"/>
          <p:cNvSpPr/>
          <p:nvPr/>
        </p:nvSpPr>
        <p:spPr>
          <a:xfrm>
            <a:off x="0" y="9429840"/>
            <a:ext cx="38606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</a:t>
            </a:r>
            <a:r>
              <a:rPr b="0" lang="en-IE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© AIME</a:t>
            </a:r>
            <a:r>
              <a:rPr b="0" lang="en-GB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2006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onfidenti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84A4D-6092-458E-89FB-FB19B269C598}" type="slidenum">
              <a:rPr b="0" i="1" lang="en-GB" sz="10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06480" y="4714920"/>
            <a:ext cx="498456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6"/>
          <p:cNvSpPr/>
          <p:nvPr/>
        </p:nvSpPr>
        <p:spPr>
          <a:xfrm>
            <a:off x="0" y="9429840"/>
            <a:ext cx="38606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</a:t>
            </a:r>
            <a:r>
              <a:rPr b="0" lang="en-IE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© AIME</a:t>
            </a:r>
            <a:r>
              <a:rPr b="0" lang="en-GB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2006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onfidenti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4AB74-7E56-431A-B9E3-0BC4E6F22A6F}" type="slidenum">
              <a:rPr b="0" i="1" lang="en-GB" sz="10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906480" y="4714920"/>
            <a:ext cx="498456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934139-B260-437A-B522-5523927BE3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78994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440" y="2115720"/>
            <a:ext cx="78994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F11E74-5C97-49EC-99BD-27CE596DB1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440" y="211572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33280" y="211572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42180C-437E-4973-9927-CE1D50E444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56280" y="124416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7480" y="124416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440" y="211572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56280" y="211572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7480" y="211572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F1A5C9-BAF9-4C78-8417-3D9580192E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A17D-5E60-4594-98EF-87BC27ADC92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440" y="1244160"/>
            <a:ext cx="7899480" cy="16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B1E2-F76F-4966-9106-BE5250A8B00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78994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5B6D-9BF6-41C3-922C-E8DAD42F119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2D7C-D096-4C0C-8145-99E47ACAED6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4EAF-C442-4EE9-B026-BFE3A546707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55240" y="72720"/>
            <a:ext cx="7124760" cy="451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12EC-D837-4936-8FAF-27D39D6D754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440" y="211572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C531-A17D-43E7-AAA9-F55D856C619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440" y="1244160"/>
            <a:ext cx="7899480" cy="16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3F3AFA-2DC5-459E-9783-1065B336BD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33280" y="211572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0ABA-CC29-418F-959F-00003171945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440" y="2115720"/>
            <a:ext cx="78994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AFF8-F995-4BC6-BA55-E1AF2ACE012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78994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440" y="2115720"/>
            <a:ext cx="78994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F1BF-1CCC-42CA-9CDD-95D0A0F75D0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211572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33280" y="211572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F75E-B2DB-47E3-AE48-C808CED1F6B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56280" y="124416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7480" y="124416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440" y="211572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56280" y="211572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7480" y="211572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99F7-8005-4D35-B20C-479F5AB6FC7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6735D-8A03-4609-B6DF-EF1C73640A7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5440" y="1244160"/>
            <a:ext cx="7899480" cy="16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CB364-8BC9-4B98-9146-BE4D8809EE1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78994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41C1F-3FBB-4464-BE8F-8B56D40212E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8F874-A75C-4EF7-B689-DA13C20CA68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882C7-2C06-4FA0-83B9-B20514A06F4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78994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E7985C-017B-4A47-A860-72F869EC35D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255240" y="72720"/>
            <a:ext cx="7124760" cy="451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5B73F-188A-44A1-B24D-9AC52B11325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85440" y="211572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C4318-D00E-414C-8B78-2D540BBEBB9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733280" y="211572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0D6A3-C108-4136-879A-BF88A52783F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440" y="2115720"/>
            <a:ext cx="78994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B3333-9D1D-4B0A-BC57-4E1F55A6E99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78994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85440" y="2115720"/>
            <a:ext cx="78994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22FC3-0227-489E-A3F3-37999B05A50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440" y="211572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733280" y="211572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86395-27CD-4115-8601-2C79F8496D2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356280" y="124416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7480" y="124416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685440" y="211572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356280" y="211572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7480" y="211572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96658-084A-48A9-877A-252D9708140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B87948-15A9-43BC-BC3E-565A80BA53A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685440" y="1244160"/>
            <a:ext cx="7899480" cy="16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B8DC7A-4777-4B65-8444-B15F4CBC95A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78994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66FDB5-988B-4D1F-83C8-EEFF046E32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57D64E-46B2-481E-BEB2-E5027B44DA9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B5A112-A3C9-4277-8937-96B91AE0B90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A3630E-A852-42BC-8747-F4CC7C96A4F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255240" y="72720"/>
            <a:ext cx="7124760" cy="451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E19B02-3FF5-46CE-B36D-17797DD1447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440" y="211572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5FA508-C190-4D75-8791-1928F76D798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733280" y="211572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406490-8B57-4BA5-85BB-5C846844531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85440" y="2115720"/>
            <a:ext cx="78994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046C8F-AA43-46E1-9D47-366E4EC2C3F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78994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85440" y="2115720"/>
            <a:ext cx="78994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BF398D-FD29-4C74-8CE1-DD35EF71526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85440" y="211572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733280" y="211572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56CC53-01EF-4423-AB45-BCF44E2A47D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56280" y="124416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7480" y="124416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685440" y="211572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56280" y="211572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7480" y="211572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8C2D3A-864B-4248-BB4E-595DA6A724BC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B5F7E7D-52EA-4E1B-84DB-AA7F616CD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08D9A0-4B25-47B1-8DFB-4083A4B69DE0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685440" y="1244160"/>
            <a:ext cx="7899480" cy="16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338DAAA-930B-4B38-A968-0627CCCD9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78994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5D015CA-439D-4BA4-B33E-502B10627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560D89A-982E-4A61-AE83-D9901B436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8C95964-EDCA-4734-8C40-EFC726BD8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255240" y="72720"/>
            <a:ext cx="7124760" cy="451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71B67D6-537F-4F21-8EF1-3849B0104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85440" y="211572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A1527F4-C453-4F99-89C6-CE818045B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733280" y="211572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1A2C473-A3FF-4C5B-8448-7525617AD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85440" y="2115720"/>
            <a:ext cx="78994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E9CBF62-F66D-41AD-B535-AA27C6BB9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78994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685440" y="2115720"/>
            <a:ext cx="78994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9DB1FFC-6017-4828-A9DC-49573FA74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85440" y="211572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733280" y="211572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ABC8221-3D4E-476D-BC49-46063E34B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55240" y="72720"/>
            <a:ext cx="7124760" cy="451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C0B44D-5D20-4B8A-A0C7-A2F7F5F91DCE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56280" y="124416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7480" y="124416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685440" y="211572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56280" y="211572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7480" y="211572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A46FFFF-C0CD-4F7D-9811-B6E09E733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440" y="211572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866EE1-BF42-41D6-B43D-9B4E2227D1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33280" y="211572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37E4AB-B6FC-4F2F-BE41-85D40E2B95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440" y="2115720"/>
            <a:ext cx="78994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65475E-1610-463C-8C49-53AF532710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wmf"/><Relationship Id="rId3" Type="http://schemas.openxmlformats.org/officeDocument/2006/relationships/image" Target="../media/image6.jpeg"/><Relationship Id="rId4" Type="http://schemas.openxmlformats.org/officeDocument/2006/relationships/image" Target="../media/image3.pn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wmf"/><Relationship Id="rId3" Type="http://schemas.openxmlformats.org/officeDocument/2006/relationships/image" Target="../media/image6.jpeg"/><Relationship Id="rId4" Type="http://schemas.openxmlformats.org/officeDocument/2006/relationships/image" Target="../media/image3.pn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440" y="1244160"/>
            <a:ext cx="78994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4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6400" indent="-267120">
              <a:spcBef>
                <a:spcPts val="400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23880" indent="-178200">
              <a:spcBef>
                <a:spcPts val="4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248120" indent="-1782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5580000" y="6552720"/>
            <a:ext cx="3564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Copyright EirGrid/SONI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409560" y="6543360"/>
            <a:ext cx="213372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59A40-0755-4EF2-BDA6-91A22104C231}" type="slidenum">
              <a:rPr b="0" lang="en-US" sz="9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"/>
          <p:cNvPicPr/>
          <p:nvPr/>
        </p:nvPicPr>
        <p:blipFill>
          <a:blip r:embed="rId2"/>
          <a:stretch/>
        </p:blipFill>
        <p:spPr>
          <a:xfrm>
            <a:off x="0" y="5614920"/>
            <a:ext cx="1306440" cy="1241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4" descr="EirGrid_Logo_LORES"/>
          <p:cNvPicPr/>
          <p:nvPr/>
        </p:nvPicPr>
        <p:blipFill>
          <a:blip r:embed="rId2"/>
          <a:stretch/>
        </p:blipFill>
        <p:spPr>
          <a:xfrm>
            <a:off x="0" y="6100920"/>
            <a:ext cx="1486080" cy="757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5" descr="banner1_01"/>
          <p:cNvPicPr/>
          <p:nvPr/>
        </p:nvPicPr>
        <p:blipFill>
          <a:blip r:embed="rId3"/>
          <a:srcRect l="1411" t="0" r="0" b="0"/>
          <a:stretch/>
        </p:blipFill>
        <p:spPr>
          <a:xfrm>
            <a:off x="7810560" y="6095880"/>
            <a:ext cx="1342800" cy="7621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1" descr="Semo logo.jpg"/>
          <p:cNvPicPr/>
          <p:nvPr/>
        </p:nvPicPr>
        <p:blipFill>
          <a:blip r:embed="rId4"/>
          <a:stretch/>
        </p:blipFill>
        <p:spPr>
          <a:xfrm>
            <a:off x="900000" y="836640"/>
            <a:ext cx="6883560" cy="28796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body"/>
          </p:nvPr>
        </p:nvSpPr>
        <p:spPr>
          <a:xfrm>
            <a:off x="755280" y="3776760"/>
            <a:ext cx="7899480" cy="16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4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6400" indent="-267120">
              <a:spcBef>
                <a:spcPts val="400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23880" indent="-178200">
              <a:spcBef>
                <a:spcPts val="4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248120" indent="-1782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Num" idx="3"/>
          </p:nvPr>
        </p:nvSpPr>
        <p:spPr>
          <a:xfrm>
            <a:off x="3409560" y="6543360"/>
            <a:ext cx="213372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2C145-FB0D-452D-A40A-FBFBA057045D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6248160" y="655272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opyright EirGrid, SONI, 2007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body"/>
          </p:nvPr>
        </p:nvSpPr>
        <p:spPr>
          <a:xfrm>
            <a:off x="685440" y="1244160"/>
            <a:ext cx="78994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4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6400" indent="-267120">
              <a:spcBef>
                <a:spcPts val="400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23880" indent="-178200">
              <a:spcBef>
                <a:spcPts val="4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248120" indent="-1782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5"/>
          </p:nvPr>
        </p:nvSpPr>
        <p:spPr>
          <a:xfrm>
            <a:off x="6248160" y="655272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opyright EirGrid, SONI, 2007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6"/>
          </p:nvPr>
        </p:nvSpPr>
        <p:spPr>
          <a:xfrm>
            <a:off x="3409560" y="6543360"/>
            <a:ext cx="213372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E8975-904C-49AC-A212-E774CA5225B0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55" descr=""/>
          <p:cNvPicPr/>
          <p:nvPr/>
        </p:nvPicPr>
        <p:blipFill>
          <a:blip r:embed="rId2"/>
          <a:stretch/>
        </p:blipFill>
        <p:spPr>
          <a:xfrm>
            <a:off x="0" y="6303960"/>
            <a:ext cx="857160" cy="5540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6" descr="EirGrid_Logo_LORES"/>
          <p:cNvPicPr/>
          <p:nvPr/>
        </p:nvPicPr>
        <p:blipFill>
          <a:blip r:embed="rId3"/>
          <a:stretch/>
        </p:blipFill>
        <p:spPr>
          <a:xfrm>
            <a:off x="8086680" y="182520"/>
            <a:ext cx="905040" cy="4604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7" descr="banner1_01"/>
          <p:cNvPicPr/>
          <p:nvPr/>
        </p:nvPicPr>
        <p:blipFill>
          <a:blip r:embed="rId4"/>
          <a:srcRect l="1411" t="0" r="0" b="0"/>
          <a:stretch/>
        </p:blipFill>
        <p:spPr>
          <a:xfrm>
            <a:off x="8105760" y="655560"/>
            <a:ext cx="876240" cy="4968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8" descr="Semo logo.jpg"/>
          <p:cNvPicPr/>
          <p:nvPr/>
        </p:nvPicPr>
        <p:blipFill>
          <a:blip r:embed="rId5"/>
          <a:stretch/>
        </p:blipFill>
        <p:spPr>
          <a:xfrm>
            <a:off x="200160" y="371520"/>
            <a:ext cx="1755720" cy="735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55" descr=""/>
          <p:cNvPicPr/>
          <p:nvPr/>
        </p:nvPicPr>
        <p:blipFill>
          <a:blip r:embed="rId2"/>
          <a:stretch/>
        </p:blipFill>
        <p:spPr>
          <a:xfrm>
            <a:off x="0" y="6303960"/>
            <a:ext cx="857160" cy="5540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6" descr="EirGrid_Logo_LORES"/>
          <p:cNvPicPr/>
          <p:nvPr/>
        </p:nvPicPr>
        <p:blipFill>
          <a:blip r:embed="rId3"/>
          <a:stretch/>
        </p:blipFill>
        <p:spPr>
          <a:xfrm>
            <a:off x="8086680" y="182520"/>
            <a:ext cx="905040" cy="4604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7" descr="banner1_01"/>
          <p:cNvPicPr/>
          <p:nvPr/>
        </p:nvPicPr>
        <p:blipFill>
          <a:blip r:embed="rId4"/>
          <a:srcRect l="1411" t="0" r="0" b="0"/>
          <a:stretch/>
        </p:blipFill>
        <p:spPr>
          <a:xfrm>
            <a:off x="8105760" y="655560"/>
            <a:ext cx="876240" cy="4968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Semo logo.jpg"/>
          <p:cNvPicPr/>
          <p:nvPr/>
        </p:nvPicPr>
        <p:blipFill>
          <a:blip r:embed="rId5"/>
          <a:stretch/>
        </p:blipFill>
        <p:spPr>
          <a:xfrm>
            <a:off x="200160" y="371520"/>
            <a:ext cx="1755720" cy="73512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body"/>
          </p:nvPr>
        </p:nvSpPr>
        <p:spPr>
          <a:xfrm>
            <a:off x="685440" y="1244160"/>
            <a:ext cx="78994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4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6400" indent="-267120">
              <a:spcBef>
                <a:spcPts val="400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23880" indent="-178200">
              <a:spcBef>
                <a:spcPts val="4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248120" indent="-1782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ftr" idx="7"/>
          </p:nvPr>
        </p:nvSpPr>
        <p:spPr>
          <a:xfrm>
            <a:off x="6248160" y="655272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opyright EirGrid, SONI, 2007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sldNum" idx="8"/>
          </p:nvPr>
        </p:nvSpPr>
        <p:spPr>
          <a:xfrm>
            <a:off x="3409560" y="6543360"/>
            <a:ext cx="213372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86F4F-99F5-4943-B1AC-A413679E9CBD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3366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Picture 8" descr="SEMO LOGO"/>
          <p:cNvPicPr/>
          <p:nvPr/>
        </p:nvPicPr>
        <p:blipFill>
          <a:blip r:embed="rId2"/>
          <a:stretch/>
        </p:blipFill>
        <p:spPr>
          <a:xfrm>
            <a:off x="1692360" y="861840"/>
            <a:ext cx="5788080" cy="242280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body"/>
          </p:nvPr>
        </p:nvSpPr>
        <p:spPr>
          <a:xfrm>
            <a:off x="685440" y="1244160"/>
            <a:ext cx="78994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4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6400" indent="-267120">
              <a:spcBef>
                <a:spcPts val="400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23880" indent="-178200">
              <a:spcBef>
                <a:spcPts val="4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248120" indent="-1782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34644-1092-4BEF-8429-53D948248F66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© EirGrid &amp; SONI, 2006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93E8A-2225-43B8-9473-AB0E4C79E1BA}" type="slidenum">
              <a:rPr b="0" lang="en-GB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1377720" y="4962600"/>
            <a:ext cx="6676920" cy="68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Global Aggregation Working Grou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27</a:t>
            </a:r>
            <a:r>
              <a:rPr b="1" lang="en-IE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 April 201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7"/>
          <p:cNvSpPr/>
          <p:nvPr/>
        </p:nvSpPr>
        <p:spPr>
          <a:xfrm>
            <a:off x="774720" y="2600280"/>
            <a:ext cx="7772400" cy="25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Slide Number Placeholder 4"/>
          <p:cNvSpPr/>
          <p:nvPr/>
        </p:nvSpPr>
        <p:spPr>
          <a:xfrm>
            <a:off x="3409920" y="6543720"/>
            <a:ext cx="17874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A55CA-5F57-4F5E-A8DB-B0541A5CC605}" type="slidenum">
              <a:rPr b="0" lang="en-GB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819160" y="592200"/>
            <a:ext cx="6305400" cy="49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Global Aggregation - Recap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Text Box 4"/>
          <p:cNvSpPr/>
          <p:nvPr/>
        </p:nvSpPr>
        <p:spPr>
          <a:xfrm>
            <a:off x="0" y="1266840"/>
            <a:ext cx="9144000" cy="38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SEMO &amp; RA met December 1</a:t>
            </a:r>
            <a:r>
              <a:rPr b="0" lang="en-IE" sz="19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st</a:t>
            </a:r>
            <a:r>
              <a:rPr b="0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  to develop options paper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Four options written up and circulated –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Option A – recovered through SEMO balancing cos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Option B – smear across Suppliers based on annual factors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Option C – smear across Supplier based on monthly factors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Option D – as set out in modification propos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Slide Number Placeholder 4"/>
          <p:cNvSpPr/>
          <p:nvPr/>
        </p:nvSpPr>
        <p:spPr>
          <a:xfrm>
            <a:off x="3409920" y="6543720"/>
            <a:ext cx="17874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68A04-A655-44A2-996E-86B7637691BD}" type="slidenum">
              <a:rPr b="0" lang="en-GB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819160" y="592200"/>
            <a:ext cx="6305400" cy="49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Global Aggregation - Recap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 Box 4"/>
          <p:cNvSpPr/>
          <p:nvPr/>
        </p:nvSpPr>
        <p:spPr>
          <a:xfrm>
            <a:off x="0" y="1266840"/>
            <a:ext cx="9144000" cy="434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Working Group 2, held on 23</a:t>
            </a:r>
            <a:r>
              <a:rPr b="0" lang="en-US" sz="19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rd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February 2010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Presentations &amp; Discussion –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SB CS presented on magnitude of actual error in ESU in ROI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IE presented on magnitude of actual error in ESU in NI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MO &amp; MDPs presented results of impact assessments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RSO proposed option E, further enhancement on option C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lide Number Placeholder 4"/>
          <p:cNvSpPr/>
          <p:nvPr/>
        </p:nvSpPr>
        <p:spPr>
          <a:xfrm>
            <a:off x="3409920" y="6543720"/>
            <a:ext cx="17874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1081E-33EB-415D-9DB3-D9915AA7C31C}" type="slidenum">
              <a:rPr b="0" lang="en-GB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819160" y="592200"/>
            <a:ext cx="6305400" cy="49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Global Aggregation - Recap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Text Box 4"/>
          <p:cNvSpPr/>
          <p:nvPr/>
        </p:nvSpPr>
        <p:spPr>
          <a:xfrm>
            <a:off x="0" y="1266840"/>
            <a:ext cx="9144000" cy="20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Working Group 2, held on 23</a:t>
            </a:r>
            <a:r>
              <a:rPr b="0" lang="en-US" sz="19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rd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February 2010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mmary of system impacts for the options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1436760" y="3036960"/>
          <a:ext cx="6095880" cy="1482480"/>
        </p:xfrm>
        <a:graphic>
          <a:graphicData uri="http://schemas.openxmlformats.org/drawingml/2006/table">
            <a:tbl>
              <a:tblPr/>
              <a:tblGrid>
                <a:gridCol w="1218960"/>
                <a:gridCol w="1219320"/>
                <a:gridCol w="1219320"/>
                <a:gridCol w="1218960"/>
                <a:gridCol w="12193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tion 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tion B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tion 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tion 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M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u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u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u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RS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u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u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E T&amp;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u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Slide Number Placeholder 4"/>
          <p:cNvSpPr/>
          <p:nvPr/>
        </p:nvSpPr>
        <p:spPr>
          <a:xfrm>
            <a:off x="3409920" y="6543720"/>
            <a:ext cx="17874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B0018-A418-4FD8-BA06-CE3D684D62C6}" type="slidenum">
              <a:rPr b="0" lang="en-GB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819160" y="592200"/>
            <a:ext cx="6305400" cy="49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Global Aggregation - Recap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Text Box 4"/>
          <p:cNvSpPr/>
          <p:nvPr/>
        </p:nvSpPr>
        <p:spPr>
          <a:xfrm>
            <a:off x="0" y="1266840"/>
            <a:ext cx="9144000" cy="47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Working Group 2, held on 23</a:t>
            </a:r>
            <a:r>
              <a:rPr b="0" lang="en-US" sz="19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rd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February 2010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Actions –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MO &amp; MDPs to meet to further review options D and E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SB CS &amp; NIE to further develop option A+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MO to impact assess options A+ and E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IE PPB to consider how to deal with issue exclusively in the retail side of the marke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Slide Number Placeholder 4"/>
          <p:cNvSpPr/>
          <p:nvPr/>
        </p:nvSpPr>
        <p:spPr>
          <a:xfrm>
            <a:off x="3409920" y="6543720"/>
            <a:ext cx="17874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FA178-CC77-4351-BEC4-E05B272ED73D}" type="slidenum">
              <a:rPr b="0" lang="en-GB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Text Box 4"/>
          <p:cNvSpPr/>
          <p:nvPr/>
        </p:nvSpPr>
        <p:spPr>
          <a:xfrm>
            <a:off x="0" y="1266840"/>
            <a:ext cx="9144000" cy="57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Meeting between MRSO, NIE T&amp;D and SEMO took place on March 5</a:t>
            </a:r>
            <a:r>
              <a:rPr b="0" lang="en-US" sz="19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th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Further review of Options D and E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Option E confirmed as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ggregation for Supplier Units as norm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clusion of a % value for each Trading Perio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% value will indicate at a MW level the proportion of the aggregation that is made up of non-interval metering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0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0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0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Rectangle 2"/>
          <p:cNvSpPr/>
          <p:nvPr/>
        </p:nvSpPr>
        <p:spPr>
          <a:xfrm>
            <a:off x="2819520" y="592200"/>
            <a:ext cx="630540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Global Aggregation - Reca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Slide Number Placeholder 4"/>
          <p:cNvSpPr/>
          <p:nvPr/>
        </p:nvSpPr>
        <p:spPr>
          <a:xfrm>
            <a:off x="3409920" y="6543720"/>
            <a:ext cx="17874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FE90A-94B2-4005-9730-210D82CEBD2D}" type="slidenum">
              <a:rPr b="0" lang="en-GB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819160" y="592200"/>
            <a:ext cx="6305400" cy="49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Global Aggregation - Recap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Text Box 4"/>
          <p:cNvSpPr/>
          <p:nvPr/>
        </p:nvSpPr>
        <p:spPr>
          <a:xfrm>
            <a:off x="0" y="1266840"/>
            <a:ext cx="9144000" cy="378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Working Group 3, held on 27</a:t>
            </a:r>
            <a:r>
              <a:rPr b="0" lang="en-US" sz="19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th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April 2010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Presentations &amp; Discussion –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MO presented re-cap of process so fa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MO presented on MDP meetings and further impact assessments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irGrid presented on TUoS impacts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Slide Number Placeholder 4"/>
          <p:cNvSpPr/>
          <p:nvPr/>
        </p:nvSpPr>
        <p:spPr>
          <a:xfrm>
            <a:off x="3409920" y="6543720"/>
            <a:ext cx="17874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7DD59-AD60-40EF-9D09-F6FF682FB707}" type="slidenum">
              <a:rPr b="0" lang="en-GB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819160" y="592200"/>
            <a:ext cx="6305400" cy="49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Global Aggregation - Recap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0" y="1266840"/>
            <a:ext cx="9144000" cy="544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Working Group 3, held on 27</a:t>
            </a:r>
            <a:r>
              <a:rPr b="0" lang="en-US" sz="19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th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April 2010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Actions –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MO to outline possible interface changes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irGrid to discuss data feed requirements for TUoS with SEMO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MO to issue consultation on options A+ and E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SO to review implementation of Option A for TUoS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irGrid to discuss TUoS issues with SONI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Slide Number Placeholder 4"/>
          <p:cNvSpPr/>
          <p:nvPr/>
        </p:nvSpPr>
        <p:spPr>
          <a:xfrm>
            <a:off x="3409920" y="6543720"/>
            <a:ext cx="17874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43B99-B5E9-4172-A5F4-2842A7A97ECF}" type="slidenum">
              <a:rPr b="0" lang="en-GB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819160" y="592200"/>
            <a:ext cx="6305400" cy="49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Global Aggregation - Recap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Text Box 4"/>
          <p:cNvSpPr/>
          <p:nvPr/>
        </p:nvSpPr>
        <p:spPr>
          <a:xfrm>
            <a:off x="0" y="1266840"/>
            <a:ext cx="9144000" cy="44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Consultation document issued on June 17</a:t>
            </a:r>
            <a:r>
              <a:rPr b="0" lang="en-US" sz="19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th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Responses due by July 19</a:t>
            </a:r>
            <a:r>
              <a:rPr b="0" lang="en-US" sz="19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th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Participants asked to express preference between Option A+ and Option E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Responses welcomed on discarded options B, C and D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Participants asked to comment on data to be included in meter data feed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Slide Number Placeholder 4"/>
          <p:cNvSpPr/>
          <p:nvPr/>
        </p:nvSpPr>
        <p:spPr>
          <a:xfrm>
            <a:off x="3409920" y="6543720"/>
            <a:ext cx="17874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99FF7-DCA8-4104-B38A-3B0D75C79E09}" type="slidenum">
              <a:rPr b="0" lang="en-GB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0" y="1266840"/>
            <a:ext cx="9144000" cy="98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Nine responses received to Consultation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Text Box 4"/>
          <p:cNvSpPr/>
          <p:nvPr/>
        </p:nvSpPr>
        <p:spPr>
          <a:xfrm>
            <a:off x="-7920" y="2116080"/>
            <a:ext cx="9144000" cy="98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Five responses favoured Option E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Text Box 4"/>
          <p:cNvSpPr/>
          <p:nvPr/>
        </p:nvSpPr>
        <p:spPr>
          <a:xfrm>
            <a:off x="0" y="2951280"/>
            <a:ext cx="9144000" cy="98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Three responses </a:t>
            </a:r>
            <a:r>
              <a:rPr b="0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favoured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Option A+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Text Box 4"/>
          <p:cNvSpPr/>
          <p:nvPr/>
        </p:nvSpPr>
        <p:spPr>
          <a:xfrm>
            <a:off x="-7920" y="3828960"/>
            <a:ext cx="9144000" cy="98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One response recommended either option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Rectangle 2"/>
          <p:cNvSpPr/>
          <p:nvPr/>
        </p:nvSpPr>
        <p:spPr>
          <a:xfrm>
            <a:off x="2819520" y="611280"/>
            <a:ext cx="630540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Global Aggregation - Reca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Rectangle 2"/>
          <p:cNvSpPr/>
          <p:nvPr/>
        </p:nvSpPr>
        <p:spPr>
          <a:xfrm>
            <a:off x="2819520" y="611280"/>
            <a:ext cx="630540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Global Aggregation - Reca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Rectangle 2"/>
          <p:cNvSpPr/>
          <p:nvPr/>
        </p:nvSpPr>
        <p:spPr>
          <a:xfrm>
            <a:off x="2819520" y="515880"/>
            <a:ext cx="63054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Global Aggregation - Reca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Slide Number Placeholder 4"/>
          <p:cNvSpPr/>
          <p:nvPr/>
        </p:nvSpPr>
        <p:spPr>
          <a:xfrm>
            <a:off x="3409920" y="6543720"/>
            <a:ext cx="17874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909C7-CDE7-45BD-ABE5-F21DF8A4F360}" type="slidenum">
              <a:rPr b="0" lang="en-GB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Text Box 4"/>
          <p:cNvSpPr/>
          <p:nvPr/>
        </p:nvSpPr>
        <p:spPr>
          <a:xfrm>
            <a:off x="0" y="1266840"/>
            <a:ext cx="9144000" cy="98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Of Participants who responded -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Text Box 4"/>
          <p:cNvSpPr/>
          <p:nvPr/>
        </p:nvSpPr>
        <p:spPr>
          <a:xfrm>
            <a:off x="-7920" y="2116080"/>
            <a:ext cx="9144000" cy="98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Two responses favoured Option E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0" y="2951280"/>
            <a:ext cx="9144000" cy="98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Three responses </a:t>
            </a:r>
            <a:r>
              <a:rPr b="0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favoured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Option A+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Text Box 4"/>
          <p:cNvSpPr/>
          <p:nvPr/>
        </p:nvSpPr>
        <p:spPr>
          <a:xfrm>
            <a:off x="-7920" y="3828960"/>
            <a:ext cx="9144000" cy="98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Remaining three responses supporting Option E from service providers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Slide Number Placeholder 4"/>
          <p:cNvSpPr/>
          <p:nvPr/>
        </p:nvSpPr>
        <p:spPr>
          <a:xfrm>
            <a:off x="3409920" y="6543720"/>
            <a:ext cx="17874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B39CD-D4EA-47A5-BCDE-AAA49600A487}" type="slidenum">
              <a:rPr b="0" lang="en-GB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819160" y="592200"/>
            <a:ext cx="6305400" cy="49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Global Aggregation - Recap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0" y="1266840"/>
            <a:ext cx="9144000" cy="44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What is Global Aggregation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Process of providing an aggregation for all registered Suppliers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Includes aggregation of Host Suppliers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Current implementation means Host Supplier calculated by difference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Error Supplier Unit in the SEM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Not just Host Supplier volumes but also other errors included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Slide Number Placeholder 4"/>
          <p:cNvSpPr/>
          <p:nvPr/>
        </p:nvSpPr>
        <p:spPr>
          <a:xfrm>
            <a:off x="3409920" y="6543720"/>
            <a:ext cx="17874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1D0F9-A06E-4734-9ACF-92F5C92AC744}" type="slidenum">
              <a:rPr b="0" lang="en-GB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819160" y="592200"/>
            <a:ext cx="6305400" cy="49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Global Aggregation - Recap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Text Box 4"/>
          <p:cNvSpPr/>
          <p:nvPr/>
        </p:nvSpPr>
        <p:spPr>
          <a:xfrm>
            <a:off x="0" y="1266840"/>
            <a:ext cx="9144000" cy="50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Participant responses supporting Option A –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Certainty of tariff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Reduced risk on Suppliers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Cheaper implementation costs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Participant responses supporting Option E –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Transparency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Accuracy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Cost effective (based on indicative costs)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Slide Number Placeholder 4"/>
          <p:cNvSpPr/>
          <p:nvPr/>
        </p:nvSpPr>
        <p:spPr>
          <a:xfrm>
            <a:off x="3409920" y="6543720"/>
            <a:ext cx="17874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69994-68D4-438C-98CF-168BCDEA3B30}" type="slidenum">
              <a:rPr b="0" lang="en-GB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819160" y="592200"/>
            <a:ext cx="6305400" cy="49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Global Aggregation - Recap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Text Box 4"/>
          <p:cNvSpPr/>
          <p:nvPr/>
        </p:nvSpPr>
        <p:spPr>
          <a:xfrm>
            <a:off x="0" y="1266840"/>
            <a:ext cx="9144000" cy="50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Mods Meeting 29, held on 29</a:t>
            </a:r>
            <a:r>
              <a:rPr b="0" lang="en-US" sz="19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th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July 2010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SEMO presented on progress of Working Group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Summarized consultation responses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Asked for permission to progress two actions -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Produce draft modifications for both options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Procure full impact assessment on Option E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Slide Number Placeholder 4"/>
          <p:cNvSpPr/>
          <p:nvPr/>
        </p:nvSpPr>
        <p:spPr>
          <a:xfrm>
            <a:off x="3409920" y="6543720"/>
            <a:ext cx="17874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5FD21-52F7-4153-A8FF-B3BC47F31186}" type="slidenum">
              <a:rPr b="0" lang="en-GB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819160" y="592200"/>
            <a:ext cx="6305400" cy="49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Global Aggregation - Recap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Text Box 4"/>
          <p:cNvSpPr/>
          <p:nvPr/>
        </p:nvSpPr>
        <p:spPr>
          <a:xfrm>
            <a:off x="0" y="1266840"/>
            <a:ext cx="9144000" cy="375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Option A+ and Option E draft modifications circulated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Both versions to be submitted to Mods committee for consideration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Expectation of today is to pass both back to Mods committee with recommendations for voting on each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Slide Number Placeholder 4"/>
          <p:cNvSpPr/>
          <p:nvPr/>
        </p:nvSpPr>
        <p:spPr>
          <a:xfrm>
            <a:off x="3409920" y="6543720"/>
            <a:ext cx="17874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7143F-3117-40B4-816A-DEAF9799B1B0}" type="slidenum">
              <a:rPr b="0" lang="en-GB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Text Box 4"/>
          <p:cNvSpPr/>
          <p:nvPr/>
        </p:nvSpPr>
        <p:spPr>
          <a:xfrm>
            <a:off x="0" y="1266840"/>
            <a:ext cx="9144000" cy="98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Full impact assessment returned from CMS vendor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Text Box 4"/>
          <p:cNvSpPr/>
          <p:nvPr/>
        </p:nvSpPr>
        <p:spPr>
          <a:xfrm>
            <a:off x="-7920" y="2116080"/>
            <a:ext cx="9144000" cy="98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New assessment is approx 1200 hours or €210 K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Text Box 4"/>
          <p:cNvSpPr/>
          <p:nvPr/>
        </p:nvSpPr>
        <p:spPr>
          <a:xfrm>
            <a:off x="0" y="2951280"/>
            <a:ext cx="9144000" cy="27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Increase in costs appears to focus on -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Additional items on SEMO reports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Interface for TUoS data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Specification of demand increase as separate line item on PIR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Rectangle 2"/>
          <p:cNvSpPr/>
          <p:nvPr/>
        </p:nvSpPr>
        <p:spPr>
          <a:xfrm>
            <a:off x="2819520" y="592200"/>
            <a:ext cx="630540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Global Aggregation - Reca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Slide Number Placeholder 4"/>
          <p:cNvSpPr/>
          <p:nvPr/>
        </p:nvSpPr>
        <p:spPr>
          <a:xfrm>
            <a:off x="3409920" y="6543720"/>
            <a:ext cx="17874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68A39-9375-4E43-B146-5B1E0445EE8B}" type="slidenum">
              <a:rPr b="0" lang="en-GB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819160" y="592200"/>
            <a:ext cx="6305400" cy="49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Global Aggregation - Recap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Text Box 4"/>
          <p:cNvSpPr/>
          <p:nvPr/>
        </p:nvSpPr>
        <p:spPr>
          <a:xfrm>
            <a:off x="0" y="1266840"/>
            <a:ext cx="9144000" cy="52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Further discussion took place at Mods meeting on 29</a:t>
            </a:r>
            <a:r>
              <a:rPr b="0" lang="en-US" sz="19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th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July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Centered on “Roadmap for Deregulation” paper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Includes reference to “interim solution” for Global Aggregation in ROI pending implementation of Mod 34_09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Noted that design of Option E is jurisdictional independent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That is, timing of implementation in one jurisdiction is not dependent on the timing of the other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Always part of the Option E design, recognising that synchronizing the implementation in each jurisdiction carried high risk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Slide Number Placeholder 4"/>
          <p:cNvSpPr/>
          <p:nvPr/>
        </p:nvSpPr>
        <p:spPr>
          <a:xfrm>
            <a:off x="3409920" y="6543720"/>
            <a:ext cx="17874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E6771-6658-452B-A315-42B8F072ED38}" type="slidenum">
              <a:rPr b="0" lang="en-GB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819160" y="592200"/>
            <a:ext cx="6305400" cy="49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Global Aggregation - Recap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Rectangle 4"/>
          <p:cNvSpPr/>
          <p:nvPr/>
        </p:nvSpPr>
        <p:spPr>
          <a:xfrm>
            <a:off x="285840" y="1924200"/>
            <a:ext cx="2114640" cy="68580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ffff"/>
                </a:solidFill>
                <a:latin typeface="Arial"/>
              </a:rPr>
              <a:t>Metered Generation Loss Adjust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Rectangle 5"/>
          <p:cNvSpPr/>
          <p:nvPr/>
        </p:nvSpPr>
        <p:spPr>
          <a:xfrm>
            <a:off x="304920" y="3543480"/>
            <a:ext cx="2114280" cy="68580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ffff"/>
                </a:solidFill>
                <a:latin typeface="Arial"/>
              </a:rPr>
              <a:t>Metered Demand by Supplier Un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Rectangle 6"/>
          <p:cNvSpPr/>
          <p:nvPr/>
        </p:nvSpPr>
        <p:spPr>
          <a:xfrm>
            <a:off x="2571840" y="2724120"/>
            <a:ext cx="2114640" cy="68580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ffff"/>
                </a:solidFill>
                <a:latin typeface="Arial"/>
              </a:rPr>
              <a:t>MGLF - ND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Rectangle 7"/>
          <p:cNvSpPr/>
          <p:nvPr/>
        </p:nvSpPr>
        <p:spPr>
          <a:xfrm>
            <a:off x="5448240" y="2724120"/>
            <a:ext cx="2114640" cy="68580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ffff"/>
                </a:solidFill>
                <a:latin typeface="Arial"/>
              </a:rPr>
              <a:t>Error Supplier Un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9" name="Shape 9"/>
          <p:cNvCxnSpPr>
            <a:stCxn id="315" idx="3"/>
            <a:endCxn id="317" idx="0"/>
          </p:cNvCxnSpPr>
          <p:nvPr/>
        </p:nvCxnSpPr>
        <p:spPr>
          <a:xfrm>
            <a:off x="2400120" y="2266920"/>
            <a:ext cx="1229400" cy="457920"/>
          </a:xfrm>
          <a:prstGeom prst="bentConnector2">
            <a:avLst/>
          </a:prstGeom>
          <a:ln w="9360">
            <a:solidFill>
              <a:srgbClr val="00cc98"/>
            </a:solidFill>
            <a:miter/>
            <a:tailEnd len="med" type="arrow" w="med"/>
          </a:ln>
        </p:spPr>
      </p:cxnSp>
      <p:cxnSp>
        <p:nvCxnSpPr>
          <p:cNvPr id="320" name="Shape 11"/>
          <p:cNvCxnSpPr>
            <a:stCxn id="316" idx="3"/>
            <a:endCxn id="317" idx="2"/>
          </p:cNvCxnSpPr>
          <p:nvPr/>
        </p:nvCxnSpPr>
        <p:spPr>
          <a:xfrm flipV="1">
            <a:off x="2418840" y="3409200"/>
            <a:ext cx="1210680" cy="477000"/>
          </a:xfrm>
          <a:prstGeom prst="bentConnector2">
            <a:avLst/>
          </a:prstGeom>
          <a:ln w="9360">
            <a:solidFill>
              <a:srgbClr val="00cc98"/>
            </a:solidFill>
            <a:miter/>
            <a:tailEnd len="med" type="arrow" w="med"/>
          </a:ln>
        </p:spPr>
      </p:cxnSp>
      <p:cxnSp>
        <p:nvCxnSpPr>
          <p:cNvPr id="321" name="Elbow Connector 13"/>
          <p:cNvCxnSpPr>
            <a:stCxn id="317" idx="3"/>
            <a:endCxn id="318" idx="1"/>
          </p:cNvCxnSpPr>
          <p:nvPr/>
        </p:nvCxnSpPr>
        <p:spPr>
          <a:xfrm>
            <a:off x="4686480" y="3067200"/>
            <a:ext cx="762480" cy="2160"/>
          </a:xfrm>
          <a:prstGeom prst="bentConnector3">
            <a:avLst>
              <a:gd name="adj1" fmla="val 49976"/>
            </a:avLst>
          </a:prstGeom>
          <a:ln w="9360">
            <a:solidFill>
              <a:srgbClr val="00cc98"/>
            </a:solidFill>
            <a:miter/>
            <a:tailEnd len="med" type="arrow" w="med"/>
          </a:ln>
        </p:spPr>
      </p:cxnSp>
      <p:sp>
        <p:nvSpPr>
          <p:cNvPr id="322" name="Rectangle 2"/>
          <p:cNvSpPr/>
          <p:nvPr/>
        </p:nvSpPr>
        <p:spPr>
          <a:xfrm>
            <a:off x="2819520" y="1144440"/>
            <a:ext cx="63054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Current Desig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Slide Number Placeholder 4"/>
          <p:cNvSpPr/>
          <p:nvPr/>
        </p:nvSpPr>
        <p:spPr>
          <a:xfrm>
            <a:off x="3409920" y="6543720"/>
            <a:ext cx="17874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6F719-0D5D-47C2-BF4E-2BA234193070}" type="slidenum">
              <a:rPr b="0" lang="en-GB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819160" y="592200"/>
            <a:ext cx="6305400" cy="49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Global Aggregation - Recap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Rectangle 4"/>
          <p:cNvSpPr/>
          <p:nvPr/>
        </p:nvSpPr>
        <p:spPr>
          <a:xfrm>
            <a:off x="285840" y="1924200"/>
            <a:ext cx="2114640" cy="68580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ffff"/>
                </a:solidFill>
                <a:latin typeface="Arial"/>
              </a:rPr>
              <a:t>Metered Generation Loss Adjust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Rectangle 5"/>
          <p:cNvSpPr/>
          <p:nvPr/>
        </p:nvSpPr>
        <p:spPr>
          <a:xfrm>
            <a:off x="304920" y="3543480"/>
            <a:ext cx="2114280" cy="68580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ffff"/>
                </a:solidFill>
                <a:latin typeface="Arial"/>
              </a:rPr>
              <a:t>Metered Demand by Supplier Un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Rectangle 6"/>
          <p:cNvSpPr/>
          <p:nvPr/>
        </p:nvSpPr>
        <p:spPr>
          <a:xfrm>
            <a:off x="2571840" y="2724120"/>
            <a:ext cx="2114640" cy="68580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ffff"/>
                </a:solidFill>
                <a:latin typeface="Arial"/>
              </a:rPr>
              <a:t>MGLF - ND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Rectangle 7"/>
          <p:cNvSpPr/>
          <p:nvPr/>
        </p:nvSpPr>
        <p:spPr>
          <a:xfrm>
            <a:off x="5448240" y="2724120"/>
            <a:ext cx="2114640" cy="68580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ffff"/>
                </a:solidFill>
                <a:latin typeface="Arial"/>
              </a:rPr>
              <a:t>Error Supplier Un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29" name="Shape 9"/>
          <p:cNvCxnSpPr>
            <a:stCxn id="325" idx="3"/>
            <a:endCxn id="327" idx="0"/>
          </p:cNvCxnSpPr>
          <p:nvPr/>
        </p:nvCxnSpPr>
        <p:spPr>
          <a:xfrm>
            <a:off x="2400120" y="2266920"/>
            <a:ext cx="1229400" cy="457920"/>
          </a:xfrm>
          <a:prstGeom prst="bentConnector2">
            <a:avLst/>
          </a:prstGeom>
          <a:ln w="9360">
            <a:solidFill>
              <a:srgbClr val="00cc98"/>
            </a:solidFill>
            <a:miter/>
            <a:tailEnd len="med" type="arrow" w="med"/>
          </a:ln>
        </p:spPr>
      </p:cxnSp>
      <p:cxnSp>
        <p:nvCxnSpPr>
          <p:cNvPr id="330" name="Shape 11"/>
          <p:cNvCxnSpPr>
            <a:stCxn id="326" idx="3"/>
            <a:endCxn id="327" idx="2"/>
          </p:cNvCxnSpPr>
          <p:nvPr/>
        </p:nvCxnSpPr>
        <p:spPr>
          <a:xfrm flipV="1">
            <a:off x="2418840" y="3409200"/>
            <a:ext cx="1210680" cy="477000"/>
          </a:xfrm>
          <a:prstGeom prst="bentConnector2">
            <a:avLst/>
          </a:prstGeom>
          <a:ln w="9360">
            <a:solidFill>
              <a:srgbClr val="00cc98"/>
            </a:solidFill>
            <a:miter/>
            <a:tailEnd len="med" type="arrow" w="med"/>
          </a:ln>
        </p:spPr>
      </p:cxnSp>
      <p:cxnSp>
        <p:nvCxnSpPr>
          <p:cNvPr id="331" name="Elbow Connector 13"/>
          <p:cNvCxnSpPr>
            <a:stCxn id="327" idx="3"/>
            <a:endCxn id="328" idx="1"/>
          </p:cNvCxnSpPr>
          <p:nvPr/>
        </p:nvCxnSpPr>
        <p:spPr>
          <a:xfrm>
            <a:off x="4686480" y="3067200"/>
            <a:ext cx="762480" cy="2160"/>
          </a:xfrm>
          <a:prstGeom prst="bentConnector3">
            <a:avLst>
              <a:gd name="adj1" fmla="val 49976"/>
            </a:avLst>
          </a:prstGeom>
          <a:ln w="9360">
            <a:solidFill>
              <a:srgbClr val="00cc98"/>
            </a:solidFill>
            <a:miter/>
            <a:tailEnd len="med" type="arrow" w="med"/>
          </a:ln>
        </p:spPr>
      </p:cxnSp>
      <p:sp>
        <p:nvSpPr>
          <p:cNvPr id="332" name="Rectangle 2"/>
          <p:cNvSpPr/>
          <p:nvPr/>
        </p:nvSpPr>
        <p:spPr>
          <a:xfrm>
            <a:off x="2819520" y="1144440"/>
            <a:ext cx="63054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Option E Desig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Rectangle 14"/>
          <p:cNvSpPr/>
          <p:nvPr/>
        </p:nvSpPr>
        <p:spPr>
          <a:xfrm>
            <a:off x="1504800" y="4457880"/>
            <a:ext cx="2114640" cy="68580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ffff"/>
                </a:solidFill>
                <a:latin typeface="Arial"/>
              </a:rPr>
              <a:t>Metered Generation Loss Adjust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Rectangle 15"/>
          <p:cNvSpPr/>
          <p:nvPr/>
        </p:nvSpPr>
        <p:spPr>
          <a:xfrm>
            <a:off x="1523880" y="6076800"/>
            <a:ext cx="2114640" cy="68580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ffff"/>
                </a:solidFill>
                <a:latin typeface="Arial"/>
              </a:rPr>
              <a:t>Metered Demand by Supplier Un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Rectangle 16"/>
          <p:cNvSpPr/>
          <p:nvPr/>
        </p:nvSpPr>
        <p:spPr>
          <a:xfrm>
            <a:off x="3790800" y="5257800"/>
            <a:ext cx="2114640" cy="68580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ffff"/>
                </a:solidFill>
                <a:latin typeface="Arial"/>
              </a:rPr>
              <a:t>MGLF - ND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Rectangle 17"/>
          <p:cNvSpPr/>
          <p:nvPr/>
        </p:nvSpPr>
        <p:spPr>
          <a:xfrm>
            <a:off x="6667560" y="5257800"/>
            <a:ext cx="2114640" cy="68580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ffff"/>
                </a:solidFill>
                <a:latin typeface="Arial"/>
              </a:rPr>
              <a:t>Residual Meter Volume &amp; Smear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37" name="Shape 18"/>
          <p:cNvCxnSpPr>
            <a:stCxn id="333" idx="3"/>
            <a:endCxn id="335" idx="0"/>
          </p:cNvCxnSpPr>
          <p:nvPr/>
        </p:nvCxnSpPr>
        <p:spPr>
          <a:xfrm>
            <a:off x="3619080" y="4800600"/>
            <a:ext cx="1229400" cy="457920"/>
          </a:xfrm>
          <a:prstGeom prst="bentConnector2">
            <a:avLst/>
          </a:prstGeom>
          <a:ln w="9360">
            <a:solidFill>
              <a:srgbClr val="00cc98"/>
            </a:solidFill>
            <a:miter/>
            <a:tailEnd len="med" type="arrow" w="med"/>
          </a:ln>
        </p:spPr>
      </p:cxnSp>
      <p:cxnSp>
        <p:nvCxnSpPr>
          <p:cNvPr id="338" name="Shape 19"/>
          <p:cNvCxnSpPr>
            <a:stCxn id="334" idx="3"/>
            <a:endCxn id="335" idx="2"/>
          </p:cNvCxnSpPr>
          <p:nvPr/>
        </p:nvCxnSpPr>
        <p:spPr>
          <a:xfrm flipV="1">
            <a:off x="3638520" y="5942880"/>
            <a:ext cx="1210320" cy="477000"/>
          </a:xfrm>
          <a:prstGeom prst="bentConnector2">
            <a:avLst/>
          </a:prstGeom>
          <a:ln w="9360">
            <a:solidFill>
              <a:srgbClr val="00cc98"/>
            </a:solidFill>
            <a:miter/>
            <a:tailEnd len="med" type="arrow" w="med"/>
          </a:ln>
        </p:spPr>
      </p:cxnSp>
      <p:cxnSp>
        <p:nvCxnSpPr>
          <p:cNvPr id="339" name="Elbow Connector 20"/>
          <p:cNvCxnSpPr>
            <a:stCxn id="335" idx="3"/>
            <a:endCxn id="336" idx="1"/>
          </p:cNvCxnSpPr>
          <p:nvPr/>
        </p:nvCxnSpPr>
        <p:spPr>
          <a:xfrm>
            <a:off x="5905080" y="5600880"/>
            <a:ext cx="762840" cy="2160"/>
          </a:xfrm>
          <a:prstGeom prst="bentConnector3">
            <a:avLst>
              <a:gd name="adj1" fmla="val 50000"/>
            </a:avLst>
          </a:prstGeom>
          <a:ln w="9360">
            <a:solidFill>
              <a:srgbClr val="00cc98"/>
            </a:solidFill>
            <a:miter/>
            <a:tailEnd len="med" type="arrow" w="med"/>
          </a:ln>
        </p:spPr>
      </p:cxnSp>
      <p:sp>
        <p:nvSpPr>
          <p:cNvPr id="340" name="Straight Connector 27"/>
          <p:cNvSpPr/>
          <p:nvPr/>
        </p:nvSpPr>
        <p:spPr>
          <a:xfrm>
            <a:off x="7562880" y="3067200"/>
            <a:ext cx="819000" cy="1440"/>
          </a:xfrm>
          <a:prstGeom prst="line">
            <a:avLst/>
          </a:prstGeom>
          <a:ln w="936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Straight Connector 29"/>
          <p:cNvSpPr/>
          <p:nvPr/>
        </p:nvSpPr>
        <p:spPr>
          <a:xfrm flipV="1">
            <a:off x="895320" y="4362480"/>
            <a:ext cx="7448760" cy="38160"/>
          </a:xfrm>
          <a:prstGeom prst="line">
            <a:avLst/>
          </a:prstGeom>
          <a:ln w="936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Straight Connector 31"/>
          <p:cNvSpPr/>
          <p:nvPr/>
        </p:nvSpPr>
        <p:spPr>
          <a:xfrm flipH="1">
            <a:off x="8344080" y="3067200"/>
            <a:ext cx="18720" cy="1295280"/>
          </a:xfrm>
          <a:prstGeom prst="line">
            <a:avLst/>
          </a:prstGeom>
          <a:ln w="936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Straight Connector 33"/>
          <p:cNvSpPr/>
          <p:nvPr/>
        </p:nvSpPr>
        <p:spPr>
          <a:xfrm>
            <a:off x="932760" y="4400640"/>
            <a:ext cx="19080" cy="2000160"/>
          </a:xfrm>
          <a:prstGeom prst="line">
            <a:avLst/>
          </a:prstGeom>
          <a:ln w="936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44" name="Straight Arrow Connector 35"/>
          <p:cNvCxnSpPr>
            <a:endCxn id="334" idx="1"/>
          </p:cNvCxnSpPr>
          <p:nvPr/>
        </p:nvCxnSpPr>
        <p:spPr>
          <a:xfrm>
            <a:off x="971640" y="6400440"/>
            <a:ext cx="552960" cy="19800"/>
          </a:xfrm>
          <a:prstGeom prst="straightConnector1">
            <a:avLst/>
          </a:prstGeom>
          <a:ln w="9360">
            <a:solidFill>
              <a:srgbClr val="00cc98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4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6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Slide Number Placeholder 4"/>
          <p:cNvSpPr/>
          <p:nvPr/>
        </p:nvSpPr>
        <p:spPr>
          <a:xfrm>
            <a:off x="3409920" y="6543720"/>
            <a:ext cx="17874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BFEFA-6DE5-43ED-95A3-3D5E323D059F}" type="slidenum">
              <a:rPr b="0" lang="en-GB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2819160" y="592200"/>
            <a:ext cx="6305400" cy="49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Global Aggregation - Recap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Text Box 4"/>
          <p:cNvSpPr/>
          <p:nvPr/>
        </p:nvSpPr>
        <p:spPr>
          <a:xfrm>
            <a:off x="0" y="1266840"/>
            <a:ext cx="9144000" cy="20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Allows for implementation in one jurisdiction ahead of the other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Implementation of Option E can therefore remove need for “interim solution” in ROI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Slide Number Placeholder 4"/>
          <p:cNvSpPr/>
          <p:nvPr/>
        </p:nvSpPr>
        <p:spPr>
          <a:xfrm>
            <a:off x="3409920" y="6543720"/>
            <a:ext cx="17874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304C3-0BFD-498C-8C76-9B32A6BD7688}" type="slidenum">
              <a:rPr b="0" lang="en-GB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819160" y="592200"/>
            <a:ext cx="6305400" cy="49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Global Aggregation - Recap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0" y="1266840"/>
            <a:ext cx="9144000" cy="98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Causes of imbalance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Picture 2" descr=""/>
          <p:cNvPicPr/>
          <p:nvPr/>
        </p:nvPicPr>
        <p:blipFill>
          <a:blip r:embed="rId1"/>
          <a:stretch/>
        </p:blipFill>
        <p:spPr>
          <a:xfrm>
            <a:off x="0" y="2409840"/>
            <a:ext cx="9144000" cy="32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Slide Number Placeholder 4"/>
          <p:cNvSpPr/>
          <p:nvPr/>
        </p:nvSpPr>
        <p:spPr>
          <a:xfrm>
            <a:off x="3409920" y="6543720"/>
            <a:ext cx="17874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DA7EE-F54A-4DF8-B927-3B4F261E6D05}" type="slidenum">
              <a:rPr b="0" lang="en-GB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819160" y="592200"/>
            <a:ext cx="6305400" cy="49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Global Aggregation - Recap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0" y="1266840"/>
            <a:ext cx="9144000" cy="98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Causes of imbalance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Picture 2" descr=""/>
          <p:cNvPicPr/>
          <p:nvPr/>
        </p:nvPicPr>
        <p:blipFill>
          <a:blip r:embed="rId1"/>
          <a:stretch/>
        </p:blipFill>
        <p:spPr>
          <a:xfrm>
            <a:off x="0" y="2467080"/>
            <a:ext cx="9144000" cy="31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Slide Number Placeholder 4"/>
          <p:cNvSpPr/>
          <p:nvPr/>
        </p:nvSpPr>
        <p:spPr>
          <a:xfrm>
            <a:off x="3409920" y="6543720"/>
            <a:ext cx="17874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EBFF6-8614-41FA-9527-5761AA687EAE}" type="slidenum">
              <a:rPr b="0" lang="en-GB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819160" y="592200"/>
            <a:ext cx="6305400" cy="49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Global Aggregation - Recap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 Box 4"/>
          <p:cNvSpPr/>
          <p:nvPr/>
        </p:nvSpPr>
        <p:spPr>
          <a:xfrm>
            <a:off x="0" y="1266840"/>
            <a:ext cx="9144000" cy="21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Causes of imbalance?</a:t>
            </a:r>
            <a:r>
              <a:rPr b="0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Incorrect profiles of non-interval meters considered chief contributor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Slide Number Placeholder 4"/>
          <p:cNvSpPr/>
          <p:nvPr/>
        </p:nvSpPr>
        <p:spPr>
          <a:xfrm>
            <a:off x="3409920" y="6543720"/>
            <a:ext cx="17874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F0A62-4A83-4355-B432-941859D2CE5E}" type="slidenum">
              <a:rPr b="0" lang="en-GB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819160" y="592200"/>
            <a:ext cx="6305400" cy="49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Global Aggregation - Recap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4"/>
          <p:cNvSpPr/>
          <p:nvPr/>
        </p:nvSpPr>
        <p:spPr>
          <a:xfrm>
            <a:off x="0" y="1266840"/>
            <a:ext cx="9144000" cy="98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Mod developed in conjunction with ESSG in NI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Text Box 4"/>
          <p:cNvSpPr/>
          <p:nvPr/>
        </p:nvSpPr>
        <p:spPr>
          <a:xfrm>
            <a:off x="0" y="2108160"/>
            <a:ext cx="9144000" cy="98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Not dependent on the ESSG, ESSG being designed as GA ready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ext Box 4"/>
          <p:cNvSpPr/>
          <p:nvPr/>
        </p:nvSpPr>
        <p:spPr>
          <a:xfrm>
            <a:off x="0" y="2935440"/>
            <a:ext cx="9144000" cy="98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ESSG timelines being followed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-7920" y="3770280"/>
            <a:ext cx="9144000" cy="98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Driver for change is retail requirements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0" y="4605480"/>
            <a:ext cx="9144000" cy="15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Issue included in CER/10/058, decision on Roadmap to Deregulation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Slide Number Placeholder 4"/>
          <p:cNvSpPr/>
          <p:nvPr/>
        </p:nvSpPr>
        <p:spPr>
          <a:xfrm>
            <a:off x="3409920" y="6543720"/>
            <a:ext cx="17874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B821D-D73D-4837-A926-A7CFDAF0FFB2}" type="slidenum">
              <a:rPr b="0" lang="en-GB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819160" y="592200"/>
            <a:ext cx="6305400" cy="49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Global Aggregation - Recap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0" y="1266840"/>
            <a:ext cx="9144000" cy="98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Mod 34.09 raised by ESB CS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4"/>
          <p:cNvSpPr/>
          <p:nvPr/>
        </p:nvSpPr>
        <p:spPr>
          <a:xfrm>
            <a:off x="-7920" y="2116080"/>
            <a:ext cx="9144000" cy="98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Mod proposes separation of SU into Interval SU and Non-Interval SU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0" y="2951280"/>
            <a:ext cx="9144000" cy="98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Raised at Mods Meeting 24 (29.09.09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Text Box 4"/>
          <p:cNvSpPr/>
          <p:nvPr/>
        </p:nvSpPr>
        <p:spPr>
          <a:xfrm>
            <a:off x="-7920" y="3828960"/>
            <a:ext cx="9144000" cy="98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Mods Panel recommended setting up Working Group to explore further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Text Box 4"/>
          <p:cNvSpPr/>
          <p:nvPr/>
        </p:nvSpPr>
        <p:spPr>
          <a:xfrm>
            <a:off x="0" y="4692600"/>
            <a:ext cx="9144000" cy="98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Terms of reference for Working Group circulated, Nov 2009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Slide Number Placeholder 4"/>
          <p:cNvSpPr/>
          <p:nvPr/>
        </p:nvSpPr>
        <p:spPr>
          <a:xfrm>
            <a:off x="3409920" y="6543720"/>
            <a:ext cx="17874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677C5-D05A-4E2F-9937-6C68074545D0}" type="slidenum">
              <a:rPr b="0" lang="en-GB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819160" y="592200"/>
            <a:ext cx="6305400" cy="49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Global Aggregation - Recap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0" y="1266840"/>
            <a:ext cx="9144000" cy="53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Working Group 1, held on 19</a:t>
            </a:r>
            <a:r>
              <a:rPr b="0" lang="en-US" sz="19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th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November 2009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Presentations &amp; Discussion –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SB CS suggested assigning ESU to non-competing Party under the Code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MO suggested simpler smear across all Supplier Units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DPs presented on impact on systems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greement that Global Aggregation required to ensure all Suppliers be treated equall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eed to assess the magnitude of the actual error in the ESU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lide Number Placeholder 4"/>
          <p:cNvSpPr/>
          <p:nvPr/>
        </p:nvSpPr>
        <p:spPr>
          <a:xfrm>
            <a:off x="3409920" y="6543720"/>
            <a:ext cx="17874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A82CC-CCDB-49EE-AF21-1AE461A9849F}" type="slidenum">
              <a:rPr b="0" lang="en-GB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819160" y="592200"/>
            <a:ext cx="6305400" cy="49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Global Aggregation - Recap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Text Box 4"/>
          <p:cNvSpPr/>
          <p:nvPr/>
        </p:nvSpPr>
        <p:spPr>
          <a:xfrm>
            <a:off x="0" y="1266840"/>
            <a:ext cx="9144000" cy="378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Working Group 1, held on 19</a:t>
            </a:r>
            <a:r>
              <a:rPr b="0" lang="en-US" sz="19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th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November 2009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Actions –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MO &amp; RA to meet to further develop options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SB CS &amp; NIE to provide estimation of erro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s Panel to decide if impact assessments should be sough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4T09:05:22Z</dcterms:created>
  <dc:creator>Brendan O'Sullivan</dc:creator>
  <dc:description/>
  <dc:language>en-US</dc:language>
  <cp:lastModifiedBy>Brendan O'Sullivan</cp:lastModifiedBy>
  <cp:lastPrinted>2002-07-25T14:31:52Z</cp:lastPrinted>
  <dcterms:modified xsi:type="dcterms:W3CDTF">2010-08-26T08:31:29Z</dcterms:modified>
  <cp:revision>661</cp:revision>
  <dc:subject>Mod 34_09 Recao</dc:subject>
  <dc:title>SEMO</dc:title>
</cp:coreProperties>
</file>