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5FD1-F4CD-4774-BA56-E0BC3EB256B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168B-DCEC-404E-A2A7-BCDF9E07358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DD5A-15D1-4FB3-8EDD-5E3DF06238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emo logo.jpg"/>
          <p:cNvPicPr/>
          <p:nvPr/>
        </p:nvPicPr>
        <p:blipFill>
          <a:blip r:embed="rId2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OD_37_10_v3: Option 2 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mproving the scheduling of Energy Limited Units by the LR algorith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195120" y="757080"/>
            <a:ext cx="87822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LR would schedule an Energy Limited Unit over interval is the following was negativ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Rectangle 3"/>
              <p:cNvSpPr txBox="1"/>
              <p:nvPr/>
            </p:nvSpPr>
            <p:spPr>
              <a:xfrm>
                <a:off x="1600200" y="3554280"/>
                <a:ext cx="60958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C</m:t>
                    </m:r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346040" y="1727280"/>
            <a:ext cx="3873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minimis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311560" y="3016080"/>
                <a:ext cx="37828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Rectangle 3"/>
              <p:cNvSpPr txBox="1"/>
              <p:nvPr/>
            </p:nvSpPr>
            <p:spPr>
              <a:xfrm>
                <a:off x="685800" y="1604880"/>
                <a:ext cx="4827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473120"/>
            <a:ext cx="3873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As               , the unit is scheduled wh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108240" y="3016080"/>
                <a:ext cx="2187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Rectangle 3"/>
              <p:cNvSpPr txBox="1"/>
              <p:nvPr/>
            </p:nvSpPr>
            <p:spPr>
              <a:xfrm>
                <a:off x="1430280" y="1560600"/>
                <a:ext cx="11383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Energy scheduled as a function 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smooth)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with constant inc cost (zer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053720" y="1960920"/>
            <a:ext cx="6312600" cy="3730680"/>
            <a:chOff x="1053720" y="1960920"/>
            <a:chExt cx="6312600" cy="3730680"/>
          </a:xfrm>
        </p:grpSpPr>
        <p:grpSp>
          <p:nvGrpSpPr>
            <p:cNvPr id="97" name=""/>
            <p:cNvGrpSpPr/>
            <p:nvPr/>
          </p:nvGrpSpPr>
          <p:grpSpPr>
            <a:xfrm>
              <a:off x="1053720" y="1960920"/>
              <a:ext cx="6312600" cy="3730680"/>
              <a:chOff x="1053720" y="1960920"/>
              <a:chExt cx="6312600" cy="3730680"/>
            </a:xfrm>
          </p:grpSpPr>
          <p:sp>
            <p:nvSpPr>
              <p:cNvPr id="98" name=""/>
              <p:cNvSpPr/>
              <p:nvPr/>
            </p:nvSpPr>
            <p:spPr>
              <a:xfrm>
                <a:off x="1056600" y="3912480"/>
                <a:ext cx="1294200" cy="64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Limit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27520" y="5044680"/>
                <a:ext cx="501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34120" y="5207400"/>
                <a:ext cx="1132200" cy="484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γ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53720" y="1960920"/>
                <a:ext cx="1132200" cy="64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∑</a:t>
                </a:r>
                <a:r>
                  <a:rPr b="0" lang="en-GB" sz="1200" spc="-1" strike="noStrike" baseline="-25000">
                    <a:solidFill>
                      <a:srgbClr val="000000"/>
                    </a:solidFill>
                    <a:latin typeface="Arial"/>
                  </a:rPr>
                  <a:t>t 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 g</a:t>
                </a:r>
                <a:r>
                  <a:rPr b="0" lang="en-GB" sz="12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027520" y="1971360"/>
                <a:ext cx="0" cy="30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027520" y="2618280"/>
                <a:ext cx="161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645720" y="2618280"/>
                <a:ext cx="720" cy="80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645720" y="3426840"/>
                <a:ext cx="48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31000" y="3426840"/>
                <a:ext cx="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131000" y="3750840"/>
                <a:ext cx="161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48840" y="3750840"/>
                <a:ext cx="0" cy="129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27520" y="4074840"/>
                <a:ext cx="452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85640" y="2253600"/>
            <a:ext cx="5803560" cy="3312360"/>
            <a:chOff x="1385640" y="2253600"/>
            <a:chExt cx="5803560" cy="3312360"/>
          </a:xfrm>
        </p:grpSpPr>
        <p:grpSp>
          <p:nvGrpSpPr>
            <p:cNvPr id="111" name=""/>
            <p:cNvGrpSpPr/>
            <p:nvPr/>
          </p:nvGrpSpPr>
          <p:grpSpPr>
            <a:xfrm>
              <a:off x="1385640" y="2253600"/>
              <a:ext cx="5803560" cy="3312360"/>
              <a:chOff x="1385640" y="2253600"/>
              <a:chExt cx="5803560" cy="3312360"/>
            </a:xfrm>
          </p:grpSpPr>
          <p:sp>
            <p:nvSpPr>
              <p:cNvPr id="112" name=""/>
              <p:cNvSpPr/>
              <p:nvPr/>
            </p:nvSpPr>
            <p:spPr>
              <a:xfrm>
                <a:off x="1385640" y="3981600"/>
                <a:ext cx="1190520" cy="57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960" rIns="7596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imit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78440" y="4989960"/>
                <a:ext cx="461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47720" y="5134680"/>
                <a:ext cx="1041480" cy="43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960" rIns="7596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γ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85640" y="2253600"/>
                <a:ext cx="1041480" cy="57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960" rIns="7596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∑</a:t>
                </a:r>
                <a:r>
                  <a:rPr b="0" lang="en-GB" sz="1000" spc="-1" strike="noStrike" baseline="-25000">
                    <a:solidFill>
                      <a:srgbClr val="000000"/>
                    </a:solidFill>
                    <a:latin typeface="Arial"/>
                  </a:rPr>
                  <a:t>t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 g</a:t>
                </a:r>
                <a:r>
                  <a:rPr b="0" lang="en-GB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78440" y="2253600"/>
                <a:ext cx="0" cy="27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78440" y="2829240"/>
                <a:ext cx="148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66680" y="2829240"/>
                <a:ext cx="74376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10800" y="3261600"/>
                <a:ext cx="59508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06240" y="3837960"/>
                <a:ext cx="1190160" cy="11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78440" y="4126320"/>
                <a:ext cx="416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2093760" y="473040"/>
            <a:ext cx="512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Energy scheduled as a function 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smooth) with increasing inc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4:53:01Z</dcterms:created>
  <dc:creator>Blandine Thiry</dc:creator>
  <dc:description/>
  <dc:language>en-US</dc:language>
  <cp:lastModifiedBy>sking</cp:lastModifiedBy>
  <cp:lastPrinted>2002-07-25T14:31:52Z</cp:lastPrinted>
  <dcterms:modified xsi:type="dcterms:W3CDTF">2011-03-09T16:57:17Z</dcterms:modified>
  <cp:revision>1204</cp:revision>
  <dc:subject/>
  <dc:title>WG6 Intra-Day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Modification Document</vt:lpwstr>
  </property>
  <property fmtid="{D5CDD505-2E9C-101B-9397-08002B2CF9AE}" pid="3" name="Copy Status">
    <vt:lpwstr/>
  </property>
  <property fmtid="{D5CDD505-2E9C-101B-9397-08002B2CF9AE}" pid="4" name="Copy to Website">
    <vt:lpwstr>1</vt:lpwstr>
  </property>
  <property fmtid="{D5CDD505-2E9C-101B-9397-08002B2CF9AE}" pid="5" name="Copy to Website Date">
    <vt:lpwstr>2010-10-29T14:45:00Z</vt:lpwstr>
  </property>
  <property fmtid="{D5CDD505-2E9C-101B-9397-08002B2CF9AE}" pid="6" name="Document Type">
    <vt:lpwstr>Slides</vt:lpwstr>
  </property>
  <property fmtid="{D5CDD505-2E9C-101B-9397-08002B2CF9AE}" pid="7" name="FromMMT">
    <vt:lpwstr>1</vt:lpwstr>
  </property>
  <property fmtid="{D5CDD505-2E9C-101B-9397-08002B2CF9AE}" pid="8" name="MMTID">
    <vt:lpwstr>881.000000000000</vt:lpwstr>
  </property>
  <property fmtid="{D5CDD505-2E9C-101B-9397-08002B2CF9AE}" pid="9" name="Mod ID">
    <vt:lpwstr>921</vt:lpwstr>
  </property>
  <property fmtid="{D5CDD505-2E9C-101B-9397-08002B2CF9AE}" pid="10" name="ModID">
    <vt:lpwstr>371</vt:lpwstr>
  </property>
  <property fmtid="{D5CDD505-2E9C-101B-9397-08002B2CF9AE}" pid="11" name="TemplateUrl">
    <vt:lpwstr/>
  </property>
  <property fmtid="{D5CDD505-2E9C-101B-9397-08002B2CF9AE}" pid="12" name="Year of Modification Proposal">
    <vt:lpwstr>2010</vt:lpwstr>
  </property>
  <property fmtid="{D5CDD505-2E9C-101B-9397-08002B2CF9AE}" pid="13" name="_CopySource">
    <vt:lpwstr>WG6 Intra-Day Slides.ppt</vt:lpwstr>
  </property>
  <property fmtid="{D5CDD505-2E9C-101B-9397-08002B2CF9AE}" pid="14" name="_SourceUrl">
    <vt:lpwstr/>
  </property>
  <property fmtid="{D5CDD505-2E9C-101B-9397-08002B2CF9AE}" pid="15" name="display_urn:schemas-microsoft-com:office:office#Author">
    <vt:lpwstr>System Account</vt:lpwstr>
  </property>
  <property fmtid="{D5CDD505-2E9C-101B-9397-08002B2CF9AE}" pid="16" name="display_urn:schemas-microsoft-com:office:office#Editor">
    <vt:lpwstr>System Account</vt:lpwstr>
  </property>
  <property fmtid="{D5CDD505-2E9C-101B-9397-08002B2CF9AE}" pid="17" name="xd_ProgID">
    <vt:lpwstr/>
  </property>
  <property fmtid="{D5CDD505-2E9C-101B-9397-08002B2CF9AE}" pid="18" name="xd_Signature">
    <vt:lpwstr/>
  </property>
</Properties>
</file>