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33E0-31FC-4966-B1DC-C01134A010C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C00F-C72D-4EAD-90E7-AA5C6F6CFFA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AB9-585C-42AE-BCF3-B2AFD4AAAB7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48D3-94FE-4F98-A8FE-62E476727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E575-896F-4010-9BB9-2A681ECF5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2659-2513-42E7-8B00-38A8A5EE8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1356-E762-46DF-92EF-6C149665F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45ADA-ECA1-4B06-B18E-B07F56E9B9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6F4B2-8350-4941-B25B-6E01662DF2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285DC-E4DE-4D86-8917-7067A23997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148EA-04FA-4663-BF4E-BB0A25759C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B0002-402D-42D6-AA1F-BC48918E51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D839C-755F-4230-B39C-06F2C4237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DA02A-E8A9-43FF-829C-A0DD5BEF9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3383-64B9-4731-A6D4-7C9A1C8C3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894D7-7797-4216-913C-93C8ADB240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5A854-50F1-41FC-AFC2-C427A1AAE7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F476E-7544-4BD6-8E9A-D7A721033D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F0B7B-8FBC-4477-85D7-16C699ADAB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70B65-401B-4F9B-BE40-23E8819D96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A0D1-6D93-4E48-B331-B77FED858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8251-FFF3-4907-BA1C-D18CE801F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B0FA-4C46-42C4-A81B-A2F885184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F183-68C4-47B9-BE35-4186E54F8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A520-D5FA-4AEE-9F8E-9BE384B46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A8DF-79C8-4193-9E51-4C136AD8A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860B-6C50-43DD-8562-D694C598C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101A-A990-4EF3-8D89-0CDF318471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385B-BB22-42E6-BEA2-47D8DE633D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E325-9C40-436F-B533-690D8DD51D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12_09 vs Mod_45_09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Loss adjustment of Commercial Offer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7D9E-1201-4F36-BD0D-E79AE008EF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12_09 vs Mod_45_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d_12_09 (Option 1) arises out of a General Direction made by the SEMC in Dec 2008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BPG put forward Option 2 as an alterna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orking Group considered Option 1 and Option 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utcome of Working Group was that both options needed to be considered further through worked exampl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provided a worked example of Options 1 &amp; 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d_45_09 (Option 2+) put forward by ESBPG that arrives at same outcome as Option 2 but through simpler changes to the algebr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obtained a high level impact assessment from the vendor on Options 1, Option 2 and Option 2+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oth Modifications address the issue of Uplift being set based on MSQ whereas Generator Units are settled on MSQLF, which can be &lt; MSQ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12_09 vs Mod_45_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12_09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enerators incorporate loss factors in Start-Up, No-Load &amp; Incremen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nit Commitment, Economic Dispatch &amp; SMP(Uplift) calculations all use the same costs as submitted in C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straint and Make Whole Payment calculations are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45_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enerators incorporate loss factors in Incremental Costs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nit Commitment &amp; Economic Dispatch use costs as submitted in C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art Up and No Load are adjusted to incorporate loss factors in the Cost of Running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MP(Uplift) calculation uses cost calculated in the Cost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Potentially different Schedules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12_09: Gen B, Mod_45_09: Gen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1"/>
          <a:stretch/>
        </p:blipFill>
        <p:spPr>
          <a:xfrm>
            <a:off x="685800" y="1473120"/>
            <a:ext cx="78994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High Level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These costs are indicative onl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12_09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MS changes: Low (&lt; €37,0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ther: Generators would have to change their COD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45_09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MS changes: Med (&gt;€37,000 and &lt;€92,5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ther: Re-certification of MSP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If you believe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duction Costs (in Unit Commitment) and Cost of Running (in SMP(Uplift) calculation) should b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ss factors should be included in Start Up, No Load and Incremental Cost components of COD as this is the cost that is reflected in the S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ick Mod_12_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If you believe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duction Costs (as considered by the Unit Commitment) and Cost of Running (as considered by the SMP(Uplift) calculation) can be differen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ss factors should only be included in the Incremental Cost component of COD as they are only incurred on that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ick Mod_45_0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odhagan Downey</cp:lastModifiedBy>
  <cp:lastPrinted>2002-07-25T14:31:52Z</cp:lastPrinted>
  <dcterms:modified xsi:type="dcterms:W3CDTF">2009-12-02T16:53:32Z</dcterms:modified>
  <cp:revision>759</cp:revision>
  <dc:subject/>
  <dc:title>Training Presentation BLG 190706</dc:title>
</cp:coreProperties>
</file>